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1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800" y="600120"/>
            <a:ext cx="86025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800" y="4587120"/>
            <a:ext cx="86025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800" y="600120"/>
            <a:ext cx="86025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80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00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800" y="600120"/>
            <a:ext cx="86025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40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80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40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800" y="600120"/>
            <a:ext cx="86025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25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800" y="600120"/>
            <a:ext cx="86025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800" y="600120"/>
            <a:ext cx="86025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800" y="600120"/>
            <a:ext cx="86025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800" y="600120"/>
            <a:ext cx="860256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800" y="600120"/>
            <a:ext cx="86025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80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800" y="600120"/>
            <a:ext cx="86025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00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800" y="600120"/>
            <a:ext cx="86025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800" y="4587120"/>
            <a:ext cx="86025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800" y="600120"/>
            <a:ext cx="860256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101680"/>
            <a:ext cx="86025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19280" y="360360"/>
            <a:ext cx="694512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だい </a:t>
            </a:r>
            <a:r>
              <a:rPr b="0" lang="fr-FR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14 </a:t>
            </a: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2700360" y="1979640"/>
            <a:ext cx="4219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9899640" y="5580000"/>
            <a:ext cx="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" name=""/>
          <p:cNvSpPr/>
          <p:nvPr/>
        </p:nvSpPr>
        <p:spPr>
          <a:xfrm>
            <a:off x="1800360" y="4032360"/>
            <a:ext cx="467496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〜ましょうか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て け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〜てくださ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〜てい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よみかた・かきかた </a:t>
            </a: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85720" y="2222640"/>
            <a:ext cx="2038320" cy="6551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475240" y="1974960"/>
            <a:ext cx="2362320" cy="5451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35720" y="2489040"/>
            <a:ext cx="1919160" cy="2124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1922400" y="3269880"/>
            <a:ext cx="4784760" cy="8110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0" name=""/>
          <p:cNvSpPr/>
          <p:nvPr/>
        </p:nvSpPr>
        <p:spPr>
          <a:xfrm>
            <a:off x="2232000" y="4276800"/>
            <a:ext cx="7234200" cy="1593720"/>
          </a:xfrm>
          <a:prstGeom prst="roundRect">
            <a:avLst>
              <a:gd name="adj" fmla="val 1125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mikachan"/>
                <a:ea typeface="mikachan"/>
              </a:rPr>
              <a:t>いいえ、</a:t>
            </a:r>
            <a:r>
              <a:rPr b="0" lang="ja-JP" sz="4400" spc="-1" strike="noStrike">
                <a:solidFill>
                  <a:srgbClr val="ff0000"/>
                </a:solidFill>
                <a:latin typeface="mikachan"/>
                <a:ea typeface="mikachan"/>
              </a:rPr>
              <a:t>けっこう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mikachan"/>
                <a:ea typeface="mikachan"/>
              </a:rPr>
              <a:t>おもくないですから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335480" y="0"/>
            <a:ext cx="6356160" cy="3984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556320" y="325440"/>
            <a:ext cx="3038400" cy="5896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2160" y="3868560"/>
            <a:ext cx="3730680" cy="4151520"/>
          </a:xfrm>
          <a:custGeom>
            <a:avLst/>
            <a:gdLst>
              <a:gd name="textAreaLeft" fmla="*/ 360 w 3730680"/>
              <a:gd name="textAreaRight" fmla="*/ 3730320 w 3730680"/>
              <a:gd name="textAreaTop" fmla="*/ 360 h 4151520"/>
              <a:gd name="textAreaBottom" fmla="*/ 4151160 h 4151520"/>
            </a:gdLst>
            <a:ahLst/>
            <a:rect l="textAreaLeft" t="textAreaTop" r="textAreaRight" b="textAreaBottom"/>
            <a:pathLst>
              <a:path w="21600" h="24036">
                <a:moveTo>
                  <a:pt x="9" y="0"/>
                </a:moveTo>
                <a:arcTo wR="9" hR="9" stAng="16200000" swAng="-5400000"/>
                <a:lnTo>
                  <a:pt x="0" y="24027"/>
                </a:lnTo>
                <a:arcTo wR="9" hR="9" stAng="10800000" swAng="-5400000"/>
                <a:lnTo>
                  <a:pt x="21591" y="24036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62360" y="441648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807000" y="311004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47680" y="1981080"/>
            <a:ext cx="3486240" cy="7382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660760" y="5562720"/>
            <a:ext cx="3743280" cy="3352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V="1">
            <a:off x="2824200" y="4300200"/>
            <a:ext cx="1690560" cy="2271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9" name=""/>
          <p:cNvSpPr/>
          <p:nvPr/>
        </p:nvSpPr>
        <p:spPr>
          <a:xfrm>
            <a:off x="3227400" y="1690560"/>
            <a:ext cx="1011240" cy="992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0" name=""/>
          <p:cNvSpPr/>
          <p:nvPr/>
        </p:nvSpPr>
        <p:spPr>
          <a:xfrm>
            <a:off x="2449440" y="2235240"/>
            <a:ext cx="544680" cy="544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1" name=""/>
          <p:cNvSpPr/>
          <p:nvPr/>
        </p:nvSpPr>
        <p:spPr>
          <a:xfrm>
            <a:off x="349200" y="426960"/>
            <a:ext cx="6745320" cy="1146240"/>
          </a:xfrm>
          <a:prstGeom prst="roundRect">
            <a:avLst>
              <a:gd name="adj" fmla="val 13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335480" y="0"/>
            <a:ext cx="6356160" cy="3984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556320" y="325440"/>
            <a:ext cx="3038400" cy="5896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42160" y="3868560"/>
            <a:ext cx="3730680" cy="4151520"/>
          </a:xfrm>
          <a:custGeom>
            <a:avLst/>
            <a:gdLst>
              <a:gd name="textAreaLeft" fmla="*/ 360 w 3730680"/>
              <a:gd name="textAreaRight" fmla="*/ 3730320 w 3730680"/>
              <a:gd name="textAreaTop" fmla="*/ 360 h 4151520"/>
              <a:gd name="textAreaBottom" fmla="*/ 4151160 h 4151520"/>
            </a:gdLst>
            <a:ahLst/>
            <a:rect l="textAreaLeft" t="textAreaTop" r="textAreaRight" b="textAreaBottom"/>
            <a:pathLst>
              <a:path w="21600" h="24036">
                <a:moveTo>
                  <a:pt x="9" y="0"/>
                </a:moveTo>
                <a:arcTo wR="9" hR="9" stAng="16200000" swAng="-5400000"/>
                <a:lnTo>
                  <a:pt x="0" y="24027"/>
                </a:lnTo>
                <a:arcTo wR="9" hR="9" stAng="10800000" swAng="-5400000"/>
                <a:lnTo>
                  <a:pt x="21591" y="24036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62360" y="441648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807000" y="311004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47680" y="1981080"/>
            <a:ext cx="3486240" cy="7382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660760" y="5562720"/>
            <a:ext cx="3743280" cy="3352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V="1">
            <a:off x="2824200" y="4300200"/>
            <a:ext cx="1690560" cy="2271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0" name=""/>
          <p:cNvSpPr/>
          <p:nvPr/>
        </p:nvSpPr>
        <p:spPr>
          <a:xfrm>
            <a:off x="3227400" y="1690560"/>
            <a:ext cx="1011240" cy="992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1" name=""/>
          <p:cNvSpPr/>
          <p:nvPr/>
        </p:nvSpPr>
        <p:spPr>
          <a:xfrm>
            <a:off x="2449440" y="2235240"/>
            <a:ext cx="544680" cy="544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2" name=""/>
          <p:cNvSpPr/>
          <p:nvPr/>
        </p:nvSpPr>
        <p:spPr>
          <a:xfrm>
            <a:off x="349200" y="426960"/>
            <a:ext cx="6745320" cy="1146240"/>
          </a:xfrm>
          <a:prstGeom prst="roundRect">
            <a:avLst>
              <a:gd name="adj" fmla="val 13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3" name=""/>
          <p:cNvSpPr/>
          <p:nvPr/>
        </p:nvSpPr>
        <p:spPr>
          <a:xfrm>
            <a:off x="1030320" y="60336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 u="sng">
                <a:solidFill>
                  <a:srgbClr val="000000"/>
                </a:solidFill>
                <a:uFillTx/>
                <a:latin typeface="Y.OzN_'04"/>
                <a:ea typeface="Y.OzN_'04"/>
              </a:rPr>
              <a:t>よんで</a:t>
            </a:r>
            <a:r>
              <a:rPr b="0" lang="ja-JP" sz="5400" spc="-1" strike="noStrike">
                <a:solidFill>
                  <a:srgbClr val="ff0000"/>
                </a:solidFill>
                <a:latin typeface="Y.OzN_'04"/>
                <a:ea typeface="Y.OzN_'04"/>
              </a:rPr>
              <a:t>ください。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809720" y="4948200"/>
            <a:ext cx="145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5" name=""/>
          <p:cNvSpPr/>
          <p:nvPr/>
        </p:nvSpPr>
        <p:spPr>
          <a:xfrm>
            <a:off x="652320" y="1336680"/>
            <a:ext cx="2152800" cy="2290680"/>
          </a:xfrm>
          <a:custGeom>
            <a:avLst/>
            <a:gdLst>
              <a:gd name="textAreaLeft" fmla="*/ 360 w 2152800"/>
              <a:gd name="textAreaRight" fmla="*/ 2152440 w 2152800"/>
              <a:gd name="textAreaTop" fmla="*/ 360 h 2290680"/>
              <a:gd name="textAreaBottom" fmla="*/ 2290320 h 2290680"/>
            </a:gdLst>
            <a:ahLst/>
            <a:rect l="textAreaLeft" t="textAreaTop" r="textAreaRight" b="textAreaBottom"/>
            <a:pathLst>
              <a:path w="21600" h="22983">
                <a:moveTo>
                  <a:pt x="15" y="0"/>
                </a:moveTo>
                <a:arcTo wR="15" hR="15" stAng="16200000" swAng="-5400000"/>
                <a:lnTo>
                  <a:pt x="0" y="22968"/>
                </a:lnTo>
                <a:arcTo wR="15" hR="15" stAng="10800000" swAng="-5400000"/>
                <a:lnTo>
                  <a:pt x="21585" y="2298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6" name=""/>
          <p:cNvSpPr/>
          <p:nvPr/>
        </p:nvSpPr>
        <p:spPr>
          <a:xfrm>
            <a:off x="1565280" y="1465200"/>
            <a:ext cx="9669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あ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7" name=""/>
          <p:cNvSpPr/>
          <p:nvPr/>
        </p:nvSpPr>
        <p:spPr>
          <a:xfrm>
            <a:off x="2905200" y="2181240"/>
            <a:ext cx="145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8" name=""/>
          <p:cNvSpPr/>
          <p:nvPr/>
        </p:nvSpPr>
        <p:spPr>
          <a:xfrm>
            <a:off x="4567320" y="299880"/>
            <a:ext cx="3392280" cy="96552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GR1(1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グループ</a:t>
            </a:r>
            <a:r>
              <a:rPr b="0" lang="fr-FR" sz="36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9" name=""/>
          <p:cNvSpPr/>
          <p:nvPr/>
        </p:nvSpPr>
        <p:spPr>
          <a:xfrm>
            <a:off x="247680" y="195120"/>
            <a:ext cx="4017960" cy="1082880"/>
          </a:xfrm>
          <a:prstGeom prst="roundRect">
            <a:avLst>
              <a:gd name="adj" fmla="val 144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29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.OzN_'04"/>
              </a:rPr>
              <a:t>て けい</a:t>
            </a:r>
            <a:r>
              <a:rPr b="0" lang="fr-FR" sz="36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(forme)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0" name=""/>
          <p:cNvSpPr/>
          <p:nvPr/>
        </p:nvSpPr>
        <p:spPr>
          <a:xfrm>
            <a:off x="1552680" y="2077920"/>
            <a:ext cx="966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ま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ち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1" name=""/>
          <p:cNvSpPr/>
          <p:nvPr/>
        </p:nvSpPr>
        <p:spPr>
          <a:xfrm>
            <a:off x="966960" y="2743200"/>
            <a:ext cx="14493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かえ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2" name=""/>
          <p:cNvSpPr/>
          <p:nvPr/>
        </p:nvSpPr>
        <p:spPr>
          <a:xfrm>
            <a:off x="4879800" y="1363680"/>
            <a:ext cx="2152800" cy="2290680"/>
          </a:xfrm>
          <a:custGeom>
            <a:avLst/>
            <a:gdLst>
              <a:gd name="textAreaLeft" fmla="*/ 360 w 2152800"/>
              <a:gd name="textAreaRight" fmla="*/ 2152440 w 2152800"/>
              <a:gd name="textAreaTop" fmla="*/ 360 h 2290680"/>
              <a:gd name="textAreaBottom" fmla="*/ 2290320 h 2290680"/>
            </a:gdLst>
            <a:ahLst/>
            <a:rect l="textAreaLeft" t="textAreaTop" r="textAreaRight" b="textAreaBottom"/>
            <a:pathLst>
              <a:path w="21600" h="22983">
                <a:moveTo>
                  <a:pt x="15" y="0"/>
                </a:moveTo>
                <a:arcTo wR="15" hR="15" stAng="16200000" swAng="-5400000"/>
                <a:lnTo>
                  <a:pt x="0" y="22968"/>
                </a:lnTo>
                <a:arcTo wR="15" hR="15" stAng="10800000" swAng="-5400000"/>
                <a:lnTo>
                  <a:pt x="21585" y="2298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3" name=""/>
          <p:cNvSpPr/>
          <p:nvPr/>
        </p:nvSpPr>
        <p:spPr>
          <a:xfrm>
            <a:off x="5792760" y="1490760"/>
            <a:ext cx="96696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し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4" name=""/>
          <p:cNvSpPr/>
          <p:nvPr/>
        </p:nvSpPr>
        <p:spPr>
          <a:xfrm>
            <a:off x="7132680" y="2208240"/>
            <a:ext cx="145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5" name=""/>
          <p:cNvSpPr/>
          <p:nvPr/>
        </p:nvSpPr>
        <p:spPr>
          <a:xfrm>
            <a:off x="5780160" y="2104920"/>
            <a:ext cx="966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よ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び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6" name=""/>
          <p:cNvSpPr/>
          <p:nvPr/>
        </p:nvSpPr>
        <p:spPr>
          <a:xfrm>
            <a:off x="5819760" y="2797200"/>
            <a:ext cx="9669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の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み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4684680"/>
            <a:ext cx="1565280" cy="11350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4935600"/>
            <a:ext cx="172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か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き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9" name=""/>
          <p:cNvSpPr/>
          <p:nvPr/>
        </p:nvSpPr>
        <p:spPr>
          <a:xfrm>
            <a:off x="5450040" y="5040360"/>
            <a:ext cx="14522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0" name=""/>
          <p:cNvSpPr/>
          <p:nvPr/>
        </p:nvSpPr>
        <p:spPr>
          <a:xfrm>
            <a:off x="3236760" y="4697280"/>
            <a:ext cx="2152800" cy="11350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1" name=""/>
          <p:cNvSpPr/>
          <p:nvPr/>
        </p:nvSpPr>
        <p:spPr>
          <a:xfrm>
            <a:off x="3549600" y="4950000"/>
            <a:ext cx="17226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いそ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ぎ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2" name=""/>
          <p:cNvSpPr/>
          <p:nvPr/>
        </p:nvSpPr>
        <p:spPr>
          <a:xfrm>
            <a:off x="6929280" y="4762440"/>
            <a:ext cx="1565280" cy="11350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3" name=""/>
          <p:cNvSpPr/>
          <p:nvPr/>
        </p:nvSpPr>
        <p:spPr>
          <a:xfrm>
            <a:off x="7242120" y="5014800"/>
            <a:ext cx="172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か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し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4" name=""/>
          <p:cNvSpPr/>
          <p:nvPr/>
        </p:nvSpPr>
        <p:spPr>
          <a:xfrm>
            <a:off x="8467560" y="5060880"/>
            <a:ext cx="145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3333"/>
                                      </p:to>
                                    </p:animClr>
                                    <p:set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3333"/>
                                      </p:to>
                                    </p:animClr>
                                    <p:set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3333"/>
                                      </p:to>
                                    </p:animClr>
                                    <p:set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3333"/>
                                      </p:to>
                                    </p:animClr>
                                    <p:set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809720" y="4948200"/>
            <a:ext cx="145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6" name=""/>
          <p:cNvSpPr/>
          <p:nvPr/>
        </p:nvSpPr>
        <p:spPr>
          <a:xfrm>
            <a:off x="652320" y="1336680"/>
            <a:ext cx="2152800" cy="2290680"/>
          </a:xfrm>
          <a:custGeom>
            <a:avLst/>
            <a:gdLst>
              <a:gd name="textAreaLeft" fmla="*/ 360 w 2152800"/>
              <a:gd name="textAreaRight" fmla="*/ 2152440 w 2152800"/>
              <a:gd name="textAreaTop" fmla="*/ 360 h 2290680"/>
              <a:gd name="textAreaBottom" fmla="*/ 2290320 h 2290680"/>
            </a:gdLst>
            <a:ahLst/>
            <a:rect l="textAreaLeft" t="textAreaTop" r="textAreaRight" b="textAreaBottom"/>
            <a:pathLst>
              <a:path w="21600" h="22983">
                <a:moveTo>
                  <a:pt x="15" y="0"/>
                </a:moveTo>
                <a:arcTo wR="15" hR="15" stAng="16200000" swAng="-5400000"/>
                <a:lnTo>
                  <a:pt x="0" y="22968"/>
                </a:lnTo>
                <a:arcTo wR="15" hR="15" stAng="10800000" swAng="-5400000"/>
                <a:lnTo>
                  <a:pt x="21585" y="2298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7" name=""/>
          <p:cNvSpPr/>
          <p:nvPr/>
        </p:nvSpPr>
        <p:spPr>
          <a:xfrm>
            <a:off x="1565280" y="1465200"/>
            <a:ext cx="9669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あ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8" name=""/>
          <p:cNvSpPr/>
          <p:nvPr/>
        </p:nvSpPr>
        <p:spPr>
          <a:xfrm>
            <a:off x="2905200" y="2181240"/>
            <a:ext cx="145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9" name=""/>
          <p:cNvSpPr/>
          <p:nvPr/>
        </p:nvSpPr>
        <p:spPr>
          <a:xfrm>
            <a:off x="1422360" y="3792600"/>
            <a:ext cx="259236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いちり</a:t>
            </a:r>
            <a:r>
              <a:rPr b="0" lang="fr-FR" sz="2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  → っ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0" name=""/>
          <p:cNvSpPr/>
          <p:nvPr/>
        </p:nvSpPr>
        <p:spPr>
          <a:xfrm>
            <a:off x="4567320" y="299880"/>
            <a:ext cx="3392280" cy="96552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GR1(1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グループ</a:t>
            </a:r>
            <a:r>
              <a:rPr b="0" lang="fr-FR" sz="36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1" name=""/>
          <p:cNvSpPr/>
          <p:nvPr/>
        </p:nvSpPr>
        <p:spPr>
          <a:xfrm>
            <a:off x="247680" y="195120"/>
            <a:ext cx="4017960" cy="1082880"/>
          </a:xfrm>
          <a:prstGeom prst="roundRect">
            <a:avLst>
              <a:gd name="adj" fmla="val 144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29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.OzN_'04"/>
              </a:rPr>
              <a:t>て けい</a:t>
            </a:r>
            <a:r>
              <a:rPr b="0" lang="fr-FR" sz="36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(forme)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2" name=""/>
          <p:cNvSpPr/>
          <p:nvPr/>
        </p:nvSpPr>
        <p:spPr>
          <a:xfrm>
            <a:off x="1552680" y="2077920"/>
            <a:ext cx="966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ま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ち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3" name=""/>
          <p:cNvSpPr/>
          <p:nvPr/>
        </p:nvSpPr>
        <p:spPr>
          <a:xfrm>
            <a:off x="966960" y="2743200"/>
            <a:ext cx="14493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かえ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4" name=""/>
          <p:cNvSpPr/>
          <p:nvPr/>
        </p:nvSpPr>
        <p:spPr>
          <a:xfrm>
            <a:off x="2165400" y="1357200"/>
            <a:ext cx="1917720" cy="2230560"/>
          </a:xfrm>
          <a:custGeom>
            <a:avLst/>
            <a:gdLst>
              <a:gd name="textAreaLeft" fmla="*/ 360 w 1917720"/>
              <a:gd name="textAreaRight" fmla="*/ 1917360 w 1917720"/>
              <a:gd name="textAreaTop" fmla="*/ 360 h 2230560"/>
              <a:gd name="textAreaBottom" fmla="*/ 2230200 h 2230560"/>
            </a:gdLst>
            <a:ahLst/>
            <a:rect l="textAreaLeft" t="textAreaTop" r="textAreaRight" b="textAreaBottom"/>
            <a:pathLst>
              <a:path w="21600" h="25123">
                <a:moveTo>
                  <a:pt x="17" y="0"/>
                </a:moveTo>
                <a:arcTo wR="17" hR="17" stAng="16200000" swAng="-5400000"/>
                <a:lnTo>
                  <a:pt x="0" y="25106"/>
                </a:lnTo>
                <a:arcTo wR="17" hR="17" stAng="10800000" swAng="-5400000"/>
                <a:lnTo>
                  <a:pt x="21583" y="25123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って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5" name=""/>
          <p:cNvSpPr/>
          <p:nvPr/>
        </p:nvSpPr>
        <p:spPr>
          <a:xfrm>
            <a:off x="4879800" y="1363680"/>
            <a:ext cx="2152800" cy="2290680"/>
          </a:xfrm>
          <a:custGeom>
            <a:avLst/>
            <a:gdLst>
              <a:gd name="textAreaLeft" fmla="*/ 360 w 2152800"/>
              <a:gd name="textAreaRight" fmla="*/ 2152440 w 2152800"/>
              <a:gd name="textAreaTop" fmla="*/ 360 h 2290680"/>
              <a:gd name="textAreaBottom" fmla="*/ 2290320 h 2290680"/>
            </a:gdLst>
            <a:ahLst/>
            <a:rect l="textAreaLeft" t="textAreaTop" r="textAreaRight" b="textAreaBottom"/>
            <a:pathLst>
              <a:path w="21600" h="22983">
                <a:moveTo>
                  <a:pt x="15" y="0"/>
                </a:moveTo>
                <a:arcTo wR="15" hR="15" stAng="16200000" swAng="-5400000"/>
                <a:lnTo>
                  <a:pt x="0" y="22968"/>
                </a:lnTo>
                <a:arcTo wR="15" hR="15" stAng="10800000" swAng="-5400000"/>
                <a:lnTo>
                  <a:pt x="21585" y="2298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6" name=""/>
          <p:cNvSpPr/>
          <p:nvPr/>
        </p:nvSpPr>
        <p:spPr>
          <a:xfrm>
            <a:off x="5792760" y="1490760"/>
            <a:ext cx="96696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し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7" name=""/>
          <p:cNvSpPr/>
          <p:nvPr/>
        </p:nvSpPr>
        <p:spPr>
          <a:xfrm>
            <a:off x="7132680" y="2208240"/>
            <a:ext cx="145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3819600"/>
            <a:ext cx="259236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にびみ</a:t>
            </a:r>
            <a:r>
              <a:rPr b="0" lang="fr-FR" sz="2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  → んで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9" name=""/>
          <p:cNvSpPr/>
          <p:nvPr/>
        </p:nvSpPr>
        <p:spPr>
          <a:xfrm>
            <a:off x="5780160" y="2104920"/>
            <a:ext cx="966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よ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び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0" name=""/>
          <p:cNvSpPr/>
          <p:nvPr/>
        </p:nvSpPr>
        <p:spPr>
          <a:xfrm>
            <a:off x="5819760" y="2797200"/>
            <a:ext cx="9669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の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み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1" name=""/>
          <p:cNvSpPr/>
          <p:nvPr/>
        </p:nvSpPr>
        <p:spPr>
          <a:xfrm>
            <a:off x="6392880" y="1384200"/>
            <a:ext cx="1917720" cy="2230560"/>
          </a:xfrm>
          <a:custGeom>
            <a:avLst/>
            <a:gdLst>
              <a:gd name="textAreaLeft" fmla="*/ 360 w 1917720"/>
              <a:gd name="textAreaRight" fmla="*/ 1917360 w 1917720"/>
              <a:gd name="textAreaTop" fmla="*/ 360 h 2230560"/>
              <a:gd name="textAreaBottom" fmla="*/ 2230200 h 2230560"/>
            </a:gdLst>
            <a:ahLst/>
            <a:rect l="textAreaLeft" t="textAreaTop" r="textAreaRight" b="textAreaBottom"/>
            <a:pathLst>
              <a:path w="21600" h="25123">
                <a:moveTo>
                  <a:pt x="17" y="0"/>
                </a:moveTo>
                <a:arcTo wR="17" hR="17" stAng="16200000" swAng="-5400000"/>
                <a:lnTo>
                  <a:pt x="0" y="25106"/>
                </a:lnTo>
                <a:arcTo wR="17" hR="17" stAng="10800000" swAng="-5400000"/>
                <a:lnTo>
                  <a:pt x="21583" y="25123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んで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2" name=""/>
          <p:cNvSpPr/>
          <p:nvPr/>
        </p:nvSpPr>
        <p:spPr>
          <a:xfrm>
            <a:off x="144360" y="4684680"/>
            <a:ext cx="1565280" cy="11350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3" name=""/>
          <p:cNvSpPr/>
          <p:nvPr/>
        </p:nvSpPr>
        <p:spPr>
          <a:xfrm>
            <a:off x="444600" y="5867280"/>
            <a:ext cx="259236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き</a:t>
            </a:r>
            <a:r>
              <a:rPr b="0" lang="fr-FR" sz="2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  → い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4935600"/>
            <a:ext cx="172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か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き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5" name=""/>
          <p:cNvSpPr/>
          <p:nvPr/>
        </p:nvSpPr>
        <p:spPr>
          <a:xfrm>
            <a:off x="1096920" y="4737240"/>
            <a:ext cx="1917720" cy="1056960"/>
          </a:xfrm>
          <a:prstGeom prst="roundRect">
            <a:avLst>
              <a:gd name="adj" fmla="val 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いて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6" name=""/>
          <p:cNvSpPr/>
          <p:nvPr/>
        </p:nvSpPr>
        <p:spPr>
          <a:xfrm>
            <a:off x="5450040" y="5040360"/>
            <a:ext cx="14522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7" name=""/>
          <p:cNvSpPr/>
          <p:nvPr/>
        </p:nvSpPr>
        <p:spPr>
          <a:xfrm>
            <a:off x="3236760" y="4697280"/>
            <a:ext cx="2152800" cy="11350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8" name=""/>
          <p:cNvSpPr/>
          <p:nvPr/>
        </p:nvSpPr>
        <p:spPr>
          <a:xfrm>
            <a:off x="4006800" y="5997600"/>
            <a:ext cx="259236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ぎ</a:t>
            </a:r>
            <a:r>
              <a:rPr b="0" lang="fr-FR" sz="2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  → いで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9" name=""/>
          <p:cNvSpPr/>
          <p:nvPr/>
        </p:nvSpPr>
        <p:spPr>
          <a:xfrm>
            <a:off x="3549600" y="4950000"/>
            <a:ext cx="17226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いそ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ぎ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0" name=""/>
          <p:cNvSpPr/>
          <p:nvPr/>
        </p:nvSpPr>
        <p:spPr>
          <a:xfrm>
            <a:off x="4689360" y="4757760"/>
            <a:ext cx="1917720" cy="1057320"/>
          </a:xfrm>
          <a:prstGeom prst="roundRect">
            <a:avLst>
              <a:gd name="adj" fmla="val 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いで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1" name=""/>
          <p:cNvSpPr/>
          <p:nvPr/>
        </p:nvSpPr>
        <p:spPr>
          <a:xfrm>
            <a:off x="6929280" y="4762440"/>
            <a:ext cx="1565280" cy="11350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2" name=""/>
          <p:cNvSpPr/>
          <p:nvPr/>
        </p:nvSpPr>
        <p:spPr>
          <a:xfrm>
            <a:off x="7229520" y="5945040"/>
            <a:ext cx="259236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し</a:t>
            </a:r>
            <a:r>
              <a:rPr b="0" lang="fr-FR" sz="2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  → し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3" name=""/>
          <p:cNvSpPr/>
          <p:nvPr/>
        </p:nvSpPr>
        <p:spPr>
          <a:xfrm>
            <a:off x="7242120" y="5014800"/>
            <a:ext cx="172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か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し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4" name=""/>
          <p:cNvSpPr/>
          <p:nvPr/>
        </p:nvSpPr>
        <p:spPr>
          <a:xfrm>
            <a:off x="8467560" y="5060880"/>
            <a:ext cx="145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5" name=""/>
          <p:cNvSpPr/>
          <p:nvPr/>
        </p:nvSpPr>
        <p:spPr>
          <a:xfrm>
            <a:off x="7802640" y="4835520"/>
            <a:ext cx="1917720" cy="1057320"/>
          </a:xfrm>
          <a:prstGeom prst="roundRect">
            <a:avLst>
              <a:gd name="adj" fmla="val 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して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3333"/>
                                      </p:to>
                                    </p:animClr>
                                    <p:set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3333"/>
                                      </p:to>
                                    </p:animClr>
                                    <p:set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3333"/>
                                      </p:to>
                                    </p:animClr>
                                    <p:set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3333"/>
                                      </p:to>
                                    </p:animClr>
                                    <p:set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47680" y="195120"/>
            <a:ext cx="4017960" cy="10828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13000" y="1625760"/>
            <a:ext cx="2857680" cy="2334960"/>
          </a:xfrm>
          <a:prstGeom prst="roundRect">
            <a:avLst>
              <a:gd name="adj" fmla="val 65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ー</a:t>
            </a:r>
            <a:r>
              <a:rPr b="0" lang="fr-FR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i </a:t>
            </a: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Y.Oz_F'04"/>
                <a:ea typeface="Y.OzN_'04"/>
              </a:rPr>
              <a:t>(plupart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GR1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8" name=""/>
          <p:cNvSpPr/>
          <p:nvPr/>
        </p:nvSpPr>
        <p:spPr>
          <a:xfrm>
            <a:off x="1281240" y="6056280"/>
            <a:ext cx="7358040" cy="1096920"/>
          </a:xfrm>
          <a:prstGeom prst="roundRect">
            <a:avLst>
              <a:gd name="adj" fmla="val 144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！！ いきます → いって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9" name=""/>
          <p:cNvSpPr/>
          <p:nvPr/>
        </p:nvSpPr>
        <p:spPr>
          <a:xfrm>
            <a:off x="1200240" y="182520"/>
            <a:ext cx="5284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12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けい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12640" y="2585880"/>
            <a:ext cx="362448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1" name=""/>
          <p:cNvSpPr/>
          <p:nvPr/>
        </p:nvSpPr>
        <p:spPr>
          <a:xfrm>
            <a:off x="839880" y="2727360"/>
            <a:ext cx="966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みせ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2" name=""/>
          <p:cNvSpPr/>
          <p:nvPr/>
        </p:nvSpPr>
        <p:spPr>
          <a:xfrm>
            <a:off x="1996920" y="2714760"/>
            <a:ext cx="14526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Y.Oz_F'04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3" name=""/>
          <p:cNvSpPr/>
          <p:nvPr/>
        </p:nvSpPr>
        <p:spPr>
          <a:xfrm>
            <a:off x="5133960" y="2500200"/>
            <a:ext cx="362412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4" name=""/>
          <p:cNvSpPr/>
          <p:nvPr/>
        </p:nvSpPr>
        <p:spPr>
          <a:xfrm>
            <a:off x="5459400" y="2641680"/>
            <a:ext cx="97776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か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5" name=""/>
          <p:cNvSpPr/>
          <p:nvPr/>
        </p:nvSpPr>
        <p:spPr>
          <a:xfrm>
            <a:off x="6721560" y="2641680"/>
            <a:ext cx="163656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Y.Oz_F'04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6" name=""/>
          <p:cNvSpPr/>
          <p:nvPr/>
        </p:nvSpPr>
        <p:spPr>
          <a:xfrm>
            <a:off x="4567320" y="274680"/>
            <a:ext cx="339228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Y.Oz_F'04"/>
                <a:ea typeface="Y.OzN_'04"/>
              </a:rPr>
              <a:t>GR2</a:t>
            </a:r>
            <a:r>
              <a:rPr b="0" lang="fr-FR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(2</a:t>
            </a: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グループ</a:t>
            </a:r>
            <a:r>
              <a:rPr b="0" lang="fr-FR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7" name=""/>
          <p:cNvSpPr/>
          <p:nvPr/>
        </p:nvSpPr>
        <p:spPr>
          <a:xfrm>
            <a:off x="604800" y="4348080"/>
            <a:ext cx="362448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8" name=""/>
          <p:cNvSpPr/>
          <p:nvPr/>
        </p:nvSpPr>
        <p:spPr>
          <a:xfrm>
            <a:off x="930240" y="4489560"/>
            <a:ext cx="96696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しめ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9" name=""/>
          <p:cNvSpPr/>
          <p:nvPr/>
        </p:nvSpPr>
        <p:spPr>
          <a:xfrm>
            <a:off x="2087640" y="4475160"/>
            <a:ext cx="145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Y.Oz_F'04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0" name=""/>
          <p:cNvSpPr/>
          <p:nvPr/>
        </p:nvSpPr>
        <p:spPr>
          <a:xfrm>
            <a:off x="5119560" y="4599000"/>
            <a:ext cx="362448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1" name=""/>
          <p:cNvSpPr/>
          <p:nvPr/>
        </p:nvSpPr>
        <p:spPr>
          <a:xfrm>
            <a:off x="5992920" y="4741920"/>
            <a:ext cx="66672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み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2" name=""/>
          <p:cNvSpPr/>
          <p:nvPr/>
        </p:nvSpPr>
        <p:spPr>
          <a:xfrm>
            <a:off x="6640560" y="4765680"/>
            <a:ext cx="145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Y.Oz_F'04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3" name=""/>
          <p:cNvSpPr/>
          <p:nvPr/>
        </p:nvSpPr>
        <p:spPr>
          <a:xfrm>
            <a:off x="247680" y="195120"/>
            <a:ext cx="4017960" cy="1082880"/>
          </a:xfrm>
          <a:prstGeom prst="roundRect">
            <a:avLst>
              <a:gd name="adj" fmla="val 144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mikachan"/>
                <a:ea typeface="Y.OzN_'04"/>
              </a:rPr>
              <a:t>て けい </a:t>
            </a:r>
            <a:r>
              <a:rPr b="0" lang="fr-FR" sz="3600" spc="-1" strike="noStrike">
                <a:solidFill>
                  <a:srgbClr val="000000"/>
                </a:solidFill>
                <a:latin typeface="mikachan"/>
                <a:ea typeface="Y.OzN_'04"/>
              </a:rPr>
              <a:t>(forme)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3333"/>
                                      </p:to>
                                    </p:animClr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3333"/>
                                      </p:to>
                                    </p:animClr>
                                    <p:animScale>
                                      <p:cBhvr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0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7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84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12640" y="2585880"/>
            <a:ext cx="362448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5" name=""/>
          <p:cNvSpPr/>
          <p:nvPr/>
        </p:nvSpPr>
        <p:spPr>
          <a:xfrm>
            <a:off x="839880" y="2727360"/>
            <a:ext cx="966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みせ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6" name=""/>
          <p:cNvSpPr/>
          <p:nvPr/>
        </p:nvSpPr>
        <p:spPr>
          <a:xfrm>
            <a:off x="868320" y="338472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_F'04"/>
                <a:ea typeface="Y.OzN_'04"/>
              </a:rPr>
              <a:t>ます  → 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7" name=""/>
          <p:cNvSpPr/>
          <p:nvPr/>
        </p:nvSpPr>
        <p:spPr>
          <a:xfrm>
            <a:off x="1982880" y="2714760"/>
            <a:ext cx="8776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.Oz_F'04"/>
                <a:ea typeface="Y.OzN_'04"/>
              </a:rPr>
              <a:t>て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8" name=""/>
          <p:cNvSpPr/>
          <p:nvPr/>
        </p:nvSpPr>
        <p:spPr>
          <a:xfrm>
            <a:off x="5133960" y="2500200"/>
            <a:ext cx="362412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9" name=""/>
          <p:cNvSpPr/>
          <p:nvPr/>
        </p:nvSpPr>
        <p:spPr>
          <a:xfrm>
            <a:off x="5459400" y="2641680"/>
            <a:ext cx="97776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か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0" name=""/>
          <p:cNvSpPr/>
          <p:nvPr/>
        </p:nvSpPr>
        <p:spPr>
          <a:xfrm>
            <a:off x="5487840" y="329724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_F'04"/>
                <a:ea typeface="Y.OzN_'04"/>
              </a:rPr>
              <a:t>ます → 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1" name=""/>
          <p:cNvSpPr/>
          <p:nvPr/>
        </p:nvSpPr>
        <p:spPr>
          <a:xfrm>
            <a:off x="6607080" y="2679840"/>
            <a:ext cx="9702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.Oz_F'04"/>
                <a:ea typeface="Y.OzN_'04"/>
              </a:rPr>
              <a:t>て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2" name=""/>
          <p:cNvSpPr/>
          <p:nvPr/>
        </p:nvSpPr>
        <p:spPr>
          <a:xfrm>
            <a:off x="4567320" y="274680"/>
            <a:ext cx="339228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Y.Oz_F'04"/>
                <a:ea typeface="Y.OzN_'04"/>
              </a:rPr>
              <a:t>GR2</a:t>
            </a:r>
            <a:r>
              <a:rPr b="0" lang="fr-FR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(2</a:t>
            </a: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グループ</a:t>
            </a:r>
            <a:r>
              <a:rPr b="0" lang="fr-FR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3" name=""/>
          <p:cNvSpPr/>
          <p:nvPr/>
        </p:nvSpPr>
        <p:spPr>
          <a:xfrm>
            <a:off x="604800" y="4348080"/>
            <a:ext cx="362448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4" name=""/>
          <p:cNvSpPr/>
          <p:nvPr/>
        </p:nvSpPr>
        <p:spPr>
          <a:xfrm>
            <a:off x="930240" y="4489560"/>
            <a:ext cx="96696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しめ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5" name=""/>
          <p:cNvSpPr/>
          <p:nvPr/>
        </p:nvSpPr>
        <p:spPr>
          <a:xfrm>
            <a:off x="958680" y="5146560"/>
            <a:ext cx="235620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_F'04"/>
                <a:ea typeface="Y.OzN_'04"/>
              </a:rPr>
              <a:t>ます  → 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6" name=""/>
          <p:cNvSpPr/>
          <p:nvPr/>
        </p:nvSpPr>
        <p:spPr>
          <a:xfrm>
            <a:off x="2075040" y="4475160"/>
            <a:ext cx="8776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.Oz_F'04"/>
                <a:ea typeface="Y.OzN_'04"/>
              </a:rPr>
              <a:t>て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7" name=""/>
          <p:cNvSpPr/>
          <p:nvPr/>
        </p:nvSpPr>
        <p:spPr>
          <a:xfrm>
            <a:off x="5119560" y="4599000"/>
            <a:ext cx="362448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8" name=""/>
          <p:cNvSpPr/>
          <p:nvPr/>
        </p:nvSpPr>
        <p:spPr>
          <a:xfrm>
            <a:off x="5992920" y="4741920"/>
            <a:ext cx="66672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み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9" name=""/>
          <p:cNvSpPr/>
          <p:nvPr/>
        </p:nvSpPr>
        <p:spPr>
          <a:xfrm>
            <a:off x="5473800" y="539748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_F'04"/>
                <a:ea typeface="Y.OzN_'04"/>
              </a:rPr>
              <a:t>ます  → 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0" name=""/>
          <p:cNvSpPr/>
          <p:nvPr/>
        </p:nvSpPr>
        <p:spPr>
          <a:xfrm>
            <a:off x="6589800" y="4727520"/>
            <a:ext cx="8776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.Oz_F'04"/>
                <a:ea typeface="Y.OzN_'04"/>
              </a:rPr>
              <a:t>て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1" name=""/>
          <p:cNvSpPr/>
          <p:nvPr/>
        </p:nvSpPr>
        <p:spPr>
          <a:xfrm>
            <a:off x="247680" y="195120"/>
            <a:ext cx="4017960" cy="1082880"/>
          </a:xfrm>
          <a:prstGeom prst="roundRect">
            <a:avLst>
              <a:gd name="adj" fmla="val 144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mikachan"/>
                <a:ea typeface="Y.OzN_'04"/>
              </a:rPr>
              <a:t>て けい </a:t>
            </a:r>
            <a:r>
              <a:rPr b="0" lang="fr-FR" sz="3600" spc="-1" strike="noStrike">
                <a:solidFill>
                  <a:srgbClr val="000000"/>
                </a:solidFill>
                <a:latin typeface="mikachan"/>
                <a:ea typeface="Y.OzN_'04"/>
              </a:rPr>
              <a:t>(forme)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250" fill="hold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250" fill="hold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dur="indefinite" fill="hold">
                      <p:stCondLst>
                        <p:cond delay="indefinite"/>
                      </p:stCondLst>
                      <p:childTnLst>
                        <p:par>
                          <p:cTn id="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 fill="hold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67320" y="274680"/>
            <a:ext cx="339228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Y.Oz_F'04"/>
                <a:ea typeface="Y.OzN_'04"/>
              </a:rPr>
              <a:t>GR2</a:t>
            </a:r>
            <a:r>
              <a:rPr b="0" lang="fr-FR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(2</a:t>
            </a:r>
            <a:r>
              <a:rPr b="0" lang="ja-JP" sz="2400" spc="-1" strike="noStrike">
                <a:solidFill>
                  <a:srgbClr val="000000"/>
                </a:solidFill>
                <a:latin typeface="Y.Oz_F'04"/>
                <a:ea typeface="Y.OzN_'04"/>
              </a:rPr>
              <a:t>グループ</a:t>
            </a:r>
            <a:r>
              <a:rPr b="0" lang="fr-FR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3" name=""/>
          <p:cNvSpPr/>
          <p:nvPr/>
        </p:nvSpPr>
        <p:spPr>
          <a:xfrm>
            <a:off x="247680" y="195120"/>
            <a:ext cx="4017960" cy="1082880"/>
          </a:xfrm>
          <a:prstGeom prst="roundRect">
            <a:avLst>
              <a:gd name="adj" fmla="val 144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4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Y.OzN_'04"/>
              </a:rPr>
              <a:t>て けい </a:t>
            </a:r>
            <a:r>
              <a:rPr b="0" lang="fr-FR" sz="3600" spc="-1" strike="noStrike">
                <a:solidFill>
                  <a:srgbClr val="000000"/>
                </a:solidFill>
                <a:latin typeface="みかちゃん"/>
                <a:ea typeface="Y.OzN_'04"/>
              </a:rPr>
              <a:t>(forme)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7360" y="1330200"/>
            <a:ext cx="9720360" cy="5950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012680" y="4851360"/>
            <a:ext cx="2857680" cy="2335320"/>
          </a:xfrm>
          <a:prstGeom prst="roundRect">
            <a:avLst>
              <a:gd name="adj" fmla="val 65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_F'04"/>
                <a:ea typeface="Y.OzN_'04"/>
              </a:rPr>
              <a:t>ー</a:t>
            </a:r>
            <a:r>
              <a:rPr b="0" lang="fr-FR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e </a:t>
            </a:r>
            <a:r>
              <a:rPr b="0" lang="ja-JP" sz="2400" spc="-1" strike="noStrike">
                <a:solidFill>
                  <a:srgbClr val="000000"/>
                </a:solidFill>
                <a:latin typeface="Y.Oz_F'04"/>
                <a:ea typeface="Y.OzN_'04"/>
              </a:rPr>
              <a:t>ます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GR2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6" name=""/>
          <p:cNvSpPr/>
          <p:nvPr/>
        </p:nvSpPr>
        <p:spPr>
          <a:xfrm>
            <a:off x="5932440" y="4846680"/>
            <a:ext cx="2857680" cy="2335320"/>
          </a:xfrm>
          <a:prstGeom prst="roundRect">
            <a:avLst>
              <a:gd name="adj" fmla="val 65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_F'04"/>
                <a:ea typeface="Y.OzN_'04"/>
              </a:rPr>
              <a:t>ー</a:t>
            </a:r>
            <a:r>
              <a:rPr b="0" lang="fr-FR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i </a:t>
            </a:r>
            <a:r>
              <a:rPr b="0" lang="ja-JP" sz="2400" spc="-1" strike="noStrike">
                <a:solidFill>
                  <a:srgbClr val="000000"/>
                </a:solidFill>
                <a:latin typeface="Y.Oz_F'04"/>
                <a:ea typeface="Y.OzN_'04"/>
              </a:rPr>
              <a:t>ます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Y.Oz_F'04"/>
                <a:ea typeface="Y.OzN_'04"/>
              </a:rPr>
              <a:t>(</a:t>
            </a:r>
            <a:r>
              <a:rPr b="0" lang="ja-JP" sz="2400" spc="-1" strike="noStrike">
                <a:solidFill>
                  <a:srgbClr val="ff0000"/>
                </a:solidFill>
                <a:latin typeface="Y.Oz_F'04"/>
                <a:ea typeface="Y.OzN_'04"/>
              </a:rPr>
              <a:t>すこしだけ</a:t>
            </a:r>
            <a:r>
              <a:rPr b="0" lang="fr-FR" sz="3200" spc="-1" strike="noStrike">
                <a:solidFill>
                  <a:srgbClr val="ff0000"/>
                </a:solidFill>
                <a:latin typeface="Y.Oz_F'04"/>
                <a:ea typeface="Y.OzN_'04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GR2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92040" y="28728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Y.Oz_F'04"/>
                <a:ea typeface="Y.OzN_'04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8" name=""/>
          <p:cNvSpPr/>
          <p:nvPr/>
        </p:nvSpPr>
        <p:spPr>
          <a:xfrm>
            <a:off x="847800" y="1909800"/>
            <a:ext cx="8089920" cy="143028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きます 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9" name=""/>
          <p:cNvSpPr/>
          <p:nvPr/>
        </p:nvSpPr>
        <p:spPr>
          <a:xfrm>
            <a:off x="860400" y="3699000"/>
            <a:ext cx="8064360" cy="144288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します 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5480" y="1989000"/>
            <a:ext cx="2038320" cy="6551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0320" y="196920"/>
            <a:ext cx="6980040" cy="1657440"/>
          </a:xfrm>
          <a:prstGeom prst="roundRect">
            <a:avLst>
              <a:gd name="adj" fmla="val 1081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46800" y="2957400"/>
            <a:ext cx="2361960" cy="5451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407280" y="3471840"/>
            <a:ext cx="1919160" cy="2124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1892160" y="4252680"/>
            <a:ext cx="4784760" cy="8110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92040" y="28728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Y.Oz_F'04"/>
                <a:ea typeface="Y.OzN_'04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1" name=""/>
          <p:cNvSpPr/>
          <p:nvPr/>
        </p:nvSpPr>
        <p:spPr>
          <a:xfrm>
            <a:off x="847800" y="1909800"/>
            <a:ext cx="8089920" cy="143028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きます → </a:t>
            </a:r>
            <a:r>
              <a:rPr b="0" lang="ja-JP" sz="4800" spc="-1" strike="noStrike">
                <a:solidFill>
                  <a:srgbClr val="ff0000"/>
                </a:solidFill>
                <a:latin typeface="Y.Oz_F'04"/>
                <a:ea typeface="Y.OzN_'04"/>
              </a:rPr>
              <a:t>きて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2" name=""/>
          <p:cNvSpPr/>
          <p:nvPr/>
        </p:nvSpPr>
        <p:spPr>
          <a:xfrm>
            <a:off x="860400" y="3699000"/>
            <a:ext cx="8064360" cy="144288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します → </a:t>
            </a:r>
            <a:r>
              <a:rPr b="0" lang="ja-JP" sz="4800" spc="-1" strike="noStrike">
                <a:solidFill>
                  <a:srgbClr val="ff0000"/>
                </a:solidFill>
                <a:latin typeface="Y.Oz_F'04"/>
                <a:ea typeface="Y.OzN_'04"/>
              </a:rPr>
              <a:t>して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dur="indefinite" fill="hold">
                      <p:stCondLst>
                        <p:cond delay="indefinite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38080" y="495360"/>
            <a:ext cx="241632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プリント</a:t>
            </a:r>
            <a:r>
              <a:rPr b="0" lang="ja-JP" sz="44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4" name=""/>
          <p:cNvSpPr/>
          <p:nvPr/>
        </p:nvSpPr>
        <p:spPr>
          <a:xfrm>
            <a:off x="2400480" y="2419200"/>
            <a:ext cx="41526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.Oz_F'04"/>
                <a:ea typeface="Y.OzN_'04"/>
              </a:rPr>
              <a:t>あげてください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400480" y="2209680"/>
            <a:ext cx="5062320" cy="1176480"/>
            <a:chOff x="2400480" y="2209680"/>
            <a:chExt cx="5062320" cy="1176480"/>
          </a:xfrm>
        </p:grpSpPr>
        <p:sp>
          <p:nvSpPr>
            <p:cNvPr id="226" name=""/>
            <p:cNvSpPr/>
            <p:nvPr/>
          </p:nvSpPr>
          <p:spPr>
            <a:xfrm>
              <a:off x="2404800" y="2209680"/>
              <a:ext cx="5052600" cy="11764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400480" y="2209680"/>
              <a:ext cx="5062320" cy="11764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752480" y="4724280"/>
            <a:ext cx="6991560" cy="1333800"/>
          </a:xfrm>
          <a:prstGeom prst="roundRect">
            <a:avLst>
              <a:gd name="adj" fmla="val 1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.Oz_P'04"/>
                <a:ea typeface="Y.OzN_'04"/>
              </a:rPr>
              <a:t>ください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dur="indefinite" fill="hold">
                      <p:stCondLst>
                        <p:cond delay="indefinite"/>
                      </p:stCondLst>
                      <p:childTnLst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838080" y="495360"/>
            <a:ext cx="241632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プリント</a:t>
            </a:r>
            <a:r>
              <a:rPr b="0" lang="ja-JP" sz="44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0" name=""/>
          <p:cNvSpPr/>
          <p:nvPr/>
        </p:nvSpPr>
        <p:spPr>
          <a:xfrm>
            <a:off x="2400480" y="2419200"/>
            <a:ext cx="41526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.Oz_F'04"/>
                <a:ea typeface="Y.OzN_'04"/>
              </a:rPr>
              <a:t>あげてください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400480" y="2209680"/>
            <a:ext cx="5062320" cy="1176480"/>
            <a:chOff x="2400480" y="2209680"/>
            <a:chExt cx="5062320" cy="1176480"/>
          </a:xfrm>
        </p:grpSpPr>
        <p:sp>
          <p:nvSpPr>
            <p:cNvPr id="232" name=""/>
            <p:cNvSpPr/>
            <p:nvPr/>
          </p:nvSpPr>
          <p:spPr>
            <a:xfrm>
              <a:off x="2404800" y="2209680"/>
              <a:ext cx="5052600" cy="11764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400480" y="2209680"/>
              <a:ext cx="5062320" cy="11764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752480" y="4724280"/>
            <a:ext cx="6991560" cy="1333800"/>
          </a:xfrm>
          <a:prstGeom prst="roundRect">
            <a:avLst>
              <a:gd name="adj" fmla="val 1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.Oz_P'04"/>
                <a:ea typeface="Y.OzN_'04"/>
              </a:rPr>
              <a:t>ください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dur="indefinite" fill="hold">
                      <p:stCondLst>
                        <p:cond delay="indefinite"/>
                      </p:stCondLst>
                      <p:childTnLst>
                        <p:par>
                          <p:cTn id="3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dur="indefinite" fill="hold">
                      <p:stCondLst>
                        <p:cond delay="indefinite"/>
                      </p:stCondLst>
                      <p:childTnLst>
                        <p:par>
                          <p:cTn id="3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65160" y="515880"/>
            <a:ext cx="8186760" cy="1184400"/>
          </a:xfrm>
          <a:prstGeom prst="roundRect">
            <a:avLst>
              <a:gd name="adj" fmla="val 13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.OzN_'04"/>
                <a:ea typeface="Y.OzN_'04"/>
              </a:rPr>
              <a:t>たべます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143000" y="1749600"/>
            <a:ext cx="7856640" cy="55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dur="indefinite" fill="hold">
                      <p:stCondLst>
                        <p:cond delay="indefinite"/>
                      </p:stCondLst>
                      <p:childTnLst>
                        <p:par>
                          <p:cTn id="3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65160" y="514440"/>
            <a:ext cx="8186760" cy="1184040"/>
          </a:xfrm>
          <a:prstGeom prst="roundRect">
            <a:avLst>
              <a:gd name="adj" fmla="val 13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.OzN_'04"/>
                <a:ea typeface="Y.OzN_'04"/>
              </a:rPr>
              <a:t>たべ</a:t>
            </a:r>
            <a:r>
              <a:rPr b="0" lang="ja-JP" sz="6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ています</a:t>
            </a:r>
            <a:r>
              <a:rPr b="0" lang="ja-JP" sz="6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046160" y="1827360"/>
            <a:ext cx="7974000" cy="549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dur="indefinite" fill="hold">
                      <p:stCondLst>
                        <p:cond delay="indefinite"/>
                      </p:stCondLst>
                      <p:childTnLst>
                        <p:par>
                          <p:cTn id="3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65160" y="514440"/>
            <a:ext cx="8186760" cy="1184040"/>
          </a:xfrm>
          <a:prstGeom prst="roundRect">
            <a:avLst>
              <a:gd name="adj" fmla="val 13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.OzN_'04"/>
                <a:ea typeface="Y.OzN_'04"/>
              </a:rPr>
              <a:t>たべ</a:t>
            </a:r>
            <a:r>
              <a:rPr b="0" lang="ja-JP" sz="6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ています</a:t>
            </a:r>
            <a:r>
              <a:rPr b="0" lang="ja-JP" sz="6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046160" y="1827360"/>
            <a:ext cx="7974000" cy="549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dur="indefinite" fill="hold">
                      <p:stCondLst>
                        <p:cond delay="indefinite"/>
                      </p:stCondLst>
                      <p:childTnLst>
                        <p:par>
                          <p:cTn id="3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65160" y="515880"/>
            <a:ext cx="8186760" cy="1184400"/>
          </a:xfrm>
          <a:prstGeom prst="roundRect">
            <a:avLst>
              <a:gd name="adj" fmla="val 13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.OzN_'04"/>
                <a:ea typeface="Y.OzN_'04"/>
              </a:rPr>
              <a:t>たべました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87480" y="1749600"/>
            <a:ext cx="7993080" cy="56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dur="indefinite" fill="hold">
                      <p:stCondLst>
                        <p:cond delay="indefinite"/>
                      </p:stCondLst>
                      <p:childTnLst>
                        <p:par>
                          <p:cTn id="3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635280" y="1189080"/>
            <a:ext cx="5311800" cy="765000"/>
          </a:xfrm>
          <a:prstGeom prst="roundRect">
            <a:avLst>
              <a:gd name="adj" fmla="val 204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.OzN_'04"/>
                <a:ea typeface="Y.OzN_'04"/>
              </a:rPr>
              <a:t>たべ</a:t>
            </a:r>
            <a:r>
              <a:rPr b="0" lang="ja-JP" sz="6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ています</a:t>
            </a:r>
            <a:r>
              <a:rPr b="0" lang="ja-JP" sz="6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23720" y="388800"/>
            <a:ext cx="2880000" cy="2293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309760" y="1905120"/>
            <a:ext cx="5116680" cy="3654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6026040" y="4548240"/>
            <a:ext cx="3713400" cy="27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87280" y="114480"/>
            <a:ext cx="949176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965160" y="515880"/>
            <a:ext cx="8186760" cy="1184400"/>
          </a:xfrm>
          <a:prstGeom prst="roundRect">
            <a:avLst>
              <a:gd name="adj" fmla="val 13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.OzN_'04"/>
                <a:ea typeface="Y.OzN_'04"/>
              </a:rPr>
              <a:t>そうじします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dur="indefinite" fill="hold">
                      <p:stCondLst>
                        <p:cond delay="indefinite"/>
                      </p:stCondLst>
                      <p:childTnLst>
                        <p:par>
                          <p:cTn id="3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87280" y="114480"/>
            <a:ext cx="9491760" cy="7315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65160" y="515880"/>
            <a:ext cx="8186760" cy="1184400"/>
          </a:xfrm>
          <a:prstGeom prst="roundRect">
            <a:avLst>
              <a:gd name="adj" fmla="val 13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.OzN_'04"/>
                <a:ea typeface="Y.OzN_'04"/>
              </a:rPr>
              <a:t>そうじし</a:t>
            </a:r>
            <a:r>
              <a:rPr b="0" lang="ja-JP" sz="6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ています</a:t>
            </a:r>
            <a:r>
              <a:rPr b="0" lang="ja-JP" sz="6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dur="indefinite" fill="hold">
                      <p:stCondLst>
                        <p:cond delay="indefinite"/>
                      </p:stCondLst>
                      <p:childTnLst>
                        <p:par>
                          <p:cTn id="3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 fill="hold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5480" y="1989000"/>
            <a:ext cx="2038320" cy="6551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0320" y="196920"/>
            <a:ext cx="6980040" cy="1657440"/>
          </a:xfrm>
          <a:prstGeom prst="roundRect">
            <a:avLst>
              <a:gd name="adj" fmla="val 1081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.OzN_'04"/>
                <a:ea typeface="Y.OzN_'04"/>
              </a:rPr>
              <a:t>てつだいま</a:t>
            </a:r>
            <a:r>
              <a:rPr b="0" lang="ja-JP" sz="5400" spc="-1" strike="noStrike">
                <a:solidFill>
                  <a:srgbClr val="ff0000"/>
                </a:solidFill>
                <a:latin typeface="Y.OzN_'04"/>
                <a:ea typeface="Y.OzN_'04"/>
              </a:rPr>
              <a:t>しょうか</a:t>
            </a:r>
            <a:r>
              <a:rPr b="0" lang="ja-JP" sz="54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46800" y="2957400"/>
            <a:ext cx="2361960" cy="5451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407280" y="3471840"/>
            <a:ext cx="1919160" cy="2124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V="1">
            <a:off x="1892160" y="4252680"/>
            <a:ext cx="4784760" cy="8110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87280" y="114480"/>
            <a:ext cx="9491760" cy="7315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965160" y="515880"/>
            <a:ext cx="8186760" cy="1184400"/>
          </a:xfrm>
          <a:prstGeom prst="roundRect">
            <a:avLst>
              <a:gd name="adj" fmla="val 13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.OzN_'04"/>
                <a:ea typeface="Y.OzN_'04"/>
              </a:rPr>
              <a:t>そうじし</a:t>
            </a:r>
            <a:r>
              <a:rPr b="0" lang="ja-JP" sz="6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ています</a:t>
            </a:r>
            <a:r>
              <a:rPr b="0" lang="ja-JP" sz="6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dur="indefinite" fill="hold">
                      <p:stCondLst>
                        <p:cond delay="indefinite"/>
                      </p:stCondLst>
                      <p:childTnLst>
                        <p:par>
                          <p:cTn id="3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1000" fill="hold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09600" y="372960"/>
            <a:ext cx="9491760" cy="73152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65160" y="515880"/>
            <a:ext cx="8186760" cy="1184400"/>
          </a:xfrm>
          <a:prstGeom prst="roundRect">
            <a:avLst>
              <a:gd name="adj" fmla="val 13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.OzN_'04"/>
                <a:ea typeface="Y.OzN_'04"/>
              </a:rPr>
              <a:t>そうじしました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dur="indefinite" fill="hold">
                      <p:stCondLst>
                        <p:cond delay="indefinite"/>
                      </p:stCondLst>
                      <p:childTnLst>
                        <p:par>
                          <p:cTn id="3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1000" fill="hold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917720" y="1227240"/>
            <a:ext cx="6973920" cy="5219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6972480" y="4921200"/>
            <a:ext cx="2920680" cy="24638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87280" y="100080"/>
            <a:ext cx="2887560" cy="2413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813040" y="1492200"/>
            <a:ext cx="6477120" cy="708120"/>
          </a:xfrm>
          <a:prstGeom prst="roundRect">
            <a:avLst>
              <a:gd name="adj" fmla="val 222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.OzN_'04"/>
                <a:ea typeface="Y.OzN_'04"/>
              </a:rPr>
              <a:t>そうじし</a:t>
            </a:r>
            <a:r>
              <a:rPr b="0" lang="ja-JP" sz="6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ています</a:t>
            </a:r>
            <a:r>
              <a:rPr b="0" lang="ja-JP" sz="6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933560" y="299880"/>
            <a:ext cx="630540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35520" y="139680"/>
            <a:ext cx="5933880" cy="37908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820800" y="2292480"/>
            <a:ext cx="2809800" cy="6519600"/>
            <a:chOff x="820800" y="2292480"/>
            <a:chExt cx="2809800" cy="651960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820800" y="2292480"/>
              <a:ext cx="2700360" cy="651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635200" y="3755880"/>
              <a:ext cx="995400" cy="298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592520" y="2454120"/>
            <a:ext cx="2733840" cy="6724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499000" y="1395360"/>
            <a:ext cx="1219320" cy="1390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7191360" y="3728880"/>
            <a:ext cx="1000080" cy="2990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4760" y="3321000"/>
            <a:ext cx="1670040" cy="35751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" name=""/>
          <p:cNvSpPr/>
          <p:nvPr/>
        </p:nvSpPr>
        <p:spPr>
          <a:xfrm>
            <a:off x="130320" y="196920"/>
            <a:ext cx="8346960" cy="1731960"/>
          </a:xfrm>
          <a:prstGeom prst="roundRect">
            <a:avLst>
              <a:gd name="adj" fmla="val 1036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mikachan"/>
                <a:ea typeface="mikachan"/>
              </a:rPr>
              <a:t>かさ</a:t>
            </a:r>
            <a:r>
              <a:rPr b="0" lang="ja-JP" sz="5400" spc="-1" strike="noStrike">
                <a:solidFill>
                  <a:srgbClr val="800000"/>
                </a:solidFill>
                <a:latin typeface="mikachan"/>
                <a:ea typeface="mikachan"/>
              </a:rPr>
              <a:t>を</a:t>
            </a:r>
            <a:r>
              <a:rPr b="0" lang="ja-JP" sz="5400" spc="-1" strike="noStrike">
                <a:solidFill>
                  <a:srgbClr val="000000"/>
                </a:solidFill>
                <a:latin typeface="mikachan"/>
                <a:ea typeface="mikachan"/>
              </a:rPr>
              <a:t>かしま</a:t>
            </a:r>
            <a:r>
              <a:rPr b="0" lang="ja-JP" sz="5400" spc="-1" strike="noStrike">
                <a:solidFill>
                  <a:srgbClr val="ff0000"/>
                </a:solidFill>
                <a:latin typeface="mikachan"/>
                <a:ea typeface="mikachan"/>
              </a:rPr>
              <a:t>しょうか</a:t>
            </a:r>
            <a:r>
              <a:rPr b="0" lang="ja-JP" sz="5400" spc="-1" strike="noStrike">
                <a:solidFill>
                  <a:srgbClr val="000000"/>
                </a:solidFill>
                <a:latin typeface="mikachan"/>
                <a:ea typeface="mikach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35520" y="139680"/>
            <a:ext cx="5933880" cy="37908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820800" y="2292480"/>
            <a:ext cx="2809800" cy="6519600"/>
            <a:chOff x="820800" y="2292480"/>
            <a:chExt cx="2809800" cy="6519600"/>
          </a:xfrm>
        </p:grpSpPr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820800" y="2292480"/>
              <a:ext cx="2700360" cy="651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2635200" y="3755880"/>
              <a:ext cx="995400" cy="298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592520" y="2454120"/>
            <a:ext cx="2733840" cy="6724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499000" y="1395360"/>
            <a:ext cx="1219320" cy="1390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7191360" y="3728880"/>
            <a:ext cx="1000080" cy="2990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4760" y="3321000"/>
            <a:ext cx="1670040" cy="35751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5" name=""/>
          <p:cNvSpPr/>
          <p:nvPr/>
        </p:nvSpPr>
        <p:spPr>
          <a:xfrm>
            <a:off x="130320" y="196920"/>
            <a:ext cx="8346960" cy="1731960"/>
          </a:xfrm>
          <a:prstGeom prst="roundRect">
            <a:avLst>
              <a:gd name="adj" fmla="val 1036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mikachan"/>
                <a:ea typeface="mikachan"/>
              </a:rPr>
              <a:t>かさ</a:t>
            </a:r>
            <a:r>
              <a:rPr b="0" lang="ja-JP" sz="5400" spc="-1" strike="noStrike">
                <a:solidFill>
                  <a:srgbClr val="800000"/>
                </a:solidFill>
                <a:latin typeface="mikachan"/>
                <a:ea typeface="mikachan"/>
              </a:rPr>
              <a:t>を</a:t>
            </a:r>
            <a:r>
              <a:rPr b="0" lang="ja-JP" sz="5400" spc="-1" strike="noStrike">
                <a:solidFill>
                  <a:srgbClr val="000000"/>
                </a:solidFill>
                <a:latin typeface="mikachan"/>
                <a:ea typeface="mikachan"/>
              </a:rPr>
              <a:t>かしま</a:t>
            </a:r>
            <a:r>
              <a:rPr b="0" lang="ja-JP" sz="5400" spc="-1" strike="noStrike">
                <a:solidFill>
                  <a:srgbClr val="ff0000"/>
                </a:solidFill>
                <a:latin typeface="mikachan"/>
                <a:ea typeface="mikachan"/>
              </a:rPr>
              <a:t>しょうか</a:t>
            </a:r>
            <a:r>
              <a:rPr b="0" lang="ja-JP" sz="5400" spc="-1" strike="noStrike">
                <a:solidFill>
                  <a:srgbClr val="000000"/>
                </a:solidFill>
                <a:latin typeface="mikachan"/>
                <a:ea typeface="mikach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73200" y="2136600"/>
            <a:ext cx="2038320" cy="6551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30320" y="196920"/>
            <a:ext cx="6980040" cy="1657440"/>
          </a:xfrm>
          <a:prstGeom prst="roundRect">
            <a:avLst>
              <a:gd name="adj" fmla="val 1081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.OzN_'04"/>
                <a:ea typeface="Y.OzN_'04"/>
              </a:rPr>
              <a:t>てつだいま</a:t>
            </a:r>
            <a:r>
              <a:rPr b="0" lang="ja-JP" sz="5400" spc="-1" strike="noStrike">
                <a:solidFill>
                  <a:srgbClr val="ff0000"/>
                </a:solidFill>
                <a:latin typeface="Y.OzN_'04"/>
                <a:ea typeface="Y.OzN_'04"/>
              </a:rPr>
              <a:t>しょうか</a:t>
            </a:r>
            <a:r>
              <a:rPr b="0" lang="ja-JP" sz="54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562720" y="3236760"/>
            <a:ext cx="2361960" cy="5451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523200" y="4600440"/>
            <a:ext cx="1919160" cy="2124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V="1">
            <a:off x="2009880" y="5381280"/>
            <a:ext cx="4784760" cy="8110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85720" y="2222640"/>
            <a:ext cx="2038320" cy="6551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475240" y="1974960"/>
            <a:ext cx="2362320" cy="5451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435720" y="2489040"/>
            <a:ext cx="1919160" cy="2124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1922400" y="3269880"/>
            <a:ext cx="4784760" cy="8110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5" name=""/>
          <p:cNvSpPr/>
          <p:nvPr/>
        </p:nvSpPr>
        <p:spPr>
          <a:xfrm>
            <a:off x="2384280" y="4718160"/>
            <a:ext cx="7502760" cy="1069920"/>
          </a:xfrm>
          <a:prstGeom prst="roundRect">
            <a:avLst>
              <a:gd name="adj" fmla="val 1676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mikachan"/>
                <a:ea typeface="mikachan"/>
              </a:rPr>
              <a:t>はい、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85720" y="2222640"/>
            <a:ext cx="2038320" cy="6551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475240" y="1974960"/>
            <a:ext cx="2362320" cy="5451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435720" y="2489040"/>
            <a:ext cx="1919160" cy="212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V="1">
            <a:off x="1922400" y="3269880"/>
            <a:ext cx="4784760" cy="8110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0" name=""/>
          <p:cNvSpPr/>
          <p:nvPr/>
        </p:nvSpPr>
        <p:spPr>
          <a:xfrm>
            <a:off x="2384280" y="4718160"/>
            <a:ext cx="7502760" cy="1069920"/>
          </a:xfrm>
          <a:prstGeom prst="roundRect">
            <a:avLst>
              <a:gd name="adj" fmla="val 1676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mikachan"/>
                <a:ea typeface="mikachan"/>
              </a:rPr>
              <a:t>はい、</a:t>
            </a:r>
            <a:r>
              <a:rPr b="0" lang="ja-JP" sz="4400" spc="-1" strike="noStrike">
                <a:solidFill>
                  <a:srgbClr val="ff0000"/>
                </a:solidFill>
                <a:latin typeface="mikachan"/>
                <a:ea typeface="mikachan"/>
              </a:rPr>
              <a:t>おねがいし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5720" y="2222640"/>
            <a:ext cx="2038320" cy="6551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75240" y="1974960"/>
            <a:ext cx="2362320" cy="5451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435720" y="2489040"/>
            <a:ext cx="1919160" cy="2124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1922400" y="3269880"/>
            <a:ext cx="4784760" cy="8110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5" name=""/>
          <p:cNvSpPr/>
          <p:nvPr/>
        </p:nvSpPr>
        <p:spPr>
          <a:xfrm>
            <a:off x="2232000" y="4276800"/>
            <a:ext cx="7234200" cy="1593720"/>
          </a:xfrm>
          <a:prstGeom prst="roundRect">
            <a:avLst>
              <a:gd name="adj" fmla="val 1125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mikachan"/>
                <a:ea typeface="mikachan"/>
              </a:rPr>
              <a:t>いいえ、</a:t>
            </a:r>
            <a:r>
              <a:rPr b="0" lang="fr-FR" sz="4400" spc="-1" strike="noStrike">
                <a:solidFill>
                  <a:srgbClr val="000000"/>
                </a:solidFill>
                <a:latin typeface="mikachan"/>
                <a:ea typeface="mikachan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22:35:13Z</dcterms:created>
  <dc:creator/>
  <dc:description/>
  <dc:language>en-US</dc:language>
  <cp:lastModifiedBy/>
  <dcterms:modified xsi:type="dcterms:W3CDTF">2016-05-24T19:23:20Z</dcterms:modified>
  <cp:revision>58</cp:revision>
  <dc:subject/>
  <dc:title/>
</cp:coreProperties>
</file>