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20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20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20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20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20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4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4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15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219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154160" y="3443400"/>
            <a:ext cx="8580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て 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すんでいます・しって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はたらいています・もって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てもいいです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てはいけませ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めがねを かけています・ふくを きて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1760" y="225360"/>
            <a:ext cx="5330880" cy="285768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422280" y="1217520"/>
            <a:ext cx="429732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ソニー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はたらい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ています</a:t>
            </a: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13240" y="1573200"/>
            <a:ext cx="3073680" cy="890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760" y="225360"/>
            <a:ext cx="5330880" cy="285768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21760" y="4425840"/>
            <a:ext cx="1431720" cy="226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970680" y="3762360"/>
            <a:ext cx="1432080" cy="2263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627960" y="3271680"/>
            <a:ext cx="1612800" cy="314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33840" y="2717640"/>
            <a:ext cx="1751040" cy="3862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099120" y="4616280"/>
            <a:ext cx="2116080" cy="1852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939080" y="3495600"/>
            <a:ext cx="1785960" cy="3772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7580160" y="5165640"/>
            <a:ext cx="211644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111320" y="2187720"/>
            <a:ext cx="2793960" cy="915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447840"/>
            <a:ext cx="30733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がっこう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で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1760" y="225360"/>
            <a:ext cx="5330880" cy="285768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47840"/>
            <a:ext cx="381312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がっこう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で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おしえ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ています</a:t>
            </a: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21760" y="4425840"/>
            <a:ext cx="1431720" cy="22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70680" y="3762360"/>
            <a:ext cx="1432080" cy="2263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627960" y="3271680"/>
            <a:ext cx="1612800" cy="314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33840" y="2717640"/>
            <a:ext cx="1751040" cy="386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099120" y="4616280"/>
            <a:ext cx="2116080" cy="1852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7939080" y="3495600"/>
            <a:ext cx="1785960" cy="3772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7580160" y="5165640"/>
            <a:ext cx="2116440" cy="18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111320" y="2187720"/>
            <a:ext cx="2793960" cy="915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6720" y="357120"/>
            <a:ext cx="226224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トヨ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4576680" y="4100400"/>
            <a:ext cx="5330880" cy="285768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0" name=""/>
          <p:cNvSpPr/>
          <p:nvPr/>
        </p:nvSpPr>
        <p:spPr>
          <a:xfrm>
            <a:off x="4908600" y="4365720"/>
            <a:ext cx="2900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トヨタ</a:t>
            </a: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じどうしゃ</a:t>
            </a: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6720" y="357120"/>
            <a:ext cx="226224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トヨ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4576680" y="4100400"/>
            <a:ext cx="5330880" cy="285768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4908600" y="4365720"/>
            <a:ext cx="2900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トヨタ</a:t>
            </a: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じどうしゃ</a:t>
            </a: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4829040" y="5610240"/>
            <a:ext cx="3916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つくっ</a:t>
            </a:r>
            <a:r>
              <a:rPr b="0" lang="ja-JP" sz="4400" spc="-1" strike="noStrike">
                <a:solidFill>
                  <a:srgbClr val="ff0000"/>
                </a:solidFill>
                <a:latin typeface="Y.Oz_F'04"/>
                <a:ea typeface="Y.OzN_'04"/>
              </a:rPr>
              <a:t>ています</a:t>
            </a: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6680" y="4102200"/>
            <a:ext cx="5330880" cy="285732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4908600" y="4367160"/>
            <a:ext cx="2797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スーパー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やさい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6680" y="4102200"/>
            <a:ext cx="5330880" cy="285732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8" name=""/>
          <p:cNvSpPr/>
          <p:nvPr/>
        </p:nvSpPr>
        <p:spPr>
          <a:xfrm>
            <a:off x="4908600" y="4367160"/>
            <a:ext cx="2797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スーパー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やさい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4829040" y="5610240"/>
            <a:ext cx="3916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うっ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ています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43480" y="266760"/>
            <a:ext cx="3879720" cy="3066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4280" y="1190520"/>
            <a:ext cx="2273400" cy="7094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5743440"/>
            <a:ext cx="9034560" cy="15415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02080" y="3473280"/>
            <a:ext cx="3017520" cy="32256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924520" y="2913120"/>
            <a:ext cx="323064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543480" y="266760"/>
            <a:ext cx="3879720" cy="3066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4280" y="1190520"/>
            <a:ext cx="2273400" cy="709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5743440"/>
            <a:ext cx="9034560" cy="15415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43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かね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たくさん</a:t>
            </a:r>
            <a:r>
              <a:rPr b="0" lang="ja-JP" sz="44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もっています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602080" y="3473280"/>
            <a:ext cx="3017520" cy="32256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924520" y="2913120"/>
            <a:ext cx="323064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662040"/>
            <a:ext cx="9909000" cy="1535040"/>
          </a:xfrm>
          <a:prstGeom prst="roundRect">
            <a:avLst>
              <a:gd name="adj" fmla="val 116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やまださん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こども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もってい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754240" y="806400"/>
            <a:ext cx="3040200" cy="1120680"/>
            <a:chOff x="5754240" y="806400"/>
            <a:chExt cx="3040200" cy="1120680"/>
          </a:xfrm>
        </p:grpSpPr>
        <p:sp>
          <p:nvSpPr>
            <p:cNvPr id="132" name=""/>
            <p:cNvSpPr/>
            <p:nvPr/>
          </p:nvSpPr>
          <p:spPr>
            <a:xfrm>
              <a:off x="5757480" y="806400"/>
              <a:ext cx="3033720" cy="112068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754240" y="806400"/>
              <a:ext cx="3040200" cy="112068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459320" y="1781280"/>
            <a:ext cx="5621400" cy="1535040"/>
          </a:xfrm>
          <a:prstGeom prst="roundRect">
            <a:avLst>
              <a:gd name="adj" fmla="val 116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こども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69000" y="2849400"/>
            <a:ext cx="2143080" cy="6667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722680" y="1986120"/>
            <a:ext cx="2466720" cy="752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721400" y="4765680"/>
            <a:ext cx="1857240" cy="5000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941560" y="4734000"/>
            <a:ext cx="196236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3840" y="4110120"/>
            <a:ext cx="9744120" cy="3281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81200" y="684360"/>
            <a:ext cx="6402240" cy="556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77040" y="3544920"/>
            <a:ext cx="1277640" cy="15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6040" y="357120"/>
            <a:ext cx="9657000" cy="12970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692280" y="714240"/>
            <a:ext cx="24397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ボルドー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"/>
          <p:cNvSpPr/>
          <p:nvPr/>
        </p:nvSpPr>
        <p:spPr>
          <a:xfrm>
            <a:off x="2857680" y="6297480"/>
            <a:ext cx="3722400" cy="793800"/>
          </a:xfrm>
          <a:prstGeom prst="roundRect">
            <a:avLst>
              <a:gd name="adj" fmla="val 19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.Oz_F'04"/>
                <a:ea typeface="Y.OzN_'04"/>
              </a:rPr>
              <a:t>ボルドー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62040"/>
            <a:ext cx="9825120" cy="2989080"/>
          </a:xfrm>
          <a:prstGeom prst="roundRect">
            <a:avLst>
              <a:gd name="adj" fmla="val 60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やくそく</a:t>
            </a:r>
            <a:r>
              <a:rPr b="0" lang="ja-JP" sz="40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もってい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じかん</a:t>
            </a:r>
            <a:r>
              <a:rPr b="0" lang="ja-JP" sz="40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もってい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62480" y="860400"/>
            <a:ext cx="3039840" cy="2382840"/>
            <a:chOff x="3462480" y="860400"/>
            <a:chExt cx="3039840" cy="2382840"/>
          </a:xfrm>
        </p:grpSpPr>
        <p:sp>
          <p:nvSpPr>
            <p:cNvPr id="141" name=""/>
            <p:cNvSpPr/>
            <p:nvPr/>
          </p:nvSpPr>
          <p:spPr>
            <a:xfrm>
              <a:off x="3466800" y="860400"/>
              <a:ext cx="3033360" cy="23828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462480" y="860400"/>
              <a:ext cx="3039840" cy="23828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01600" y="3792600"/>
            <a:ext cx="9877320" cy="2851200"/>
          </a:xfrm>
          <a:prstGeom prst="roundRect">
            <a:avLst>
              <a:gd name="adj" fmla="val 6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やくそく</a:t>
            </a:r>
            <a:r>
              <a:rPr b="0" lang="ja-JP" sz="4000" spc="-1" strike="noStrike">
                <a:solidFill>
                  <a:srgbClr val="800000"/>
                </a:solidFill>
                <a:latin typeface="Y.Oz_F'04"/>
                <a:ea typeface="Y.OzN_'04"/>
              </a:rPr>
              <a:t>が </a:t>
            </a: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あり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じかん</a:t>
            </a:r>
            <a:r>
              <a:rPr b="0" lang="ja-JP" sz="4000" spc="-1" strike="noStrike">
                <a:solidFill>
                  <a:srgbClr val="800000"/>
                </a:solidFill>
                <a:latin typeface="Y.Oz_F'04"/>
                <a:ea typeface="Y.OzN_'04"/>
              </a:rPr>
              <a:t>が </a:t>
            </a: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あり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1360" y="820800"/>
            <a:ext cx="9909360" cy="1535040"/>
          </a:xfrm>
          <a:prstGeom prst="roundRect">
            <a:avLst>
              <a:gd name="adj" fmla="val 116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ジョニー・アリデー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しっ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ています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171360" y="5245200"/>
            <a:ext cx="9909360" cy="1535040"/>
          </a:xfrm>
          <a:prstGeom prst="roundRect">
            <a:avLst>
              <a:gd name="adj" fmla="val 116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しり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ません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 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×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しってい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775640" y="3444840"/>
            <a:ext cx="2031840" cy="3278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78200" y="4255920"/>
            <a:ext cx="2032200" cy="3278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91120" y="3544920"/>
            <a:ext cx="2287440" cy="4562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440160" y="5492880"/>
            <a:ext cx="3002040" cy="2684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232760" y="209700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723000" y="4514760"/>
            <a:ext cx="3002040" cy="2683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1387440" y="2116080"/>
            <a:ext cx="1946160" cy="6418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17680" y="519120"/>
            <a:ext cx="9158040" cy="1062000"/>
          </a:xfrm>
          <a:prstGeom prst="roundRect">
            <a:avLst>
              <a:gd name="adj" fmla="val 169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2922480" y="844560"/>
            <a:ext cx="5842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なか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いたいです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949320" y="149400"/>
            <a:ext cx="1219320" cy="139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775640" y="3444840"/>
            <a:ext cx="2031840" cy="3278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78200" y="4255920"/>
            <a:ext cx="2032200" cy="327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191120" y="3544920"/>
            <a:ext cx="2287440" cy="4562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440160" y="5492880"/>
            <a:ext cx="3002040" cy="2684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232760" y="209700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6723000" y="4514760"/>
            <a:ext cx="3002040" cy="2683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1387440" y="2116080"/>
            <a:ext cx="1946160" cy="6418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17680" y="519120"/>
            <a:ext cx="9180360" cy="1601640"/>
          </a:xfrm>
          <a:prstGeom prst="roundRect">
            <a:avLst>
              <a:gd name="adj" fmla="val 11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949320" y="149400"/>
            <a:ext cx="1219320" cy="1390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727360" y="822240"/>
            <a:ext cx="1895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かえります→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775640" y="3444840"/>
            <a:ext cx="2031840" cy="327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78200" y="4255920"/>
            <a:ext cx="2032200" cy="3278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191120" y="3544920"/>
            <a:ext cx="2287440" cy="456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440160" y="5492880"/>
            <a:ext cx="3002040" cy="2684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232760" y="209700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723000" y="4514760"/>
            <a:ext cx="3002040" cy="268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1387440" y="2116080"/>
            <a:ext cx="1946160" cy="6418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7680" y="519120"/>
            <a:ext cx="9180360" cy="1601640"/>
          </a:xfrm>
          <a:prstGeom prst="roundRect">
            <a:avLst>
              <a:gd name="adj" fmla="val 11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3679920" y="1363680"/>
            <a:ext cx="5587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ff"/>
                </a:solidFill>
                <a:latin typeface="Y.OzN_'04"/>
                <a:ea typeface="Y.OzN_'04"/>
              </a:rPr>
              <a:t>かえって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もいいですか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949320" y="149400"/>
            <a:ext cx="1219320" cy="1390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27360" y="822240"/>
            <a:ext cx="1895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かえります→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775640" y="3444840"/>
            <a:ext cx="2031840" cy="3278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78200" y="4255920"/>
            <a:ext cx="2032200" cy="3278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191120" y="3544920"/>
            <a:ext cx="2287440" cy="4562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440160" y="5492880"/>
            <a:ext cx="3002040" cy="2684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232760" y="209700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6723000" y="4514760"/>
            <a:ext cx="3002040" cy="2683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1387440" y="2116080"/>
            <a:ext cx="1946160" cy="6418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7680" y="519120"/>
            <a:ext cx="9180360" cy="1601640"/>
          </a:xfrm>
          <a:prstGeom prst="roundRect">
            <a:avLst>
              <a:gd name="adj" fmla="val 11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949320" y="149400"/>
            <a:ext cx="1219320" cy="1390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727360" y="822240"/>
            <a:ext cx="768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kachan"/>
                <a:ea typeface="mikachan"/>
              </a:rPr>
              <a:t>OK→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775640" y="3444840"/>
            <a:ext cx="2031840" cy="3278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678200" y="4255920"/>
            <a:ext cx="2032200" cy="3278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191120" y="3544920"/>
            <a:ext cx="2287440" cy="4562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440160" y="5492880"/>
            <a:ext cx="3002040" cy="2684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7232760" y="209700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723000" y="4514760"/>
            <a:ext cx="3002040" cy="2683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387440" y="2116080"/>
            <a:ext cx="1946160" cy="6418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17680" y="519120"/>
            <a:ext cx="9180360" cy="1601640"/>
          </a:xfrm>
          <a:prstGeom prst="roundRect">
            <a:avLst>
              <a:gd name="adj" fmla="val 11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3679920" y="1363680"/>
            <a:ext cx="5587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いいです（よ）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949320" y="149400"/>
            <a:ext cx="1219320" cy="139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727360" y="822240"/>
            <a:ext cx="768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kachan"/>
                <a:ea typeface="mikachan"/>
              </a:rPr>
              <a:t>OK→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06320" y="185760"/>
            <a:ext cx="8286840" cy="1638360"/>
          </a:xfrm>
          <a:prstGeom prst="roundRect">
            <a:avLst>
              <a:gd name="adj" fmla="val 1094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541920" y="2987640"/>
            <a:ext cx="2399040" cy="4017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459400" y="1515960"/>
            <a:ext cx="3449520" cy="6504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308400" y="2921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92280" y="1663560"/>
            <a:ext cx="2990880" cy="5896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27120" y="4025880"/>
            <a:ext cx="7404120" cy="4681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387680" y="4805280"/>
            <a:ext cx="1587600" cy="625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1481040" y="325440"/>
            <a:ext cx="121932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06320" y="185760"/>
            <a:ext cx="8286840" cy="1638360"/>
          </a:xfrm>
          <a:prstGeom prst="roundRect">
            <a:avLst>
              <a:gd name="adj" fmla="val 1094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3371760" y="385920"/>
            <a:ext cx="558792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ばこ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すっ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てもいいですか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541920" y="2987640"/>
            <a:ext cx="2399040" cy="4017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459400" y="1515960"/>
            <a:ext cx="3449520" cy="6504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308400" y="2921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492280" y="1663560"/>
            <a:ext cx="2990880" cy="5896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627120" y="4025880"/>
            <a:ext cx="7404120" cy="4681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387680" y="4805280"/>
            <a:ext cx="1587600" cy="625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1481040" y="325440"/>
            <a:ext cx="121932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541920" y="2987640"/>
            <a:ext cx="2399040" cy="4017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459400" y="1515960"/>
            <a:ext cx="3449520" cy="6504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308400" y="2921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492280" y="1663560"/>
            <a:ext cx="2990880" cy="5896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27120" y="4025880"/>
            <a:ext cx="7404120" cy="4681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387680" y="4805280"/>
            <a:ext cx="1587600" cy="625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320" y="185760"/>
            <a:ext cx="8286840" cy="1638360"/>
          </a:xfrm>
          <a:prstGeom prst="roundRect">
            <a:avLst>
              <a:gd name="adj" fmla="val 1094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793800" y="304920"/>
            <a:ext cx="9777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840" y="4110120"/>
            <a:ext cx="9744120" cy="3281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81200" y="684360"/>
            <a:ext cx="6402240" cy="556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77040" y="3544920"/>
            <a:ext cx="1277640" cy="158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6040" y="357120"/>
            <a:ext cx="9657000" cy="12970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714240"/>
            <a:ext cx="24397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ボルドー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674640"/>
            <a:ext cx="5177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に</a:t>
            </a:r>
            <a:r>
              <a:rPr b="0" lang="en-US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 すんでい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"/>
          <p:cNvSpPr/>
          <p:nvPr/>
        </p:nvSpPr>
        <p:spPr>
          <a:xfrm>
            <a:off x="2857680" y="6297480"/>
            <a:ext cx="3722400" cy="793800"/>
          </a:xfrm>
          <a:prstGeom prst="roundRect">
            <a:avLst>
              <a:gd name="adj" fmla="val 19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.Oz_F'04"/>
                <a:ea typeface="Y.OzN_'04"/>
              </a:rPr>
              <a:t>ボルドー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41920" y="2987640"/>
            <a:ext cx="2399040" cy="4017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459400" y="1515960"/>
            <a:ext cx="3449520" cy="6504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308400" y="2921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2492280" y="1663560"/>
            <a:ext cx="2990880" cy="5896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27120" y="4025880"/>
            <a:ext cx="7404120" cy="4681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4387680" y="4805280"/>
            <a:ext cx="1587600" cy="625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06320" y="185760"/>
            <a:ext cx="8286840" cy="1638360"/>
          </a:xfrm>
          <a:prstGeom prst="roundRect">
            <a:avLst>
              <a:gd name="adj" fmla="val 1094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2243160" y="536400"/>
            <a:ext cx="679608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すみません。ちょっと…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793800" y="304920"/>
            <a:ext cx="97776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541920" y="2987640"/>
            <a:ext cx="2399040" cy="4017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459400" y="1515960"/>
            <a:ext cx="3449520" cy="6504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308400" y="2921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2492280" y="1663560"/>
            <a:ext cx="2990880" cy="5896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627120" y="4025880"/>
            <a:ext cx="7404120" cy="4681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387680" y="4805280"/>
            <a:ext cx="1587600" cy="625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06320" y="185760"/>
            <a:ext cx="8286840" cy="1638360"/>
          </a:xfrm>
          <a:prstGeom prst="roundRect">
            <a:avLst>
              <a:gd name="adj" fmla="val 1094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9" name=""/>
          <p:cNvSpPr/>
          <p:nvPr/>
        </p:nvSpPr>
        <p:spPr>
          <a:xfrm>
            <a:off x="2243160" y="474840"/>
            <a:ext cx="679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すみません。ちょっと…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793800" y="304920"/>
            <a:ext cx="977760" cy="1390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84320" y="1138320"/>
            <a:ext cx="73789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のど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en-US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いたいですから…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492960" y="1994040"/>
            <a:ext cx="2279520" cy="728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みかちゃん"/>
              </a:rPr>
              <a:t>No smoking!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4400" y="3619440"/>
            <a:ext cx="2408040" cy="5884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87280" y="2990880"/>
            <a:ext cx="2901960" cy="668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5" name=""/>
          <p:cNvSpPr/>
          <p:nvPr/>
        </p:nvSpPr>
        <p:spPr>
          <a:xfrm>
            <a:off x="795240" y="90648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2960" y="1994040"/>
            <a:ext cx="2279520" cy="728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みかちゃん"/>
              </a:rPr>
              <a:t>No smoking!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864400" y="3619440"/>
            <a:ext cx="2408040" cy="5884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87280" y="2990880"/>
            <a:ext cx="2901960" cy="668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795240" y="90648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ここ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たばこ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すっ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てはいけ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74640" y="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149640" y="5468760"/>
            <a:ext cx="5661000" cy="186408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74640" y="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149640" y="5468760"/>
            <a:ext cx="5661000" cy="186408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ゃしん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とっ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てはいけ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131760" y="25884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983040" y="501984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はいっ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てはいけ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838840" y="2660760"/>
            <a:ext cx="1305000" cy="1311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862440" y="2289240"/>
            <a:ext cx="1552680" cy="1558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3475080" y="1763640"/>
            <a:ext cx="934920" cy="935280"/>
          </a:xfrm>
          <a:prstGeom prst="line">
            <a:avLst/>
          </a:prstGeom>
          <a:ln w="14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471480" y="1763640"/>
            <a:ext cx="941400" cy="935280"/>
          </a:xfrm>
          <a:prstGeom prst="line">
            <a:avLst/>
          </a:prstGeom>
          <a:ln w="14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131760" y="25884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83040" y="501984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はいっ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てはいけ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838840" y="2660760"/>
            <a:ext cx="1305000" cy="1311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862440" y="2289240"/>
            <a:ext cx="1552680" cy="1558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4" name=""/>
          <p:cNvSpPr/>
          <p:nvPr/>
        </p:nvSpPr>
        <p:spPr>
          <a:xfrm>
            <a:off x="3475080" y="1763640"/>
            <a:ext cx="934920" cy="935280"/>
          </a:xfrm>
          <a:prstGeom prst="line">
            <a:avLst/>
          </a:prstGeom>
          <a:ln w="14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71480" y="1763640"/>
            <a:ext cx="941400" cy="935280"/>
          </a:xfrm>
          <a:prstGeom prst="line">
            <a:avLst/>
          </a:prstGeom>
          <a:ln w="14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983040" y="505476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983040" y="505476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べもの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あげ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てはいけ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55480" y="1401840"/>
            <a:ext cx="8664840" cy="1440"/>
          </a:xfrm>
          <a:prstGeom prst="line">
            <a:avLst/>
          </a:prstGeom>
          <a:ln w="360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"/>
          <p:cNvSpPr/>
          <p:nvPr/>
        </p:nvSpPr>
        <p:spPr>
          <a:xfrm>
            <a:off x="3147840" y="2522520"/>
            <a:ext cx="2971800" cy="74124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んで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171360" y="2500200"/>
            <a:ext cx="2862360" cy="7416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んでいま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6411960" y="2557440"/>
            <a:ext cx="2487600" cy="741240"/>
          </a:xfrm>
          <a:prstGeom prst="roundRect">
            <a:avLst>
              <a:gd name="adj" fmla="val 21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み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3483000" y="811080"/>
            <a:ext cx="1649520" cy="104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mikachan"/>
                <a:ea typeface="mikachan"/>
              </a:rPr>
              <a:t>いま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222960" y="4400640"/>
            <a:ext cx="3373560" cy="55148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043080" y="2782800"/>
            <a:ext cx="3372120" cy="5516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235240" y="1587600"/>
            <a:ext cx="3616200" cy="7678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987480" y="4863960"/>
            <a:ext cx="4983120" cy="4516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321160" y="2130480"/>
            <a:ext cx="4203720" cy="91933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4475160" y="6200640"/>
            <a:ext cx="4983120" cy="451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305000" y="704880"/>
            <a:ext cx="6985080" cy="4321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7" name=""/>
          <p:cNvSpPr/>
          <p:nvPr/>
        </p:nvSpPr>
        <p:spPr>
          <a:xfrm>
            <a:off x="3983040" y="505476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222960" y="4400640"/>
            <a:ext cx="3373560" cy="55148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043080" y="2782800"/>
            <a:ext cx="3372120" cy="5516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235240" y="1587600"/>
            <a:ext cx="3616200" cy="7678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987480" y="4863960"/>
            <a:ext cx="4983120" cy="4516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5321160" y="2130480"/>
            <a:ext cx="4203720" cy="9193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4475160" y="6200640"/>
            <a:ext cx="4983120" cy="45151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305000" y="704880"/>
            <a:ext cx="6985080" cy="4321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5" name=""/>
          <p:cNvSpPr/>
          <p:nvPr/>
        </p:nvSpPr>
        <p:spPr>
          <a:xfrm>
            <a:off x="3983040" y="501984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んわ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かけ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てはいけ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85760" y="46980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83040" y="505476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85760" y="46980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983040" y="5019840"/>
            <a:ext cx="566100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てはいけ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55480" y="1401840"/>
            <a:ext cx="8664840" cy="1440"/>
          </a:xfrm>
          <a:prstGeom prst="line">
            <a:avLst/>
          </a:prstGeom>
          <a:ln w="360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2730600" y="1890720"/>
            <a:ext cx="3902040" cy="110664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けっこんして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123840" y="1957320"/>
            <a:ext cx="2552760" cy="719280"/>
          </a:xfrm>
          <a:prstGeom prst="roundRect">
            <a:avLst>
              <a:gd name="adj" fmla="val 21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4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けっこんしまし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3678120" y="846000"/>
            <a:ext cx="1019160" cy="1005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_F'04"/>
              </a:rPr>
              <a:t>いま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05160" y="3562200"/>
            <a:ext cx="4068720" cy="5160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52680" y="3103560"/>
            <a:ext cx="1833480" cy="56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5480" y="1401840"/>
            <a:ext cx="8664840" cy="1440"/>
          </a:xfrm>
          <a:prstGeom prst="line">
            <a:avLst/>
          </a:prstGeom>
          <a:ln w="360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3678120" y="846000"/>
            <a:ext cx="1019160" cy="1005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_F'04"/>
              </a:rPr>
              <a:t>いま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391440" y="3460680"/>
            <a:ext cx="3309840" cy="38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06960" y="2116080"/>
            <a:ext cx="3783240" cy="88272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けっこんし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1760" y="225360"/>
            <a:ext cx="5330880" cy="285768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330120" y="463680"/>
            <a:ext cx="42912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いしゃ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2040" y="888840"/>
            <a:ext cx="3562200" cy="602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1760" y="225360"/>
            <a:ext cx="5330880" cy="285768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"/>
          <p:cNvSpPr/>
          <p:nvPr/>
        </p:nvSpPr>
        <p:spPr>
          <a:xfrm>
            <a:off x="330120" y="463680"/>
            <a:ext cx="42912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いしゃ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422280" y="1217520"/>
            <a:ext cx="4297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びょういん</a:t>
            </a: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で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はたらい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ています</a:t>
            </a: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72040" y="888840"/>
            <a:ext cx="3562200" cy="602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1760" y="225360"/>
            <a:ext cx="5330880" cy="285768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422280" y="1217520"/>
            <a:ext cx="22384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ソニー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13240" y="1573200"/>
            <a:ext cx="3073680" cy="890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22:21:23Z</dcterms:created>
  <dc:creator/>
  <dc:description/>
  <dc:language>en-US</dc:language>
  <cp:lastModifiedBy/>
  <dcterms:modified xsi:type="dcterms:W3CDTF">2016-05-24T19:23:35Z</dcterms:modified>
  <cp:revision>40</cp:revision>
  <dc:subject/>
  <dc:title/>
</cp:coreProperties>
</file>