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17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219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032360"/>
            <a:ext cx="395892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い 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ないでくださ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なければなり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なくてもいい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55840" y="2300400"/>
            <a:ext cx="5857920" cy="988920"/>
          </a:xfrm>
          <a:prstGeom prst="wedgeRoundRectCallout">
            <a:avLst>
              <a:gd name="adj1" fmla="val -42666"/>
              <a:gd name="adj2" fmla="val 7795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55840" y="2300400"/>
            <a:ext cx="5857920" cy="988920"/>
          </a:xfrm>
          <a:prstGeom prst="wedgeRoundRectCallout">
            <a:avLst>
              <a:gd name="adj1" fmla="val -42666"/>
              <a:gd name="adj2" fmla="val 7795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1743120" y="26240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ら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3678120"/>
            <a:ext cx="3373560" cy="5515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917800" y="3676680"/>
            <a:ext cx="337176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08160" y="1514520"/>
            <a:ext cx="3616200" cy="767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61840" y="4676760"/>
            <a:ext cx="4983480" cy="451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230800" y="196920"/>
            <a:ext cx="4203720" cy="9193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349880" y="4678200"/>
            <a:ext cx="4983120" cy="451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65360" y="847800"/>
            <a:ext cx="5649840" cy="4321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-125280" y="4941720"/>
            <a:ext cx="7205400" cy="1006560"/>
          </a:xfrm>
          <a:prstGeom prst="wedgeRoundRectCallout">
            <a:avLst>
              <a:gd name="adj1" fmla="val -44041"/>
              <a:gd name="adj2" fmla="val 757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5880" y="3678120"/>
            <a:ext cx="3373560" cy="5515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17800" y="3676680"/>
            <a:ext cx="3371760" cy="551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108160" y="1514520"/>
            <a:ext cx="3616200" cy="767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61840" y="4676760"/>
            <a:ext cx="4983480" cy="451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230800" y="196920"/>
            <a:ext cx="4203720" cy="919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349880" y="4678200"/>
            <a:ext cx="4983120" cy="4515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65360" y="847800"/>
            <a:ext cx="5649840" cy="4321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-125280" y="4941720"/>
            <a:ext cx="7205400" cy="1006560"/>
          </a:xfrm>
          <a:prstGeom prst="wedgeRoundRectCallout">
            <a:avLst>
              <a:gd name="adj1" fmla="val -44041"/>
              <a:gd name="adj2" fmla="val 757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163440" y="52657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をかけ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5080" y="4943520"/>
            <a:ext cx="5283000" cy="1006560"/>
          </a:xfrm>
          <a:prstGeom prst="wedgeRoundRectCallout">
            <a:avLst>
              <a:gd name="adj1" fmla="val -41865"/>
              <a:gd name="adj2" fmla="val 757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5080" y="4943520"/>
            <a:ext cx="5283000" cy="1006560"/>
          </a:xfrm>
          <a:prstGeom prst="wedgeRoundRectCallout">
            <a:avLst>
              <a:gd name="adj1" fmla="val -41865"/>
              <a:gd name="adj2" fmla="val 757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265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ね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5760" y="714240"/>
            <a:ext cx="878220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58840"/>
            <a:ext cx="2282760" cy="712800"/>
          </a:xfrm>
          <a:prstGeom prst="roundRect">
            <a:avLst>
              <a:gd name="adj" fmla="val 2522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il faut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5760" y="714240"/>
            <a:ext cx="878220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622440" y="1177920"/>
            <a:ext cx="7621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なり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58840"/>
            <a:ext cx="2282760" cy="712800"/>
          </a:xfrm>
          <a:prstGeom prst="roundRect">
            <a:avLst>
              <a:gd name="adj" fmla="val 2522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il faut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5760" y="714240"/>
            <a:ext cx="817092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622440" y="1177920"/>
            <a:ext cx="7621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なり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2462040"/>
            <a:ext cx="8124840" cy="127656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268200" y="3881520"/>
            <a:ext cx="8124840" cy="12762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くては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268200" y="5769000"/>
            <a:ext cx="8124840" cy="12762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いと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5760" y="714240"/>
            <a:ext cx="817092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622440" y="1177920"/>
            <a:ext cx="7621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なり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285840" y="2462040"/>
            <a:ext cx="8124840" cy="127656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268200" y="3881520"/>
            <a:ext cx="8124840" cy="12762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くては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268200" y="5769000"/>
            <a:ext cx="8124840" cy="12762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いといけ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55840" y="2300400"/>
            <a:ext cx="7637400" cy="988920"/>
          </a:xfrm>
          <a:prstGeom prst="wedgeRoundRectCallout">
            <a:avLst>
              <a:gd name="adj1" fmla="val -44375"/>
              <a:gd name="adj2" fmla="val 7795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V="1">
            <a:off x="2592360" y="2125800"/>
            <a:ext cx="4551480" cy="1303200"/>
          </a:xfrm>
          <a:prstGeom prst="line">
            <a:avLst/>
          </a:prstGeom>
          <a:ln w="50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91160" y="431640"/>
            <a:ext cx="3249720" cy="28242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210960" y="252360"/>
            <a:ext cx="6810480" cy="1649520"/>
            <a:chOff x="210960" y="252360"/>
            <a:chExt cx="6810480" cy="1649520"/>
          </a:xfrm>
        </p:grpSpPr>
        <p:sp>
          <p:nvSpPr>
            <p:cNvPr id="159" name=""/>
            <p:cNvSpPr/>
            <p:nvPr/>
          </p:nvSpPr>
          <p:spPr>
            <a:xfrm>
              <a:off x="210960" y="252360"/>
              <a:ext cx="6810480" cy="1649520"/>
            </a:xfrm>
            <a:prstGeom prst="roundRect">
              <a:avLst>
                <a:gd name="adj" fmla="val 1086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ほんへいきますから…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71440" y="2455920"/>
            <a:ext cx="2401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141120" y="2562120"/>
            <a:ext cx="3392280" cy="563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4360" y="1517760"/>
            <a:ext cx="1176120" cy="1376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398760" y="1530360"/>
            <a:ext cx="356256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5760" y="714240"/>
            <a:ext cx="811692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622440" y="1177920"/>
            <a:ext cx="7621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ければなり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7160" y="409680"/>
            <a:ext cx="73152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7160" y="409680"/>
            <a:ext cx="73152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が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くてもいい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43760" y="131760"/>
            <a:ext cx="3255840" cy="4091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243320" y="3035160"/>
            <a:ext cx="2981520" cy="684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22320" y="2274840"/>
            <a:ext cx="1666800" cy="33339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79280" y="4681440"/>
            <a:ext cx="4248360" cy="2748240"/>
            <a:chOff x="179280" y="4681440"/>
            <a:chExt cx="4248360" cy="2748240"/>
          </a:xfrm>
        </p:grpSpPr>
        <p:sp>
          <p:nvSpPr>
            <p:cNvPr id="175" name=""/>
            <p:cNvSpPr/>
            <p:nvPr/>
          </p:nvSpPr>
          <p:spPr>
            <a:xfrm>
              <a:off x="179280" y="4681440"/>
              <a:ext cx="4248360" cy="274824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9280" y="4681440"/>
              <a:ext cx="424836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280" y="4681440"/>
              <a:ext cx="685800" cy="274824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025880" y="3827520"/>
            <a:ext cx="2192400" cy="2408040"/>
          </a:xfrm>
          <a:custGeom>
            <a:avLst/>
            <a:gdLst/>
            <a:ahLst/>
            <a:rect l="l" t="t" r="r" b="b"/>
            <a:pathLst>
              <a:path w="6091" h="6691">
                <a:moveTo>
                  <a:pt x="0" y="0"/>
                </a:moveTo>
                <a:lnTo>
                  <a:pt x="6090" y="6690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4025880" y="3827520"/>
            <a:ext cx="2192400" cy="2408040"/>
          </a:xfrm>
          <a:custGeom>
            <a:avLst/>
            <a:gdLst/>
            <a:ahLst/>
            <a:rect l="l" t="t" r="r" b="b"/>
            <a:pathLst>
              <a:path w="6091" h="6691">
                <a:moveTo>
                  <a:pt x="6090" y="0"/>
                </a:moveTo>
                <a:lnTo>
                  <a:pt x="0" y="6690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227160" y="409680"/>
            <a:ext cx="8956440" cy="1296720"/>
          </a:xfrm>
          <a:prstGeom prst="roundRect">
            <a:avLst>
              <a:gd name="adj" fmla="val 138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43760" y="131760"/>
            <a:ext cx="3255840" cy="4091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243320" y="3035160"/>
            <a:ext cx="2981520" cy="6848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22320" y="2274840"/>
            <a:ext cx="1666800" cy="33339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79280" y="4681440"/>
            <a:ext cx="4248360" cy="2748240"/>
            <a:chOff x="179280" y="4681440"/>
            <a:chExt cx="4248360" cy="2748240"/>
          </a:xfrm>
        </p:grpSpPr>
        <p:sp>
          <p:nvSpPr>
            <p:cNvPr id="185" name=""/>
            <p:cNvSpPr/>
            <p:nvPr/>
          </p:nvSpPr>
          <p:spPr>
            <a:xfrm>
              <a:off x="179280" y="4681440"/>
              <a:ext cx="4248360" cy="274824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9280" y="4681440"/>
              <a:ext cx="424836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9280" y="4681440"/>
              <a:ext cx="685800" cy="274824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025880" y="3827520"/>
            <a:ext cx="2192400" cy="2408040"/>
          </a:xfrm>
          <a:custGeom>
            <a:avLst/>
            <a:gdLst/>
            <a:ahLst/>
            <a:rect l="l" t="t" r="r" b="b"/>
            <a:pathLst>
              <a:path w="6091" h="6691">
                <a:moveTo>
                  <a:pt x="0" y="0"/>
                </a:moveTo>
                <a:lnTo>
                  <a:pt x="6090" y="6690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4025880" y="3827520"/>
            <a:ext cx="2192400" cy="2408040"/>
          </a:xfrm>
          <a:custGeom>
            <a:avLst/>
            <a:gdLst/>
            <a:ahLst/>
            <a:rect l="l" t="t" r="r" b="b"/>
            <a:pathLst>
              <a:path w="6091" h="6691">
                <a:moveTo>
                  <a:pt x="6090" y="0"/>
                </a:moveTo>
                <a:lnTo>
                  <a:pt x="0" y="6690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227160" y="409680"/>
            <a:ext cx="8956440" cy="1296720"/>
          </a:xfrm>
          <a:prstGeom prst="roundRect">
            <a:avLst>
              <a:gd name="adj" fmla="val 138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ね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らわ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くてもいい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532560" y="2698920"/>
            <a:ext cx="2152800" cy="651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35040" y="2814480"/>
            <a:ext cx="1666800" cy="3333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0" y="5130720"/>
            <a:ext cx="4248000" cy="2747880"/>
            <a:chOff x="0" y="5130720"/>
            <a:chExt cx="4248000" cy="2747880"/>
          </a:xfrm>
        </p:grpSpPr>
        <p:sp>
          <p:nvSpPr>
            <p:cNvPr id="195" name=""/>
            <p:cNvSpPr/>
            <p:nvPr/>
          </p:nvSpPr>
          <p:spPr>
            <a:xfrm>
              <a:off x="0" y="513072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13072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513072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091280" y="119160"/>
            <a:ext cx="1416240" cy="1428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7738920" y="2371680"/>
            <a:ext cx="366840" cy="41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7797960" y="1654200"/>
            <a:ext cx="541080" cy="523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139160" y="517680"/>
            <a:ext cx="1222200" cy="514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65520" y="781200"/>
            <a:ext cx="4392360" cy="449280"/>
          </a:xfrm>
          <a:custGeom>
            <a:avLst/>
            <a:gdLst/>
            <a:ahLst/>
            <a:rect l="l" t="t" r="r" b="b"/>
            <a:pathLst>
              <a:path w="12202" h="1250">
                <a:moveTo>
                  <a:pt x="12201" y="0"/>
                </a:moveTo>
                <a:lnTo>
                  <a:pt x="0" y="124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6840" y="716040"/>
            <a:ext cx="2363760" cy="1425600"/>
            <a:chOff x="366840" y="716040"/>
            <a:chExt cx="2363760" cy="1425600"/>
          </a:xfrm>
        </p:grpSpPr>
        <p:sp>
          <p:nvSpPr>
            <p:cNvPr id="204" name=""/>
            <p:cNvSpPr/>
            <p:nvPr/>
          </p:nvSpPr>
          <p:spPr>
            <a:xfrm>
              <a:off x="366840" y="716040"/>
              <a:ext cx="2363760" cy="1425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414360" y="1114560"/>
              <a:ext cx="12193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768320" y="1046160"/>
              <a:ext cx="5256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71480" y="2030400"/>
            <a:ext cx="5442120" cy="1452600"/>
            <a:chOff x="1671480" y="2030400"/>
            <a:chExt cx="5442120" cy="1452600"/>
          </a:xfrm>
        </p:grpSpPr>
        <p:sp>
          <p:nvSpPr>
            <p:cNvPr id="208" name=""/>
            <p:cNvSpPr/>
            <p:nvPr/>
          </p:nvSpPr>
          <p:spPr>
            <a:xfrm>
              <a:off x="1671480" y="2030400"/>
              <a:ext cx="5442120" cy="1452600"/>
            </a:xfrm>
            <a:prstGeom prst="wedgeRoundRectCallout">
              <a:avLst>
                <a:gd name="adj1" fmla="val -43504"/>
                <a:gd name="adj2" fmla="val 65277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114560" y="1887480"/>
            <a:ext cx="1371600" cy="493920"/>
          </a:xfrm>
          <a:custGeom>
            <a:avLst/>
            <a:gdLst/>
            <a:ahLst/>
            <a:rect l="l" t="t" r="r" b="b"/>
            <a:pathLst>
              <a:path w="3808" h="1373">
                <a:moveTo>
                  <a:pt x="0" y="0"/>
                </a:moveTo>
                <a:lnTo>
                  <a:pt x="3807" y="137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532560" y="2698920"/>
            <a:ext cx="2152800" cy="651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5040" y="2814480"/>
            <a:ext cx="1666800" cy="33339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0" y="5130720"/>
            <a:ext cx="4248000" cy="2747880"/>
            <a:chOff x="0" y="5130720"/>
            <a:chExt cx="4248000" cy="2747880"/>
          </a:xfrm>
        </p:grpSpPr>
        <p:sp>
          <p:nvSpPr>
            <p:cNvPr id="214" name=""/>
            <p:cNvSpPr/>
            <p:nvPr/>
          </p:nvSpPr>
          <p:spPr>
            <a:xfrm>
              <a:off x="0" y="513072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13072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13072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091280" y="119160"/>
            <a:ext cx="1416240" cy="1428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7738920" y="2371680"/>
            <a:ext cx="366840" cy="41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7797960" y="1654200"/>
            <a:ext cx="541080" cy="523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139160" y="517680"/>
            <a:ext cx="1222200" cy="514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765520" y="781200"/>
            <a:ext cx="4392360" cy="449280"/>
          </a:xfrm>
          <a:custGeom>
            <a:avLst/>
            <a:gdLst/>
            <a:ahLst/>
            <a:rect l="l" t="t" r="r" b="b"/>
            <a:pathLst>
              <a:path w="12202" h="1250">
                <a:moveTo>
                  <a:pt x="12201" y="0"/>
                </a:moveTo>
                <a:lnTo>
                  <a:pt x="0" y="124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6840" y="716040"/>
            <a:ext cx="2363760" cy="1425600"/>
            <a:chOff x="366840" y="716040"/>
            <a:chExt cx="2363760" cy="1425600"/>
          </a:xfrm>
        </p:grpSpPr>
        <p:sp>
          <p:nvSpPr>
            <p:cNvPr id="223" name=""/>
            <p:cNvSpPr/>
            <p:nvPr/>
          </p:nvSpPr>
          <p:spPr>
            <a:xfrm>
              <a:off x="366840" y="716040"/>
              <a:ext cx="2363760" cy="1425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414360" y="1114560"/>
              <a:ext cx="12193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768320" y="1046160"/>
              <a:ext cx="5256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671480" y="2030400"/>
            <a:ext cx="5442120" cy="1452600"/>
            <a:chOff x="1671480" y="2030400"/>
            <a:chExt cx="5442120" cy="1452600"/>
          </a:xfrm>
        </p:grpSpPr>
        <p:sp>
          <p:nvSpPr>
            <p:cNvPr id="227" name=""/>
            <p:cNvSpPr/>
            <p:nvPr/>
          </p:nvSpPr>
          <p:spPr>
            <a:xfrm>
              <a:off x="1671480" y="2030400"/>
              <a:ext cx="5442120" cy="1452600"/>
            </a:xfrm>
            <a:prstGeom prst="wedgeRoundRectCallout">
              <a:avLst>
                <a:gd name="adj1" fmla="val -43504"/>
                <a:gd name="adj2" fmla="val 65277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0760" y="2246400"/>
              <a:ext cx="40608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722160"/>
                  <a:tab algn="l" pos="1446120"/>
                  <a:tab algn="l" pos="2170080"/>
                  <a:tab algn="l" pos="2894040"/>
                  <a:tab algn="l" pos="361800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r>
                <a:rPr b="0" lang="ja-JP" sz="4000" spc="-1" strike="noStrike" u="sng">
                  <a:solidFill>
                    <a:srgbClr val="000000"/>
                  </a:solidFill>
                  <a:uFillTx/>
                  <a:latin typeface="YOzFontNP04"/>
                  <a:ea typeface="YOzFontNP04"/>
                </a:rPr>
                <a:t>ほん</a:t>
              </a:r>
              <a:r>
                <a:rPr b="0" lang="ja-JP" sz="40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は 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こ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で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2000"/>
                </a:lnSpc>
                <a:tabLst>
                  <a:tab algn="l" pos="0"/>
                  <a:tab algn="l" pos="722160"/>
                  <a:tab algn="l" pos="1446120"/>
                  <a:tab algn="l" pos="2170080"/>
                  <a:tab algn="l" pos="2894040"/>
                  <a:tab algn="l" pos="361800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りてください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14560" y="1887480"/>
            <a:ext cx="1371600" cy="493920"/>
          </a:xfrm>
          <a:custGeom>
            <a:avLst/>
            <a:gdLst/>
            <a:ahLst/>
            <a:rect l="l" t="t" r="r" b="b"/>
            <a:pathLst>
              <a:path w="3808" h="1373">
                <a:moveTo>
                  <a:pt x="0" y="0"/>
                </a:moveTo>
                <a:lnTo>
                  <a:pt x="3807" y="137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38160" y="476280"/>
            <a:ext cx="7112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くだ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うし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1255680"/>
            <a:ext cx="93456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しゅくだい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ばん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1084320" y="3517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ご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て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668840"/>
            <a:ext cx="8985240" cy="1854360"/>
          </a:xfrm>
          <a:prstGeom prst="roundRect">
            <a:avLst>
              <a:gd name="adj" fmla="val 96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55840" y="2300400"/>
            <a:ext cx="7637400" cy="988920"/>
          </a:xfrm>
          <a:prstGeom prst="wedgeRoundRectCallout">
            <a:avLst>
              <a:gd name="adj1" fmla="val -44375"/>
              <a:gd name="adj2" fmla="val 7795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1743120" y="262404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し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ら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38160" y="476280"/>
            <a:ext cx="7112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くだ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うし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414360" y="1255680"/>
            <a:ext cx="93456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しゅくだい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ばん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1084320" y="3517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ご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て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668840"/>
            <a:ext cx="8985240" cy="1854360"/>
          </a:xfrm>
          <a:prstGeom prst="roundRect">
            <a:avLst>
              <a:gd name="adj" fmla="val 96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ちゅうごくご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てい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74640" y="1058760"/>
            <a:ext cx="8771040" cy="180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7156440" y="1203480"/>
            <a:ext cx="170640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8004240" y="277920"/>
            <a:ext cx="1440" cy="647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407880" y="1203480"/>
            <a:ext cx="671832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3095640"/>
            <a:ext cx="8770680" cy="144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7104240" y="3241800"/>
            <a:ext cx="170640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6707160" y="2408400"/>
            <a:ext cx="1440" cy="647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3968640"/>
            <a:ext cx="6717960" cy="93996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400560" y="3184200"/>
            <a:ext cx="1440" cy="787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2778120" y="2381400"/>
            <a:ext cx="1440" cy="701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674640" y="5305320"/>
            <a:ext cx="8771040" cy="180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7157880" y="5451480"/>
            <a:ext cx="170676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465120" y="6178680"/>
            <a:ext cx="671832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2170080" y="5291280"/>
            <a:ext cx="5702400" cy="1440"/>
          </a:xfrm>
          <a:prstGeom prst="line">
            <a:avLst/>
          </a:prstGeom>
          <a:ln w="25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3797280" y="3425760"/>
            <a:ext cx="1689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2976480" y="2579760"/>
            <a:ext cx="1689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6721560" y="2421000"/>
            <a:ext cx="1689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74640" y="1058760"/>
            <a:ext cx="8771040" cy="180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7156440" y="1203480"/>
            <a:ext cx="170640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8004240" y="277920"/>
            <a:ext cx="1440" cy="647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407880" y="1203480"/>
            <a:ext cx="671832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9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つ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622440" y="3095640"/>
            <a:ext cx="8770680" cy="144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7104240" y="3241800"/>
            <a:ext cx="170640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6707160" y="2408400"/>
            <a:ext cx="1440" cy="647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412920" y="3968640"/>
            <a:ext cx="6717960" cy="93996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9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つ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までに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400560" y="3184200"/>
            <a:ext cx="1440" cy="787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2778120" y="2381400"/>
            <a:ext cx="1440" cy="701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674640" y="5305320"/>
            <a:ext cx="8771040" cy="1800"/>
          </a:xfrm>
          <a:prstGeom prst="line">
            <a:avLst/>
          </a:prstGeom>
          <a:ln w="21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7157880" y="5451480"/>
            <a:ext cx="1706760" cy="860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6178680"/>
            <a:ext cx="671832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9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つ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まで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2170080" y="5291280"/>
            <a:ext cx="5702400" cy="1440"/>
          </a:xfrm>
          <a:prstGeom prst="line">
            <a:avLst/>
          </a:prstGeom>
          <a:ln w="25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25760"/>
            <a:ext cx="1647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2976480" y="2579760"/>
            <a:ext cx="164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6721560" y="2421000"/>
            <a:ext cx="1647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(ou bien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46560" y="3881520"/>
            <a:ext cx="2408040" cy="11840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YOzFontNP04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4400" y="3619440"/>
            <a:ext cx="2408040" cy="588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6120" y="2666880"/>
            <a:ext cx="2786040" cy="63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1455840" y="2300400"/>
            <a:ext cx="7637400" cy="988920"/>
          </a:xfrm>
          <a:prstGeom prst="wedgeRoundRectCallout">
            <a:avLst>
              <a:gd name="adj1" fmla="val 21759"/>
              <a:gd name="adj2" fmla="val 111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46560" y="3881520"/>
            <a:ext cx="2408040" cy="11840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YOzFontNP04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3619440"/>
            <a:ext cx="2408040" cy="588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6120" y="2666880"/>
            <a:ext cx="2786040" cy="63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1455840" y="2300400"/>
            <a:ext cx="7637400" cy="988920"/>
          </a:xfrm>
          <a:prstGeom prst="wedgeRoundRectCallout">
            <a:avLst>
              <a:gd name="adj1" fmla="val 21759"/>
              <a:gd name="adj2" fmla="val 111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1743120" y="26240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ば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すわ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572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33280"/>
            <a:ext cx="7637400" cy="988920"/>
          </a:xfrm>
          <a:prstGeom prst="wedgeRoundRectCallout">
            <a:avLst>
              <a:gd name="adj1" fmla="val 46703"/>
              <a:gd name="adj2" fmla="val 9357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572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33280"/>
            <a:ext cx="7637400" cy="988920"/>
          </a:xfrm>
          <a:prstGeom prst="wedgeRoundRectCallout">
            <a:avLst>
              <a:gd name="adj1" fmla="val 46703"/>
              <a:gd name="adj2" fmla="val 9357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287280" y="557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もの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あげ</a:t>
            </a:r>
            <a:r>
              <a:rPr b="0" lang="ja-JP" sz="3600" spc="-1" strike="noStrike" u="sng">
                <a:solidFill>
                  <a:srgbClr val="ff3366"/>
                </a:solidFill>
                <a:uFillTx/>
                <a:latin typeface="YOzFontNP04"/>
                <a:ea typeface="YOzFontNP04"/>
              </a:rPr>
              <a:t>な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220824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963720" y="391788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5373720" y="2247840"/>
            <a:ext cx="14493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5035680" y="3814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5361120" y="395604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4286160" y="5978520"/>
            <a:ext cx="13478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5721480" y="5484960"/>
            <a:ext cx="3940200" cy="94752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ます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573552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85840" y="0"/>
            <a:ext cx="6846840" cy="1098720"/>
            <a:chOff x="285840" y="0"/>
            <a:chExt cx="6846840" cy="1098720"/>
          </a:xfrm>
        </p:grpSpPr>
        <p:sp>
          <p:nvSpPr>
            <p:cNvPr id="80" name=""/>
            <p:cNvSpPr/>
            <p:nvPr/>
          </p:nvSpPr>
          <p:spPr>
            <a:xfrm>
              <a:off x="285840" y="0"/>
              <a:ext cx="684684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ないけい </a:t>
              </a:r>
              <a:r>
                <a:rPr b="0" lang="en-US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-</a:t>
              </a:r>
              <a:r>
                <a:rPr b="0" lang="ja-JP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ない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2520" y="55753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779400" y="571644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976320" y="220824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28638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い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1654200" y="2289240"/>
            <a:ext cx="1593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か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963720" y="391788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992160" y="457344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1658880" y="3932280"/>
            <a:ext cx="15321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ま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224784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 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6192720" y="2309760"/>
            <a:ext cx="10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5035680" y="3814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5361120" y="3956040"/>
            <a:ext cx="11188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6461280" y="3978360"/>
            <a:ext cx="10332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4286160" y="5978520"/>
            <a:ext cx="13478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5721480" y="5484960"/>
            <a:ext cx="3940200" cy="94752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こな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573552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ます → しな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85840" y="0"/>
            <a:ext cx="6846840" cy="1098720"/>
            <a:chOff x="285840" y="0"/>
            <a:chExt cx="6846840" cy="1098720"/>
          </a:xfrm>
        </p:grpSpPr>
        <p:sp>
          <p:nvSpPr>
            <p:cNvPr id="105" name=""/>
            <p:cNvSpPr/>
            <p:nvPr/>
          </p:nvSpPr>
          <p:spPr>
            <a:xfrm>
              <a:off x="285840" y="0"/>
              <a:ext cx="684684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ないけい </a:t>
              </a:r>
              <a:r>
                <a:rPr b="0" lang="en-US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-</a:t>
              </a:r>
              <a:r>
                <a:rPr b="0" lang="ja-JP" sz="4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ない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2520" y="55753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779400" y="571644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485640" y="6373800"/>
            <a:ext cx="3056040" cy="8110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い → ーわ な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1457280" y="5746680"/>
            <a:ext cx="1593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わ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6:05:04Z</dcterms:created>
  <dc:creator/>
  <dc:description/>
  <dc:language>en-US</dc:language>
  <cp:lastModifiedBy/>
  <dcterms:modified xsi:type="dcterms:W3CDTF">2016-05-24T19:24:10Z</dcterms:modified>
  <cp:revision>43</cp:revision>
  <dc:subject/>
  <dc:title/>
</cp:coreProperties>
</file>