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3.jpeg" ContentType="image/jpe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.OzN_'04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0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6440" y="-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812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97B43-096C-4105-998A-0C25C2211E23}" type="slidenum"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1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280-194B-474C-8036-F18BEE50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0E8-8EF9-4F85-9232-1851881A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B00-A3A1-4EF4-B51A-69571224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A3B-4414-47E0-B6D8-C7AF1F42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5F7-9071-4EDC-A967-9CFDA6AA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235-6DF8-4A4D-B166-4F1FBD1E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A48-AD10-423D-96D8-956CA154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4AB-73B5-46DC-B167-96C5F02E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0A2-238D-457A-8527-C459B8B3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56D-E5EF-48D8-995D-4831ED44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ED86-2089-4890-AB72-60AEAF61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89F-F417-4FB5-8CC8-62B388FB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.OzN_'04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1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2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3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4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5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6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6BF86-0892-4C26-B196-8E8F227C3338}" type="slidenum">
              <a:rPr b="0" lang="fr-FR" sz="18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19280" y="360360"/>
            <a:ext cx="694512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18 </a:t>
            </a: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1979640"/>
            <a:ext cx="439884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2" name=""/>
          <p:cNvSpPr/>
          <p:nvPr/>
        </p:nvSpPr>
        <p:spPr>
          <a:xfrm>
            <a:off x="10620360" y="5580000"/>
            <a:ext cx="181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"/>
          <p:cNvSpPr/>
          <p:nvPr/>
        </p:nvSpPr>
        <p:spPr>
          <a:xfrm>
            <a:off x="1800360" y="4032360"/>
            <a:ext cx="443052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じしょ けい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ことが で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しゅみは 〜ことで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ことが</a:t>
            </a: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は …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まえに …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84080" y="2200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1028880" y="2274840"/>
            <a:ext cx="21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いき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690480" y="38419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"/>
          <p:cNvSpPr/>
          <p:nvPr/>
        </p:nvSpPr>
        <p:spPr>
          <a:xfrm>
            <a:off x="1017720" y="3983040"/>
            <a:ext cx="21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よ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271440" y="12240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7" name=""/>
          <p:cNvSpPr/>
          <p:nvPr/>
        </p:nvSpPr>
        <p:spPr>
          <a:xfrm>
            <a:off x="5127480" y="2281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8" name=""/>
          <p:cNvSpPr/>
          <p:nvPr/>
        </p:nvSpPr>
        <p:spPr>
          <a:xfrm>
            <a:off x="5425920" y="2313000"/>
            <a:ext cx="16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5087880" y="38815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5413320" y="4022640"/>
            <a:ext cx="21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たべ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"/>
          <p:cNvSpPr/>
          <p:nvPr/>
        </p:nvSpPr>
        <p:spPr>
          <a:xfrm>
            <a:off x="4694400" y="1266840"/>
            <a:ext cx="305244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"/>
          <p:cNvSpPr/>
          <p:nvPr/>
        </p:nvSpPr>
        <p:spPr>
          <a:xfrm>
            <a:off x="530280" y="5621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4226040" y="5549760"/>
            <a:ext cx="3940200" cy="9478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きます → 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4240080" y="66117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します → 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38040" y="66600"/>
            <a:ext cx="8272440" cy="1131840"/>
            <a:chOff x="338040" y="66600"/>
            <a:chExt cx="8272440" cy="1131840"/>
          </a:xfrm>
        </p:grpSpPr>
        <p:sp>
          <p:nvSpPr>
            <p:cNvPr id="116" name=""/>
            <p:cNvSpPr/>
            <p:nvPr/>
          </p:nvSpPr>
          <p:spPr>
            <a:xfrm>
              <a:off x="338040" y="66600"/>
              <a:ext cx="8272440" cy="1131840"/>
            </a:xfrm>
            <a:prstGeom prst="roundRect">
              <a:avLst>
                <a:gd name="adj" fmla="val 139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じしょけい </a:t>
              </a:r>
              <a:r>
                <a:rPr b="0" lang="fr-FR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forme Dico</a:t>
              </a:r>
              <a:endParaRPr b="0" lang="en-US" sz="60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84080" y="2200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"/>
          <p:cNvSpPr/>
          <p:nvPr/>
        </p:nvSpPr>
        <p:spPr>
          <a:xfrm>
            <a:off x="1028880" y="2274840"/>
            <a:ext cx="8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い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9" name=""/>
          <p:cNvSpPr/>
          <p:nvPr/>
        </p:nvSpPr>
        <p:spPr>
          <a:xfrm>
            <a:off x="1057320" y="2930400"/>
            <a:ext cx="235584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1833480" y="2273400"/>
            <a:ext cx="10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く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1" name=""/>
          <p:cNvSpPr/>
          <p:nvPr/>
        </p:nvSpPr>
        <p:spPr>
          <a:xfrm>
            <a:off x="690480" y="38419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"/>
          <p:cNvSpPr/>
          <p:nvPr/>
        </p:nvSpPr>
        <p:spPr>
          <a:xfrm>
            <a:off x="1017720" y="3983040"/>
            <a:ext cx="8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よ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046160" y="46404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" name=""/>
          <p:cNvSpPr/>
          <p:nvPr/>
        </p:nvSpPr>
        <p:spPr>
          <a:xfrm>
            <a:off x="1695600" y="398304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む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5" name=""/>
          <p:cNvSpPr/>
          <p:nvPr/>
        </p:nvSpPr>
        <p:spPr>
          <a:xfrm>
            <a:off x="271440" y="12240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6" name=""/>
          <p:cNvSpPr/>
          <p:nvPr/>
        </p:nvSpPr>
        <p:spPr>
          <a:xfrm>
            <a:off x="5127480" y="2281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7" name=""/>
          <p:cNvSpPr/>
          <p:nvPr/>
        </p:nvSpPr>
        <p:spPr>
          <a:xfrm>
            <a:off x="5425920" y="2313000"/>
            <a:ext cx="8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8" name=""/>
          <p:cNvSpPr/>
          <p:nvPr/>
        </p:nvSpPr>
        <p:spPr>
          <a:xfrm>
            <a:off x="5454720" y="297036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  → 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+ </a:t>
            </a: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9" name=""/>
          <p:cNvSpPr/>
          <p:nvPr/>
        </p:nvSpPr>
        <p:spPr>
          <a:xfrm>
            <a:off x="6230880" y="2313000"/>
            <a:ext cx="10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る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0" name=""/>
          <p:cNvSpPr/>
          <p:nvPr/>
        </p:nvSpPr>
        <p:spPr>
          <a:xfrm>
            <a:off x="5087880" y="38815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1" name=""/>
          <p:cNvSpPr/>
          <p:nvPr/>
        </p:nvSpPr>
        <p:spPr>
          <a:xfrm>
            <a:off x="5413320" y="4022640"/>
            <a:ext cx="129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たべ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2" name=""/>
          <p:cNvSpPr/>
          <p:nvPr/>
        </p:nvSpPr>
        <p:spPr>
          <a:xfrm>
            <a:off x="5442120" y="46800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 → 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+ </a:t>
            </a: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3" name=""/>
          <p:cNvSpPr/>
          <p:nvPr/>
        </p:nvSpPr>
        <p:spPr>
          <a:xfrm>
            <a:off x="6562800" y="406080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る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694400" y="1266840"/>
            <a:ext cx="305244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5" name=""/>
          <p:cNvSpPr/>
          <p:nvPr/>
        </p:nvSpPr>
        <p:spPr>
          <a:xfrm>
            <a:off x="530280" y="5621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6" name=""/>
          <p:cNvSpPr/>
          <p:nvPr/>
        </p:nvSpPr>
        <p:spPr>
          <a:xfrm>
            <a:off x="4226040" y="5549760"/>
            <a:ext cx="3940200" cy="9478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き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くる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7" name=""/>
          <p:cNvSpPr/>
          <p:nvPr/>
        </p:nvSpPr>
        <p:spPr>
          <a:xfrm>
            <a:off x="4240080" y="66117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し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する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38040" y="66600"/>
            <a:ext cx="8272440" cy="1131840"/>
            <a:chOff x="338040" y="66600"/>
            <a:chExt cx="8272440" cy="1131840"/>
          </a:xfrm>
        </p:grpSpPr>
        <p:sp>
          <p:nvSpPr>
            <p:cNvPr id="139" name=""/>
            <p:cNvSpPr/>
            <p:nvPr/>
          </p:nvSpPr>
          <p:spPr>
            <a:xfrm>
              <a:off x="338040" y="66600"/>
              <a:ext cx="8272440" cy="1131840"/>
            </a:xfrm>
            <a:prstGeom prst="roundRect">
              <a:avLst>
                <a:gd name="adj" fmla="val 139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じしょけい </a:t>
              </a:r>
              <a:r>
                <a:rPr b="0" lang="fr-FR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forme Dico</a:t>
              </a:r>
              <a:endParaRPr b="0" lang="en-US" sz="60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9280" y="1673280"/>
            <a:ext cx="3951360" cy="948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33640" y="1171440"/>
            <a:ext cx="31017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When I find myself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in times of trouble..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2" name=""/>
          <p:cNvSpPr/>
          <p:nvPr/>
        </p:nvSpPr>
        <p:spPr>
          <a:xfrm>
            <a:off x="322200" y="282600"/>
            <a:ext cx="4595760" cy="874800"/>
          </a:xfrm>
          <a:prstGeom prst="ellipse">
            <a:avLst/>
          </a:prstGeom>
          <a:solidFill>
            <a:srgbClr val="ffcc99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えいごのうた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939960" y="2381400"/>
            <a:ext cx="1428480" cy="142848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4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5" name=""/>
          <p:cNvSpPr/>
          <p:nvPr/>
        </p:nvSpPr>
        <p:spPr>
          <a:xfrm>
            <a:off x="3691080" y="642960"/>
            <a:ext cx="1761840" cy="1857240"/>
          </a:xfrm>
          <a:custGeom>
            <a:avLst/>
            <a:gdLst/>
            <a:ahLst/>
            <a:rect l="l" t="t" r="r" b="b"/>
            <a:pathLst>
              <a:path w="4896" h="5161">
                <a:moveTo>
                  <a:pt x="4895" y="5160"/>
                </a:moveTo>
                <a:cubicBezTo>
                  <a:pt x="4446" y="4193"/>
                  <a:pt x="3546" y="3705"/>
                  <a:pt x="2911" y="2845"/>
                </a:cubicBezTo>
                <a:cubicBezTo>
                  <a:pt x="2258" y="1960"/>
                  <a:pt x="1400" y="1245"/>
                  <a:pt x="794" y="331"/>
                </a:cubicBezTo>
                <a:lnTo>
                  <a:pt x="132" y="0"/>
                </a:lnTo>
                <a:lnTo>
                  <a:pt x="0" y="3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6" name=""/>
          <p:cNvSpPr/>
          <p:nvPr/>
        </p:nvSpPr>
        <p:spPr>
          <a:xfrm>
            <a:off x="1238400" y="2886120"/>
            <a:ext cx="4143240" cy="479520"/>
          </a:xfrm>
          <a:custGeom>
            <a:avLst/>
            <a:gdLst/>
            <a:ahLst/>
            <a:rect l="l" t="t" r="r" b="b"/>
            <a:pathLst>
              <a:path w="11510" h="1331">
                <a:moveTo>
                  <a:pt x="11509" y="1176"/>
                </a:moveTo>
                <a:cubicBezTo>
                  <a:pt x="10698" y="956"/>
                  <a:pt x="9833" y="1330"/>
                  <a:pt x="9062" y="845"/>
                </a:cubicBezTo>
                <a:cubicBezTo>
                  <a:pt x="8322" y="380"/>
                  <a:pt x="7460" y="471"/>
                  <a:pt x="6615" y="316"/>
                </a:cubicBezTo>
                <a:cubicBezTo>
                  <a:pt x="5444" y="101"/>
                  <a:pt x="4226" y="189"/>
                  <a:pt x="3043" y="316"/>
                </a:cubicBezTo>
                <a:cubicBezTo>
                  <a:pt x="2200" y="406"/>
                  <a:pt x="1478" y="0"/>
                  <a:pt x="662" y="184"/>
                </a:cubicBezTo>
                <a:lnTo>
                  <a:pt x="0" y="184"/>
                </a:lnTo>
                <a:lnTo>
                  <a:pt x="0" y="1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9280" y="1673280"/>
            <a:ext cx="3951360" cy="948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33640" y="1171440"/>
            <a:ext cx="31017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When I find myself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in times of trouble..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9" name=""/>
          <p:cNvSpPr/>
          <p:nvPr/>
        </p:nvSpPr>
        <p:spPr>
          <a:xfrm>
            <a:off x="322200" y="282600"/>
            <a:ext cx="4595760" cy="874800"/>
          </a:xfrm>
          <a:prstGeom prst="ellipse">
            <a:avLst/>
          </a:prstGeom>
          <a:solidFill>
            <a:srgbClr val="ffcc99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えいごのうた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939960" y="2381400"/>
            <a:ext cx="1428480" cy="142848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1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えいごのうた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うたう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2" name=""/>
          <p:cNvSpPr/>
          <p:nvPr/>
        </p:nvSpPr>
        <p:spPr>
          <a:xfrm>
            <a:off x="3691080" y="642960"/>
            <a:ext cx="1761840" cy="1857240"/>
          </a:xfrm>
          <a:custGeom>
            <a:avLst/>
            <a:gdLst/>
            <a:ahLst/>
            <a:rect l="l" t="t" r="r" b="b"/>
            <a:pathLst>
              <a:path w="4896" h="5161">
                <a:moveTo>
                  <a:pt x="4895" y="5160"/>
                </a:moveTo>
                <a:cubicBezTo>
                  <a:pt x="4446" y="4193"/>
                  <a:pt x="3546" y="3705"/>
                  <a:pt x="2911" y="2845"/>
                </a:cubicBezTo>
                <a:cubicBezTo>
                  <a:pt x="2258" y="1960"/>
                  <a:pt x="1400" y="1245"/>
                  <a:pt x="794" y="331"/>
                </a:cubicBezTo>
                <a:lnTo>
                  <a:pt x="132" y="0"/>
                </a:lnTo>
                <a:lnTo>
                  <a:pt x="0" y="3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3" name=""/>
          <p:cNvSpPr/>
          <p:nvPr/>
        </p:nvSpPr>
        <p:spPr>
          <a:xfrm>
            <a:off x="1238400" y="2886120"/>
            <a:ext cx="4143240" cy="479520"/>
          </a:xfrm>
          <a:custGeom>
            <a:avLst/>
            <a:gdLst/>
            <a:ahLst/>
            <a:rect l="l" t="t" r="r" b="b"/>
            <a:pathLst>
              <a:path w="11510" h="1331">
                <a:moveTo>
                  <a:pt x="11509" y="1176"/>
                </a:moveTo>
                <a:cubicBezTo>
                  <a:pt x="10698" y="956"/>
                  <a:pt x="9833" y="1330"/>
                  <a:pt x="9062" y="845"/>
                </a:cubicBezTo>
                <a:cubicBezTo>
                  <a:pt x="8322" y="380"/>
                  <a:pt x="7460" y="471"/>
                  <a:pt x="6615" y="316"/>
                </a:cubicBezTo>
                <a:cubicBezTo>
                  <a:pt x="5444" y="101"/>
                  <a:pt x="4226" y="189"/>
                  <a:pt x="3043" y="316"/>
                </a:cubicBezTo>
                <a:cubicBezTo>
                  <a:pt x="2200" y="406"/>
                  <a:pt x="1478" y="0"/>
                  <a:pt x="662" y="184"/>
                </a:cubicBezTo>
                <a:lnTo>
                  <a:pt x="0" y="184"/>
                </a:lnTo>
                <a:lnTo>
                  <a:pt x="0" y="1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28600" y="2081160"/>
            <a:ext cx="7513920" cy="5129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6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hère Caroline,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omment vas-tu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7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フランスご てがみ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28600" y="2081160"/>
            <a:ext cx="7513920" cy="512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hère Caroline,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omment vas-tu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2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フランスご てがみ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フランスご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で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てがみ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く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19240" y="906480"/>
            <a:ext cx="4560840" cy="6653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もしもし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きょうこさん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おげんきですか。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7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ご でんわ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19240" y="906480"/>
            <a:ext cx="4560840" cy="6653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1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もしもし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きょうこさん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おげんきですか。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2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ご でんわ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ご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で 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んわ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け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52680" y="52560"/>
            <a:ext cx="6561000" cy="7507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6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じ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に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き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1235160" y="2309760"/>
            <a:ext cx="1763640" cy="687600"/>
          </a:xfrm>
          <a:prstGeom prst="roundRect">
            <a:avLst>
              <a:gd name="adj" fmla="val 231"/>
            </a:avLst>
          </a:prstGeom>
          <a:solidFill>
            <a:srgbClr val="000000"/>
          </a:solidFill>
          <a:ln w="180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90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6</a:t>
            </a:r>
            <a:r>
              <a:rPr b="0" lang="ja-JP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：</a:t>
            </a: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52680" y="52560"/>
            <a:ext cx="6561000" cy="7507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6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じ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に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き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9" name=""/>
          <p:cNvSpPr/>
          <p:nvPr/>
        </p:nvSpPr>
        <p:spPr>
          <a:xfrm>
            <a:off x="1235160" y="2309760"/>
            <a:ext cx="1763640" cy="687600"/>
          </a:xfrm>
          <a:prstGeom prst="roundRect">
            <a:avLst>
              <a:gd name="adj" fmla="val 231"/>
            </a:avLst>
          </a:prstGeom>
          <a:solidFill>
            <a:srgbClr val="000000"/>
          </a:solidFill>
          <a:ln w="180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90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6</a:t>
            </a:r>
            <a:r>
              <a:rPr b="0" lang="ja-JP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：</a:t>
            </a: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ギター</a:t>
            </a:r>
            <a:r>
              <a:rPr b="0" lang="fr-FR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   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743200" y="2413080"/>
            <a:ext cx="438120" cy="676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345440" y="3579840"/>
            <a:ext cx="2733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1" name=""/>
          <p:cNvSpPr/>
          <p:nvPr/>
        </p:nvSpPr>
        <p:spPr>
          <a:xfrm>
            <a:off x="538200" y="5427720"/>
            <a:ext cx="92250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28560" y="1792440"/>
            <a:ext cx="4010040" cy="2842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08280" y="4067280"/>
            <a:ext cx="1735200" cy="938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19160" y="2417760"/>
            <a:ext cx="5139000" cy="8524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5" name=""/>
          <p:cNvSpPr/>
          <p:nvPr/>
        </p:nvSpPr>
        <p:spPr>
          <a:xfrm>
            <a:off x="5256360" y="3838680"/>
            <a:ext cx="2160360" cy="1549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540400" y="117144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345440" y="3579840"/>
            <a:ext cx="2733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8" name=""/>
          <p:cNvSpPr/>
          <p:nvPr/>
        </p:nvSpPr>
        <p:spPr>
          <a:xfrm>
            <a:off x="538200" y="5427720"/>
            <a:ext cx="92250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だいがく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く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28560" y="1792440"/>
            <a:ext cx="4010040" cy="2842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08280" y="4067280"/>
            <a:ext cx="1735200" cy="938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619160" y="2417760"/>
            <a:ext cx="5139000" cy="8524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2" name=""/>
          <p:cNvSpPr/>
          <p:nvPr/>
        </p:nvSpPr>
        <p:spPr>
          <a:xfrm>
            <a:off x="5256360" y="3838680"/>
            <a:ext cx="2160360" cy="1549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540400" y="117144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1200" y="558720"/>
            <a:ext cx="4748400" cy="849240"/>
          </a:xfrm>
          <a:prstGeom prst="roundRect">
            <a:avLst>
              <a:gd name="adj" fmla="val 1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うんてん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6" name=""/>
          <p:cNvSpPr/>
          <p:nvPr/>
        </p:nvSpPr>
        <p:spPr>
          <a:xfrm>
            <a:off x="638280" y="414180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7" name=""/>
          <p:cNvSpPr/>
          <p:nvPr/>
        </p:nvSpPr>
        <p:spPr>
          <a:xfrm>
            <a:off x="2630520" y="1122480"/>
            <a:ext cx="463680" cy="3797280"/>
          </a:xfrm>
          <a:custGeom>
            <a:avLst/>
            <a:gdLst/>
            <a:ahLst/>
            <a:rect l="l" t="t" r="r" b="b"/>
            <a:pathLst>
              <a:path w="1287" h="10548">
                <a:moveTo>
                  <a:pt x="0" y="0"/>
                </a:moveTo>
                <a:lnTo>
                  <a:pt x="1286" y="1054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41200" y="558720"/>
            <a:ext cx="4748400" cy="849240"/>
          </a:xfrm>
          <a:prstGeom prst="roundRect">
            <a:avLst>
              <a:gd name="adj" fmla="val 1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うんてん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0" name=""/>
          <p:cNvSpPr/>
          <p:nvPr/>
        </p:nvSpPr>
        <p:spPr>
          <a:xfrm>
            <a:off x="638280" y="414180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くるま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うんてんす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1" name=""/>
          <p:cNvSpPr/>
          <p:nvPr/>
        </p:nvSpPr>
        <p:spPr>
          <a:xfrm>
            <a:off x="2630520" y="1122480"/>
            <a:ext cx="463680" cy="3797280"/>
          </a:xfrm>
          <a:custGeom>
            <a:avLst/>
            <a:gdLst/>
            <a:ahLst/>
            <a:rect l="l" t="t" r="r" b="b"/>
            <a:pathLst>
              <a:path w="1287" h="10548">
                <a:moveTo>
                  <a:pt x="0" y="0"/>
                </a:moveTo>
                <a:lnTo>
                  <a:pt x="1286" y="1054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72960" y="3848040"/>
            <a:ext cx="4440240" cy="2290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4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72960" y="3848040"/>
            <a:ext cx="4440240" cy="2290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7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878360" y="3797280"/>
            <a:ext cx="5032440" cy="2678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0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878360" y="3797280"/>
            <a:ext cx="5032440" cy="2678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3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10078920" cy="7272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820800" y="55872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スキ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10078920" cy="7272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20800" y="55872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スキ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ギター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743200" y="2413080"/>
            <a:ext cx="438120" cy="67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47760" y="1881360"/>
            <a:ext cx="9469440" cy="14252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カメラ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う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47760" y="1881360"/>
            <a:ext cx="9469440" cy="14252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カメラ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う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 flipV="1">
            <a:off x="1569960" y="1657440"/>
            <a:ext cx="6513480" cy="4060800"/>
          </a:xfrm>
          <a:prstGeom prst="line">
            <a:avLst/>
          </a:prstGeom>
          <a:ln w="108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3" name=""/>
          <p:cNvSpPr/>
          <p:nvPr/>
        </p:nvSpPr>
        <p:spPr>
          <a:xfrm>
            <a:off x="6180120" y="360360"/>
            <a:ext cx="3900600" cy="1158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よむことができます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4" name=""/>
          <p:cNvSpPr/>
          <p:nvPr/>
        </p:nvSpPr>
        <p:spPr>
          <a:xfrm>
            <a:off x="608040" y="2960640"/>
            <a:ext cx="8183520" cy="1300320"/>
          </a:xfrm>
          <a:prstGeom prst="roundRect">
            <a:avLst>
              <a:gd name="adj" fmla="val 12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まだ</a:t>
            </a: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 よむこと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flipV="1">
            <a:off x="1569960" y="1657440"/>
            <a:ext cx="6513480" cy="4060800"/>
          </a:xfrm>
          <a:prstGeom prst="line">
            <a:avLst/>
          </a:prstGeom>
          <a:ln w="108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6" name=""/>
          <p:cNvSpPr/>
          <p:nvPr/>
        </p:nvSpPr>
        <p:spPr>
          <a:xfrm>
            <a:off x="6180120" y="360360"/>
            <a:ext cx="3900600" cy="1158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よむことができます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2960640"/>
            <a:ext cx="8183520" cy="1300320"/>
          </a:xfrm>
          <a:prstGeom prst="roundRect">
            <a:avLst>
              <a:gd name="adj" fmla="val 12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まだ</a:t>
            </a: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 よむこと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62040" y="546120"/>
            <a:ext cx="8826480" cy="6467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82800" y="532116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もう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たべる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62040" y="546120"/>
            <a:ext cx="8826480" cy="6467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82800" y="532116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もう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たべる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328760" y="577800"/>
            <a:ext cx="40910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? : ?? 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〜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けんがくし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3" name=""/>
          <p:cNvSpPr/>
          <p:nvPr/>
        </p:nvSpPr>
        <p:spPr>
          <a:xfrm>
            <a:off x="3498840" y="329256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2879640"/>
            <a:ext cx="4162320" cy="5380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415120" y="141120"/>
            <a:ext cx="4481280" cy="29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328760" y="577800"/>
            <a:ext cx="40910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? : ?? 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〜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けんがくし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329256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2879640"/>
            <a:ext cx="4162320" cy="5380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415120" y="141120"/>
            <a:ext cx="4481280" cy="29451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738600" y="3666960"/>
            <a:ext cx="566748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96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なんじ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から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けんがくする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きますか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238400" y="852480"/>
            <a:ext cx="40906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こんばん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た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2" name=""/>
          <p:cNvSpPr/>
          <p:nvPr/>
        </p:nvSpPr>
        <p:spPr>
          <a:xfrm>
            <a:off x="3851280" y="323064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2179800"/>
            <a:ext cx="4162320" cy="53798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300720" y="360360"/>
            <a:ext cx="3419640" cy="90000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5" name=""/>
          <p:cNvSpPr/>
          <p:nvPr/>
        </p:nvSpPr>
        <p:spPr>
          <a:xfrm>
            <a:off x="7020000" y="539640"/>
            <a:ext cx="2212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レストラン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238400" y="852480"/>
            <a:ext cx="40906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こんばん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た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323064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2179800"/>
            <a:ext cx="4162320" cy="53798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119480" y="3857760"/>
            <a:ext cx="50580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96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よやくする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きますか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360360"/>
            <a:ext cx="3419640" cy="90000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1" name=""/>
          <p:cNvSpPr/>
          <p:nvPr/>
        </p:nvSpPr>
        <p:spPr>
          <a:xfrm>
            <a:off x="7020000" y="539640"/>
            <a:ext cx="2212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レストラン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スキー</a:t>
            </a:r>
            <a:r>
              <a:rPr b="0" lang="fr-FR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   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73080" y="1922400"/>
            <a:ext cx="4335480" cy="563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91040" y="3316320"/>
            <a:ext cx="285768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"/>
          <p:cNvSpPr/>
          <p:nvPr/>
        </p:nvSpPr>
        <p:spPr>
          <a:xfrm>
            <a:off x="6191280" y="3862440"/>
            <a:ext cx="285732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11120" y="2374920"/>
            <a:ext cx="1773360" cy="833400"/>
          </a:xfrm>
          <a:prstGeom prst="roundRect">
            <a:avLst>
              <a:gd name="adj" fmla="val 19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カード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3" name=""/>
          <p:cNvSpPr/>
          <p:nvPr/>
        </p:nvSpPr>
        <p:spPr>
          <a:xfrm>
            <a:off x="2585880" y="493560"/>
            <a:ext cx="6426360" cy="1940040"/>
          </a:xfrm>
          <a:prstGeom prst="wedgeRoundRectCallout">
            <a:avLst>
              <a:gd name="adj1" fmla="val -46810"/>
              <a:gd name="adj2" fmla="val 1066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357880" y="2255760"/>
            <a:ext cx="1803240" cy="5303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87880" y="4702320"/>
            <a:ext cx="5956200" cy="2857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340080" y="3938760"/>
            <a:ext cx="1341360" cy="1266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1079640" y="3240000"/>
            <a:ext cx="2519280" cy="612000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2169720" y="4859280"/>
            <a:ext cx="988920" cy="725400"/>
            <a:chOff x="2169720" y="4859280"/>
            <a:chExt cx="988920" cy="725400"/>
          </a:xfrm>
        </p:grpSpPr>
        <p:sp>
          <p:nvSpPr>
            <p:cNvPr id="259" name=""/>
            <p:cNvSpPr/>
            <p:nvPr/>
          </p:nvSpPr>
          <p:spPr>
            <a:xfrm>
              <a:off x="2172960" y="4859280"/>
              <a:ext cx="98244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169720" y="4859280"/>
              <a:ext cx="98892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11120" y="2374920"/>
            <a:ext cx="1773360" cy="833400"/>
          </a:xfrm>
          <a:prstGeom prst="roundRect">
            <a:avLst>
              <a:gd name="adj" fmla="val 19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カード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2" name=""/>
          <p:cNvSpPr/>
          <p:nvPr/>
        </p:nvSpPr>
        <p:spPr>
          <a:xfrm>
            <a:off x="2585880" y="493560"/>
            <a:ext cx="6426360" cy="1940040"/>
          </a:xfrm>
          <a:prstGeom prst="wedgeRoundRectCallout">
            <a:avLst>
              <a:gd name="adj1" fmla="val -46810"/>
              <a:gd name="adj2" fmla="val 1066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357880" y="2255760"/>
            <a:ext cx="1803240" cy="5303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287880" y="4702320"/>
            <a:ext cx="5956200" cy="28573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340080" y="3938760"/>
            <a:ext cx="1341360" cy="1266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1079640" y="3240000"/>
            <a:ext cx="2519280" cy="6120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2169720" y="4859280"/>
            <a:ext cx="988920" cy="725400"/>
            <a:chOff x="2169720" y="4859280"/>
            <a:chExt cx="988920" cy="725400"/>
          </a:xfrm>
        </p:grpSpPr>
        <p:sp>
          <p:nvSpPr>
            <p:cNvPr id="268" name=""/>
            <p:cNvSpPr/>
            <p:nvPr/>
          </p:nvSpPr>
          <p:spPr>
            <a:xfrm>
              <a:off x="2172960" y="4859280"/>
              <a:ext cx="98244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169720" y="4859280"/>
              <a:ext cx="98892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698920" y="987480"/>
            <a:ext cx="62769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96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0000ff"/>
                </a:solidFill>
                <a:uFillTx/>
                <a:latin typeface="みかちゃん"/>
                <a:ea typeface="みかちゃん"/>
              </a:rPr>
              <a:t>カード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で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はらう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きますか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 fill="hold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38480" y="5799240"/>
            <a:ext cx="7842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87200" y="2978280"/>
            <a:ext cx="2152800" cy="6562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357280" y="720720"/>
            <a:ext cx="6102360" cy="47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 fill="hold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38480" y="5799240"/>
            <a:ext cx="7842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なかなか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パンダ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みるこ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87200" y="2978280"/>
            <a:ext cx="2152800" cy="6562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357280" y="720720"/>
            <a:ext cx="6102360" cy="47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69880" y="538632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しゅみはギタ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9" name=""/>
          <p:cNvSpPr/>
          <p:nvPr/>
        </p:nvSpPr>
        <p:spPr>
          <a:xfrm>
            <a:off x="932040" y="546120"/>
            <a:ext cx="2131920" cy="738000"/>
          </a:xfrm>
          <a:prstGeom prst="roundRect">
            <a:avLst>
              <a:gd name="adj" fmla="val 21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ゅみ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0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dur="indefinite" fill="hold">
                      <p:stCondLst>
                        <p:cond delay="indefinite"/>
                      </p:stCondLst>
                      <p:childTnLst>
                        <p:par>
                          <p:cTn id="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69880" y="538632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しゅみはギタ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7" name=""/>
          <p:cNvSpPr/>
          <p:nvPr/>
        </p:nvSpPr>
        <p:spPr>
          <a:xfrm>
            <a:off x="932040" y="546120"/>
            <a:ext cx="2131920" cy="738000"/>
          </a:xfrm>
          <a:prstGeom prst="roundRect">
            <a:avLst>
              <a:gd name="adj" fmla="val 21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ゅみ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8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dur="indefinite" fill="hold">
                      <p:stCondLst>
                        <p:cond delay="indefinite"/>
                      </p:stCondLst>
                      <p:childTnLst>
                        <p:par>
                          <p:cTn id="4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449520" y="239760"/>
            <a:ext cx="6207120" cy="4332240"/>
            <a:chOff x="3449520" y="239760"/>
            <a:chExt cx="6207120" cy="4332240"/>
          </a:xfrm>
        </p:grpSpPr>
        <p:sp>
          <p:nvSpPr>
            <p:cNvPr id="294" name=""/>
            <p:cNvSpPr/>
            <p:nvPr/>
          </p:nvSpPr>
          <p:spPr>
            <a:xfrm>
              <a:off x="3449520" y="239760"/>
              <a:ext cx="6207120" cy="4332240"/>
            </a:xfrm>
            <a:prstGeom prst="roundRect">
              <a:avLst>
                <a:gd name="adj" fmla="val 4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4460760" y="322200"/>
              <a:ext cx="3648240" cy="414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373480" y="3382920"/>
            <a:ext cx="1009440" cy="9050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45080" y="4719600"/>
            <a:ext cx="5551200" cy="1679760"/>
          </a:xfrm>
          <a:prstGeom prst="roundRect">
            <a:avLst>
              <a:gd name="adj" fmla="val 106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179280" y="1641600"/>
            <a:ext cx="2152800" cy="66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 fill="hold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3449520" y="239760"/>
            <a:ext cx="6207120" cy="4332240"/>
            <a:chOff x="3449520" y="239760"/>
            <a:chExt cx="6207120" cy="4332240"/>
          </a:xfrm>
        </p:grpSpPr>
        <p:sp>
          <p:nvSpPr>
            <p:cNvPr id="300" name=""/>
            <p:cNvSpPr/>
            <p:nvPr/>
          </p:nvSpPr>
          <p:spPr>
            <a:xfrm>
              <a:off x="3449520" y="239760"/>
              <a:ext cx="6207120" cy="4332240"/>
            </a:xfrm>
            <a:prstGeom prst="roundRect">
              <a:avLst>
                <a:gd name="adj" fmla="val 4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460760" y="322200"/>
              <a:ext cx="3648240" cy="414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373480" y="3382920"/>
            <a:ext cx="1009440" cy="9050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745080" y="4719600"/>
            <a:ext cx="5551200" cy="1679760"/>
          </a:xfrm>
          <a:prstGeom prst="roundRect">
            <a:avLst>
              <a:gd name="adj" fmla="val 106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テニスをする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すきです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179280" y="1641600"/>
            <a:ext cx="2152800" cy="66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dur="indefinite" fill="hold">
                      <p:stCondLst>
                        <p:cond delay="indefinite"/>
                      </p:stCondLst>
                      <p:childTnLst>
                        <p:par>
                          <p:cTn id="4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52440" y="952560"/>
            <a:ext cx="9537840" cy="12002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はなしま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6" name=""/>
          <p:cNvSpPr/>
          <p:nvPr/>
        </p:nvSpPr>
        <p:spPr>
          <a:xfrm>
            <a:off x="339840" y="3962520"/>
            <a:ext cx="9537480" cy="11998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7" name=""/>
          <p:cNvSpPr/>
          <p:nvPr/>
        </p:nvSpPr>
        <p:spPr>
          <a:xfrm>
            <a:off x="4840200" y="2309760"/>
            <a:ext cx="1800" cy="1435320"/>
          </a:xfrm>
          <a:custGeom>
            <a:avLst/>
            <a:gdLst/>
            <a:ahLst/>
            <a:rect l="l" t="t" r="r" b="b"/>
            <a:pathLst>
              <a:path w="1" h="3988">
                <a:moveTo>
                  <a:pt x="0" y="0"/>
                </a:moveTo>
                <a:lnTo>
                  <a:pt x="0" y="398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dur="indefinite" fill="hold">
                      <p:stCondLst>
                        <p:cond delay="indefinite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52440" y="952560"/>
            <a:ext cx="9537840" cy="12002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はなしま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9" name=""/>
          <p:cNvSpPr/>
          <p:nvPr/>
        </p:nvSpPr>
        <p:spPr>
          <a:xfrm>
            <a:off x="339840" y="3962520"/>
            <a:ext cx="9537480" cy="11998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はなす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こと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0" name=""/>
          <p:cNvSpPr/>
          <p:nvPr/>
        </p:nvSpPr>
        <p:spPr>
          <a:xfrm>
            <a:off x="4840200" y="2309760"/>
            <a:ext cx="1800" cy="1435320"/>
          </a:xfrm>
          <a:custGeom>
            <a:avLst/>
            <a:gdLst/>
            <a:ahLst/>
            <a:rect l="l" t="t" r="r" b="b"/>
            <a:pathLst>
              <a:path w="1" h="3988">
                <a:moveTo>
                  <a:pt x="0" y="0"/>
                </a:moveTo>
                <a:lnTo>
                  <a:pt x="0" y="398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dur="indefinite" fill="hold">
                      <p:stCondLst>
                        <p:cond delay="indefinite"/>
                      </p:stCondLst>
                      <p:childTnLst>
                        <p:par>
                          <p:cTn id="4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1000" fill="hold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dur="indefinite" fill="hold">
                      <p:stCondLst>
                        <p:cond delay="indefinite"/>
                      </p:stCondLst>
                      <p:childTnLst>
                        <p:par>
                          <p:cTn id="4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スキー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73080" y="1922400"/>
            <a:ext cx="4335480" cy="5637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891040" y="3316320"/>
            <a:ext cx="285768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3" name=""/>
          <p:cNvSpPr/>
          <p:nvPr/>
        </p:nvSpPr>
        <p:spPr>
          <a:xfrm>
            <a:off x="6191280" y="3862440"/>
            <a:ext cx="285732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41440" y="779400"/>
            <a:ext cx="953748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みんなでおさけをの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2" name=""/>
          <p:cNvSpPr/>
          <p:nvPr/>
        </p:nvSpPr>
        <p:spPr>
          <a:xfrm>
            <a:off x="360360" y="4379760"/>
            <a:ext cx="953784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2340000"/>
            <a:ext cx="1800" cy="14400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dur="indefinite" fill="hold">
                      <p:stCondLst>
                        <p:cond delay="indefinite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41440" y="779400"/>
            <a:ext cx="953748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みんなでおさけをの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5" name=""/>
          <p:cNvSpPr/>
          <p:nvPr/>
        </p:nvSpPr>
        <p:spPr>
          <a:xfrm>
            <a:off x="360360" y="4379760"/>
            <a:ext cx="953784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みんなでおさけをのむ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こと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6" name=""/>
          <p:cNvSpPr/>
          <p:nvPr/>
        </p:nvSpPr>
        <p:spPr>
          <a:xfrm>
            <a:off x="5219640" y="2340000"/>
            <a:ext cx="1800" cy="14400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98360" y="369720"/>
            <a:ext cx="4762440" cy="33861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5732640" y="0"/>
            <a:ext cx="3755880" cy="3862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0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1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 べんきょうし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dur="indefinite" fill="hold">
                      <p:stCondLst>
                        <p:cond delay="indefinite"/>
                      </p:stCondLst>
                      <p:childTnLst>
                        <p:par>
                          <p:cTn id="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98360" y="369720"/>
            <a:ext cx="4762440" cy="33861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5732640" y="0"/>
            <a:ext cx="3755880" cy="38624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5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ねる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まえ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べんきょうし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6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 べんきょうし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dur="indefinite" fill="hold">
                      <p:stCondLst>
                        <p:cond delay="indefinite"/>
                      </p:stCondLst>
                      <p:childTnLst>
                        <p:par>
                          <p:cTn id="4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9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シャワーをあび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397480" y="539640"/>
            <a:ext cx="4141800" cy="3240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081080" y="1620720"/>
            <a:ext cx="1938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シャワー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dur="indefinite" fill="hold">
                      <p:stCondLst>
                        <p:cond delay="indefinite"/>
                      </p:stCondLst>
                      <p:childTnLst>
                        <p:par>
                          <p:cTn id="4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ごはん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たべる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まえ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シャワー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あび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4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シャワーをあび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397480" y="539640"/>
            <a:ext cx="4141800" cy="32403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081080" y="1620720"/>
            <a:ext cx="1938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シャワー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dur="indefinite" fill="hold">
                      <p:stCondLst>
                        <p:cond delay="indefinite"/>
                      </p:stCondLst>
                      <p:childTnLst>
                        <p:par>
                          <p:cTn id="4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72960" y="3600360"/>
            <a:ext cx="2146320" cy="5973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740040" y="1720800"/>
            <a:ext cx="2157480" cy="1809720"/>
            <a:chOff x="3740040" y="1720800"/>
            <a:chExt cx="2157480" cy="180972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3740040" y="1720800"/>
              <a:ext cx="2157480" cy="18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"/>
          <p:cNvSpPr/>
          <p:nvPr/>
        </p:nvSpPr>
        <p:spPr>
          <a:xfrm flipV="1">
            <a:off x="2592360" y="2642760"/>
            <a:ext cx="1071720" cy="7333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1138320"/>
            <a:ext cx="9472680" cy="1440"/>
          </a:xfrm>
          <a:prstGeom prst="line">
            <a:avLst/>
          </a:prstGeom>
          <a:ln w="50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3" name=""/>
          <p:cNvSpPr/>
          <p:nvPr/>
        </p:nvSpPr>
        <p:spPr>
          <a:xfrm>
            <a:off x="7858080" y="1019160"/>
            <a:ext cx="1542960" cy="9698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4" name=""/>
          <p:cNvSpPr/>
          <p:nvPr/>
        </p:nvSpPr>
        <p:spPr>
          <a:xfrm>
            <a:off x="5489640" y="241200"/>
            <a:ext cx="2778120" cy="1266840"/>
          </a:xfrm>
          <a:custGeom>
            <a:avLst/>
            <a:gdLst/>
            <a:ahLst/>
            <a:rect l="l" t="t" r="r" b="b"/>
            <a:pathLst>
              <a:path w="7718" h="3518">
                <a:moveTo>
                  <a:pt x="7717" y="2461"/>
                </a:moveTo>
                <a:cubicBezTo>
                  <a:pt x="7473" y="1504"/>
                  <a:pt x="6859" y="1607"/>
                  <a:pt x="6394" y="1311"/>
                </a:cubicBezTo>
                <a:cubicBezTo>
                  <a:pt x="6011" y="1068"/>
                  <a:pt x="5336" y="0"/>
                  <a:pt x="5144" y="761"/>
                </a:cubicBezTo>
                <a:cubicBezTo>
                  <a:pt x="4446" y="3517"/>
                  <a:pt x="4519" y="544"/>
                  <a:pt x="3785" y="467"/>
                </a:cubicBezTo>
                <a:cubicBezTo>
                  <a:pt x="3033" y="390"/>
                  <a:pt x="3063" y="2727"/>
                  <a:pt x="2535" y="1630"/>
                </a:cubicBezTo>
                <a:cubicBezTo>
                  <a:pt x="2206" y="947"/>
                  <a:pt x="1668" y="532"/>
                  <a:pt x="1176" y="1055"/>
                </a:cubicBezTo>
                <a:cubicBezTo>
                  <a:pt x="796" y="1459"/>
                  <a:pt x="340" y="1691"/>
                  <a:pt x="73" y="2334"/>
                </a:cubicBezTo>
                <a:lnTo>
                  <a:pt x="0" y="2525"/>
                </a:lnTo>
              </a:path>
            </a:pathLst>
          </a:cu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5" name=""/>
          <p:cNvSpPr/>
          <p:nvPr/>
        </p:nvSpPr>
        <p:spPr>
          <a:xfrm>
            <a:off x="4152960" y="965160"/>
            <a:ext cx="2409840" cy="731880"/>
          </a:xfrm>
          <a:prstGeom prst="roundRect">
            <a:avLst>
              <a:gd name="adj" fmla="val 21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352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3</a:t>
            </a: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ねん</a:t>
            </a:r>
            <a:endParaRPr b="0" lang="en-US" sz="6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dur="indefinite" fill="hold">
                      <p:stCondLst>
                        <p:cond delay="indefinite"/>
                      </p:stCondLst>
                      <p:childTnLst>
                        <p:par>
                          <p:cTn id="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72960" y="3600360"/>
            <a:ext cx="2146320" cy="5973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さんねん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まえ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ました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740040" y="1720800"/>
            <a:ext cx="2157480" cy="1809720"/>
            <a:chOff x="3740040" y="1720800"/>
            <a:chExt cx="2157480" cy="180972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3740040" y="1720800"/>
              <a:ext cx="2157480" cy="18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V="1">
            <a:off x="2592360" y="2642760"/>
            <a:ext cx="1071720" cy="7333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1138320"/>
            <a:ext cx="9472680" cy="1440"/>
          </a:xfrm>
          <a:prstGeom prst="line">
            <a:avLst/>
          </a:prstGeom>
          <a:ln w="50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2" name=""/>
          <p:cNvSpPr/>
          <p:nvPr/>
        </p:nvSpPr>
        <p:spPr>
          <a:xfrm>
            <a:off x="7858080" y="1019160"/>
            <a:ext cx="1542960" cy="9698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3" name=""/>
          <p:cNvSpPr/>
          <p:nvPr/>
        </p:nvSpPr>
        <p:spPr>
          <a:xfrm>
            <a:off x="5489640" y="241200"/>
            <a:ext cx="2778120" cy="1266840"/>
          </a:xfrm>
          <a:custGeom>
            <a:avLst/>
            <a:gdLst/>
            <a:ahLst/>
            <a:rect l="l" t="t" r="r" b="b"/>
            <a:pathLst>
              <a:path w="7718" h="3518">
                <a:moveTo>
                  <a:pt x="7717" y="2461"/>
                </a:moveTo>
                <a:cubicBezTo>
                  <a:pt x="7473" y="1504"/>
                  <a:pt x="6859" y="1607"/>
                  <a:pt x="6394" y="1311"/>
                </a:cubicBezTo>
                <a:cubicBezTo>
                  <a:pt x="6011" y="1068"/>
                  <a:pt x="5336" y="0"/>
                  <a:pt x="5144" y="761"/>
                </a:cubicBezTo>
                <a:cubicBezTo>
                  <a:pt x="4446" y="3517"/>
                  <a:pt x="4519" y="544"/>
                  <a:pt x="3785" y="467"/>
                </a:cubicBezTo>
                <a:cubicBezTo>
                  <a:pt x="3033" y="390"/>
                  <a:pt x="3063" y="2727"/>
                  <a:pt x="2535" y="1630"/>
                </a:cubicBezTo>
                <a:cubicBezTo>
                  <a:pt x="2206" y="947"/>
                  <a:pt x="1668" y="532"/>
                  <a:pt x="1176" y="1055"/>
                </a:cubicBezTo>
                <a:cubicBezTo>
                  <a:pt x="796" y="1459"/>
                  <a:pt x="340" y="1691"/>
                  <a:pt x="73" y="2334"/>
                </a:cubicBezTo>
                <a:lnTo>
                  <a:pt x="0" y="2525"/>
                </a:lnTo>
              </a:path>
            </a:pathLst>
          </a:cu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4" name=""/>
          <p:cNvSpPr/>
          <p:nvPr/>
        </p:nvSpPr>
        <p:spPr>
          <a:xfrm>
            <a:off x="4152960" y="965160"/>
            <a:ext cx="2409840" cy="731880"/>
          </a:xfrm>
          <a:prstGeom prst="roundRect">
            <a:avLst>
              <a:gd name="adj" fmla="val 21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352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3</a:t>
            </a: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ねん</a:t>
            </a:r>
            <a:endParaRPr b="0" lang="en-US" sz="6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dur="indefinite" fill="hold">
                      <p:stCondLst>
                        <p:cond delay="indefinite"/>
                      </p:stCondLst>
                      <p:childTnLst>
                        <p:par>
                          <p:cTn id="5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ここはどこでしょう？</a:t>
            </a: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ーがで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ーをしなければなりません </a:t>
            </a:r>
            <a:r>
              <a:rPr b="0" lang="fr-FR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をつかってレポートをしてください。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187720" y="412920"/>
            <a:ext cx="60498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Y.OzN_'04"/>
                <a:ea typeface="Y.OzN_'04"/>
              </a:rPr>
              <a:t>どうぶつえん</a:t>
            </a:r>
            <a:endParaRPr b="0" lang="en-US" sz="7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6000" y="546120"/>
            <a:ext cx="4898880" cy="88272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"/>
          <p:cNvSpPr/>
          <p:nvPr/>
        </p:nvSpPr>
        <p:spPr>
          <a:xfrm>
            <a:off x="692280" y="4792680"/>
            <a:ext cx="8719920" cy="134604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fr-FR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  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"/>
          <p:cNvSpPr/>
          <p:nvPr/>
        </p:nvSpPr>
        <p:spPr>
          <a:xfrm>
            <a:off x="1322280" y="1177920"/>
            <a:ext cx="1041480" cy="3814920"/>
          </a:xfrm>
          <a:custGeom>
            <a:avLst/>
            <a:gdLst/>
            <a:ahLst/>
            <a:rect l="l" t="t" r="r" b="b"/>
            <a:pathLst>
              <a:path w="2892" h="10597">
                <a:moveTo>
                  <a:pt x="0" y="0"/>
                </a:moveTo>
                <a:lnTo>
                  <a:pt x="2891" y="1059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348240" y="216072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179280" y="2700360"/>
            <a:ext cx="2405160" cy="65228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41120" y="5056200"/>
            <a:ext cx="9236160" cy="143028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かとうさんとカリナさん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けっこんする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fr-FR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 しっていますか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5" name=""/>
          <p:cNvSpPr/>
          <p:nvPr/>
        </p:nvSpPr>
        <p:spPr>
          <a:xfrm>
            <a:off x="2575080" y="565200"/>
            <a:ext cx="2187360" cy="846000"/>
          </a:xfrm>
          <a:prstGeom prst="roundRect">
            <a:avLst>
              <a:gd name="adj" fmla="val 185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かとうさ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カリナさ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dur="indefinite" fill="hold">
                      <p:stCondLst>
                        <p:cond delay="indefinite"/>
                      </p:stCondLst>
                      <p:childTnLst>
                        <p:par>
                          <p:cTn id="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 fill="hold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68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17928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510000" y="4575240"/>
            <a:ext cx="524520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3" name=""/>
          <p:cNvSpPr/>
          <p:nvPr/>
        </p:nvSpPr>
        <p:spPr>
          <a:xfrm>
            <a:off x="3745080" y="4892760"/>
            <a:ext cx="17049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はい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17928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510000" y="4575240"/>
            <a:ext cx="524520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1" name=""/>
          <p:cNvSpPr/>
          <p:nvPr/>
        </p:nvSpPr>
        <p:spPr>
          <a:xfrm>
            <a:off x="3745080" y="4892760"/>
            <a:ext cx="17049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はい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2" name=""/>
          <p:cNvSpPr/>
          <p:nvPr/>
        </p:nvSpPr>
        <p:spPr>
          <a:xfrm>
            <a:off x="5049720" y="4894200"/>
            <a:ext cx="37353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しっています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dur="indefinite" fill="hold">
                      <p:stCondLst>
                        <p:cond delay="indefinite"/>
                      </p:stCondLst>
                      <p:childTnLst>
                        <p:par>
                          <p:cTn id="5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 fill="hold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29376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470400" y="5919840"/>
            <a:ext cx="6510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0" name=""/>
          <p:cNvSpPr/>
          <p:nvPr/>
        </p:nvSpPr>
        <p:spPr>
          <a:xfrm>
            <a:off x="3679920" y="6224760"/>
            <a:ext cx="22129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いえ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29376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470400" y="5919840"/>
            <a:ext cx="6510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8" name=""/>
          <p:cNvSpPr/>
          <p:nvPr/>
        </p:nvSpPr>
        <p:spPr>
          <a:xfrm>
            <a:off x="3679920" y="6224760"/>
            <a:ext cx="22129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いえ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9" name=""/>
          <p:cNvSpPr/>
          <p:nvPr/>
        </p:nvSpPr>
        <p:spPr>
          <a:xfrm>
            <a:off x="5511960" y="6184800"/>
            <a:ext cx="47527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しりませんでした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6000" y="546120"/>
            <a:ext cx="4898880" cy="88272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0" name=""/>
          <p:cNvSpPr/>
          <p:nvPr/>
        </p:nvSpPr>
        <p:spPr>
          <a:xfrm>
            <a:off x="692280" y="4792680"/>
            <a:ext cx="8719920" cy="134604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の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1" name=""/>
          <p:cNvSpPr/>
          <p:nvPr/>
        </p:nvSpPr>
        <p:spPr>
          <a:xfrm>
            <a:off x="1322280" y="1177920"/>
            <a:ext cx="1041480" cy="3814920"/>
          </a:xfrm>
          <a:custGeom>
            <a:avLst/>
            <a:gdLst/>
            <a:ahLst/>
            <a:rect l="l" t="t" r="r" b="b"/>
            <a:pathLst>
              <a:path w="2892" h="10597">
                <a:moveTo>
                  <a:pt x="0" y="0"/>
                </a:moveTo>
                <a:lnTo>
                  <a:pt x="2891" y="1059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_F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4" name=""/>
          <p:cNvSpPr/>
          <p:nvPr/>
        </p:nvSpPr>
        <p:spPr>
          <a:xfrm>
            <a:off x="216000" y="546120"/>
            <a:ext cx="3660840" cy="750960"/>
          </a:xfrm>
          <a:prstGeom prst="roundRect">
            <a:avLst>
              <a:gd name="adj" fmla="val 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ひ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41440" y="1111320"/>
            <a:ext cx="1163880" cy="4273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_F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" name=""/>
          <p:cNvSpPr/>
          <p:nvPr/>
        </p:nvSpPr>
        <p:spPr>
          <a:xfrm>
            <a:off x="216000" y="546120"/>
            <a:ext cx="3660840" cy="750960"/>
          </a:xfrm>
          <a:prstGeom prst="roundRect">
            <a:avLst>
              <a:gd name="adj" fmla="val 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ひ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1440" y="1111320"/>
            <a:ext cx="1163880" cy="4273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0" name=""/>
          <p:cNvSpPr/>
          <p:nvPr/>
        </p:nvSpPr>
        <p:spPr>
          <a:xfrm>
            <a:off x="3083040" y="5477040"/>
            <a:ext cx="1825560" cy="1098360"/>
          </a:xfrm>
          <a:prstGeom prst="ellipse">
            <a:avLst/>
          </a:prstGeom>
          <a:noFill/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4511520" y="6394320"/>
            <a:ext cx="3937320" cy="997200"/>
          </a:xfrm>
          <a:prstGeom prst="roundRect">
            <a:avLst>
              <a:gd name="adj" fmla="val 15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じしょけい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4:00:32Z</dcterms:created>
  <dc:creator/>
  <dc:description/>
  <dc:language>en-US</dc:language>
  <cp:lastModifiedBy/>
  <dcterms:modified xsi:type="dcterms:W3CDTF">2016-05-24T19:24:22Z</dcterms:modified>
  <cp:revision>19</cp:revision>
  <dc:subject/>
  <dc:title/>
</cp:coreProperties>
</file>