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800" y="4389120"/>
            <a:ext cx="86025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800" y="43891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000" y="43891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2769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69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400" y="2101320"/>
            <a:ext cx="2769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800" y="4389120"/>
            <a:ext cx="2769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89120"/>
            <a:ext cx="2769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400" y="4389120"/>
            <a:ext cx="27698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800" y="2101320"/>
            <a:ext cx="86025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800" y="627120"/>
            <a:ext cx="86025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800" y="43891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000" y="43891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9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800" y="4389120"/>
            <a:ext cx="86025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320"/>
            <a:ext cx="86025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7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1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97964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899640" y="558000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60720" y="3924360"/>
            <a:ext cx="36860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じこしょうか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〜の 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〜です 〜じゃありませ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〜さい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〜から きま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2247840"/>
            <a:ext cx="4825800" cy="1928880"/>
          </a:xfrm>
          <a:prstGeom prst="roundRect">
            <a:avLst>
              <a:gd name="adj" fmla="val 9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360" y="273996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にほん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じ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2160" y="2649600"/>
            <a:ext cx="1742760" cy="5746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6440" y="82440"/>
            <a:ext cx="9344160" cy="1703520"/>
          </a:xfrm>
          <a:prstGeom prst="roundRect">
            <a:avLst>
              <a:gd name="adj" fmla="val 1053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（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France)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にほん・スペイン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Sp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かんこく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Kankoku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Corée)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ちゅうごく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Chûgoku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アルジェリア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Algé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インドネシア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Indonésie)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イギリス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Angleterre)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ベルギー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Belgique)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YOzFontNP04"/>
                <a:ea typeface="YOzFontNP04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に</a:t>
            </a:r>
            <a:r>
              <a:rPr b="0" lang="fr-FR" sz="2400" spc="-1" strike="noStrike">
                <a:solidFill>
                  <a:srgbClr val="ff0000"/>
                </a:solidFill>
                <a:latin typeface="YOzFontNP04"/>
                <a:ea typeface="YOzFontNP04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44560" y="1646280"/>
            <a:ext cx="362160" cy="9507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120" y="1865160"/>
            <a:ext cx="5373720" cy="1917720"/>
          </a:xfrm>
          <a:prstGeom prst="roundRect">
            <a:avLst>
              <a:gd name="adj" fmla="val 935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234792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きょうとだいが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がくせ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42160" y="2649600"/>
            <a:ext cx="1742760" cy="5746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536920" y="3263400"/>
            <a:ext cx="25200" cy="19926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5303880"/>
            <a:ext cx="4646880" cy="1622520"/>
          </a:xfrm>
          <a:prstGeom prst="roundRect">
            <a:avLst>
              <a:gd name="adj" fmla="val 1105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くせい・せんせい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し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しゃ・かいしゃいん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ぎんこういん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etc  </a:t>
            </a:r>
            <a:r>
              <a:rPr b="0" lang="fr-FR" sz="2400" spc="-1" strike="noStrike">
                <a:solidFill>
                  <a:srgbClr val="ff0000"/>
                </a:solidFill>
                <a:latin typeface="YOzFontNP04"/>
                <a:ea typeface="YOzFontNP04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ごと</a:t>
            </a:r>
            <a:r>
              <a:rPr b="0" lang="fr-FR" sz="2400" spc="-1" strike="noStrike">
                <a:solidFill>
                  <a:srgbClr val="ff0000"/>
                </a:solidFill>
                <a:latin typeface="YOzFontNP04"/>
                <a:ea typeface="YOzFontNP04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2160" y="3902040"/>
            <a:ext cx="4853160" cy="836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.OzN_'04"/>
              </a:rPr>
              <a:t>きょうとだいがく・がくせ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2160" y="2649600"/>
            <a:ext cx="1742760" cy="5746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58920" y="5303880"/>
            <a:ext cx="3803760" cy="1771560"/>
          </a:xfrm>
          <a:prstGeom prst="roundRect">
            <a:avLst>
              <a:gd name="adj" fmla="val 1012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984-2008 (24) –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!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→〜いっ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→〜はっ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→〜じゅっ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3440" y="2584440"/>
            <a:ext cx="5373720" cy="1917720"/>
          </a:xfrm>
          <a:prstGeom prst="roundRect">
            <a:avLst>
              <a:gd name="adj" fmla="val 935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560" y="306540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24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198520" y="3649680"/>
            <a:ext cx="200160" cy="171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3440" y="2584440"/>
            <a:ext cx="5373720" cy="1917720"/>
          </a:xfrm>
          <a:prstGeom prst="roundRect">
            <a:avLst>
              <a:gd name="adj" fmla="val 935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34240" y="2857680"/>
            <a:ext cx="1790640" cy="5921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560" y="306540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うぞよろし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ねがいし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0600" y="139680"/>
            <a:ext cx="6316560" cy="7296120"/>
          </a:xfrm>
          <a:custGeom>
            <a:avLst/>
            <a:gdLst>
              <a:gd name="textAreaLeft" fmla="*/ 52200 w 6316560"/>
              <a:gd name="textAreaRight" fmla="*/ 6264360 w 6316560"/>
              <a:gd name="textAreaTop" fmla="*/ 52200 h 7296120"/>
              <a:gd name="textAreaBottom" fmla="*/ 7243920 h 7296120"/>
            </a:gdLst>
            <a:ahLst/>
            <a:rect l="textAreaLeft" t="textAreaTop" r="textAreaRight" b="textAreaBottom"/>
            <a:pathLst>
              <a:path w="21600" h="24949">
                <a:moveTo>
                  <a:pt x="613" y="0"/>
                </a:moveTo>
                <a:arcTo wR="613" hR="613" stAng="16200000" swAng="-5400000"/>
                <a:lnTo>
                  <a:pt x="0" y="24336"/>
                </a:lnTo>
                <a:arcTo wR="613" hR="613" stAng="10800000" swAng="-5400000"/>
                <a:lnTo>
                  <a:pt x="20987" y="24949"/>
                </a:lnTo>
                <a:arcTo wR="613" hR="613" stAng="5400000" swAng="-5400000"/>
                <a:lnTo>
                  <a:pt x="21600" y="613"/>
                </a:lnTo>
                <a:arcTo wR="613" hR="613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520" y="316080"/>
            <a:ext cx="61707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じめまし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かわきょう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32480" y="2725560"/>
            <a:ext cx="1743120" cy="574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7000" y="1724040"/>
            <a:ext cx="7891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きょう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040" y="249408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にほ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600" y="322416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きょうとだいが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がくせ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9520" y="452592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24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9520" y="5416560"/>
            <a:ext cx="46180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よろし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02120" y="2052720"/>
            <a:ext cx="6740280" cy="214956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76600" y="2273400"/>
            <a:ext cx="6240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のひと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リナさんです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5040" y="3625920"/>
            <a:ext cx="2759040" cy="1326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ひ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708120"/>
            <a:ext cx="1522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リ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02120" y="2052720"/>
            <a:ext cx="6764040" cy="1733400"/>
          </a:xfrm>
          <a:prstGeom prst="roundRect">
            <a:avLst>
              <a:gd name="adj" fmla="val 103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79760" y="2297160"/>
            <a:ext cx="624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ジャカルタ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インドネシアじ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81360" y="465120"/>
            <a:ext cx="7105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ジャカルタ・インドネシアじ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02120" y="2052720"/>
            <a:ext cx="6716520" cy="1879560"/>
          </a:xfrm>
          <a:prstGeom prst="roundRect">
            <a:avLst>
              <a:gd name="adj" fmla="val 95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9760" y="2297160"/>
            <a:ext cx="62406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ふじだいがく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がくせ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24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71840" y="488880"/>
            <a:ext cx="52326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じだいがく・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24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02120" y="2052720"/>
            <a:ext cx="6740280" cy="214956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76600" y="2273400"/>
            <a:ext cx="468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ひと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れ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2200" y="3495600"/>
            <a:ext cx="3294000" cy="86364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とう？ やまだ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キャサリ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59000" y="3176640"/>
            <a:ext cx="1295280" cy="1326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13000" y="2727360"/>
            <a:ext cx="6629400" cy="1473120"/>
          </a:xfrm>
          <a:prstGeom prst="roundRect">
            <a:avLst>
              <a:gd name="adj" fmla="val 1217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1240" y="312912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ルメンさんです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528040" y="1677960"/>
            <a:ext cx="1219320" cy="1390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41880" y="1925640"/>
            <a:ext cx="230976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ルメ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84560" y="2502000"/>
            <a:ext cx="509400" cy="4190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535200" y="4359240"/>
            <a:ext cx="2238480" cy="66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1120" y="2075040"/>
            <a:ext cx="2022480" cy="723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661080" y="1654200"/>
            <a:ext cx="2746440" cy="7068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81040" y="417600"/>
            <a:ext cx="4708800" cy="961920"/>
          </a:xfrm>
          <a:prstGeom prst="wedgeRoundRectCallout">
            <a:avLst>
              <a:gd name="adj1" fmla="val -30324"/>
              <a:gd name="adj2" fmla="val 15833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3120" y="620640"/>
            <a:ext cx="3046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はじめまし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02120" y="2052720"/>
            <a:ext cx="6740280" cy="214956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76600" y="2273400"/>
            <a:ext cx="4881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か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1760" y="3544920"/>
            <a:ext cx="3452760" cy="150804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うきょう？ パ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イタリア？ ちゅうご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9000" y="3176640"/>
            <a:ext cx="1295280" cy="1326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13000" y="2727360"/>
            <a:ext cx="6629400" cy="1473120"/>
          </a:xfrm>
          <a:prstGeom prst="roundRect">
            <a:avLst>
              <a:gd name="adj" fmla="val 1217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1240" y="3129120"/>
            <a:ext cx="6446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スペインじ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8528040" y="1677960"/>
            <a:ext cx="1219320" cy="1390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241880" y="1925640"/>
            <a:ext cx="230976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マドリッ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984560" y="2502000"/>
            <a:ext cx="509400" cy="4190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535200" y="4359240"/>
            <a:ext cx="2238480" cy="66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02120" y="2052720"/>
            <a:ext cx="6740280" cy="214956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6600" y="2273400"/>
            <a:ext cx="606096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しごと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ご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2200" y="3495600"/>
            <a:ext cx="3294000" cy="86364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くせい？ いし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い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9000" y="3176640"/>
            <a:ext cx="1295280" cy="1326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13000" y="2727360"/>
            <a:ext cx="6629400" cy="1473120"/>
          </a:xfrm>
          <a:prstGeom prst="roundRect">
            <a:avLst>
              <a:gd name="adj" fmla="val 1217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3920" y="2805120"/>
            <a:ext cx="6446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だいが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がくせ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8528040" y="1677960"/>
            <a:ext cx="1219320" cy="1390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>
            <a:off x="4984560" y="2502000"/>
            <a:ext cx="509400" cy="4190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1360" y="311040"/>
            <a:ext cx="3392640" cy="2270160"/>
          </a:xfrm>
          <a:prstGeom prst="roundRect">
            <a:avLst>
              <a:gd name="adj" fmla="val 6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マドリッドだいが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535200" y="4359240"/>
            <a:ext cx="2238480" cy="66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02120" y="2052720"/>
            <a:ext cx="6891120" cy="1385640"/>
          </a:xfrm>
          <a:prstGeom prst="roundRect">
            <a:avLst>
              <a:gd name="adj" fmla="val 1295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6600" y="2273400"/>
            <a:ext cx="6097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さい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2200" y="3495600"/>
            <a:ext cx="3294000" cy="86364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9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21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59000" y="3176640"/>
            <a:ext cx="1295280" cy="1326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213000" y="2727360"/>
            <a:ext cx="6629400" cy="1473120"/>
          </a:xfrm>
          <a:prstGeom prst="roundRect">
            <a:avLst>
              <a:gd name="adj" fmla="val 1217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1240" y="3129120"/>
            <a:ext cx="6446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19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い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528040" y="1677960"/>
            <a:ext cx="1219320" cy="1390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241880" y="1925640"/>
            <a:ext cx="230976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984560" y="2502000"/>
            <a:ext cx="509400" cy="4190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535200" y="4359240"/>
            <a:ext cx="2238480" cy="66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7160" y="274680"/>
            <a:ext cx="1417320" cy="4424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102120" y="2052720"/>
            <a:ext cx="6875280" cy="2259000"/>
          </a:xfrm>
          <a:prstGeom prst="roundRect">
            <a:avLst>
              <a:gd name="adj" fmla="val 79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2111400"/>
            <a:ext cx="6707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です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し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ござい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535200" y="4359240"/>
            <a:ext cx="2238480" cy="66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H="1" flipV="1">
            <a:off x="1177560" y="2930400"/>
            <a:ext cx="685800" cy="20368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0600" y="290520"/>
            <a:ext cx="1417680" cy="4424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82840" y="5035680"/>
            <a:ext cx="2105280" cy="38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36520" y="4738680"/>
            <a:ext cx="3086280" cy="6600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57400" y="177840"/>
            <a:ext cx="6669000" cy="928800"/>
          </a:xfrm>
          <a:prstGeom prst="roundRect">
            <a:avLst>
              <a:gd name="adj" fmla="val 193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1960" y="474840"/>
            <a:ext cx="56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ひ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れ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819440" y="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6160" y="4083120"/>
            <a:ext cx="1295280" cy="1326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59080" y="1054080"/>
            <a:ext cx="6821640" cy="728640"/>
          </a:xfrm>
          <a:prstGeom prst="roundRect">
            <a:avLst>
              <a:gd name="adj" fmla="val 2467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8956800" y="554040"/>
            <a:ext cx="944280" cy="107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498840" y="1158840"/>
            <a:ext cx="514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ルメンさ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1600" y="1790640"/>
            <a:ext cx="6669360" cy="789120"/>
          </a:xfrm>
          <a:prstGeom prst="roundRect">
            <a:avLst>
              <a:gd name="adj" fmla="val 227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03640" y="3695760"/>
            <a:ext cx="6729120" cy="758880"/>
          </a:xfrm>
          <a:prstGeom prst="roundRect">
            <a:avLst>
              <a:gd name="adj" fmla="val 236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1480" y="2589120"/>
            <a:ext cx="6296040" cy="1050840"/>
          </a:xfrm>
          <a:prstGeom prst="roundRect">
            <a:avLst>
              <a:gd name="adj" fmla="val 170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9880" y="4332240"/>
            <a:ext cx="5205240" cy="1212840"/>
          </a:xfrm>
          <a:prstGeom prst="roundRect">
            <a:avLst>
              <a:gd name="adj" fmla="val 1478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01960" y="476280"/>
            <a:ext cx="56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ひ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れ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09960" y="1812960"/>
            <a:ext cx="5624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2595600"/>
            <a:ext cx="609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ペインじん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5840" y="3733920"/>
            <a:ext cx="5624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しご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52840" y="4292640"/>
            <a:ext cx="5149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マドリッドだいがくのがくせ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22760" y="5622840"/>
            <a:ext cx="4148280" cy="768600"/>
          </a:xfrm>
          <a:prstGeom prst="roundRect">
            <a:avLst>
              <a:gd name="adj" fmla="val 23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44960" y="5668920"/>
            <a:ext cx="56246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さ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33840" y="6431040"/>
            <a:ext cx="6821640" cy="728640"/>
          </a:xfrm>
          <a:prstGeom prst="roundRect">
            <a:avLst>
              <a:gd name="adj" fmla="val 2467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43360" y="6473880"/>
            <a:ext cx="514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19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102120" y="2052720"/>
            <a:ext cx="6740280" cy="214956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6600" y="22734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レサ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ちゃん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35040" y="3625920"/>
            <a:ext cx="2759040" cy="1326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708120"/>
            <a:ext cx="1522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レ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98440" y="450720"/>
            <a:ext cx="116064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flipH="1" flipV="1">
            <a:off x="1204920" y="2525760"/>
            <a:ext cx="1852560" cy="2535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48480" y="4773600"/>
            <a:ext cx="2104920" cy="3819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863800" y="4481640"/>
            <a:ext cx="3086280" cy="6600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102120" y="2052720"/>
            <a:ext cx="6740280" cy="214956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2273400"/>
            <a:ext cx="6240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ん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417760" y="19782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35040" y="3625920"/>
            <a:ext cx="2759040" cy="1326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708120"/>
            <a:ext cx="1522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98440" y="450720"/>
            <a:ext cx="116064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1120" y="2075040"/>
            <a:ext cx="2022480" cy="723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61080" y="1654200"/>
            <a:ext cx="2746440" cy="706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27400" y="379440"/>
            <a:ext cx="4708440" cy="961920"/>
          </a:xfrm>
          <a:prstGeom prst="wedgeRoundRectCallout">
            <a:avLst>
              <a:gd name="adj1" fmla="val 27416"/>
              <a:gd name="adj2" fmla="val 12093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646200"/>
            <a:ext cx="3046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はじめまし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2200" y="184320"/>
            <a:ext cx="1090800" cy="3549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54520" y="208080"/>
            <a:ext cx="4870440" cy="1450800"/>
          </a:xfrm>
          <a:prstGeom prst="roundRect">
            <a:avLst>
              <a:gd name="adj" fmla="val 1236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30800" y="428760"/>
            <a:ext cx="4425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リナ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032280" y="2408400"/>
            <a:ext cx="992160" cy="1290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148280" y="4249800"/>
            <a:ext cx="4624200" cy="1297080"/>
          </a:xfrm>
          <a:prstGeom prst="roundRect">
            <a:avLst>
              <a:gd name="adj" fmla="val 138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00560" y="4300560"/>
            <a:ext cx="40608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76120" y="4854600"/>
            <a:ext cx="1044720" cy="25048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051440" y="5692680"/>
            <a:ext cx="5257800" cy="1465200"/>
          </a:xfrm>
          <a:prstGeom prst="roundRect">
            <a:avLst>
              <a:gd name="adj" fmla="val 122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27720" y="5913360"/>
            <a:ext cx="4568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レサ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ちゃ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876400" y="6080040"/>
            <a:ext cx="992160" cy="1290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527120" y="4976640"/>
            <a:ext cx="854280" cy="2397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1471680" y="138240"/>
            <a:ext cx="1185840" cy="3703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146480" y="1960560"/>
            <a:ext cx="4870440" cy="1450800"/>
          </a:xfrm>
          <a:prstGeom prst="roundRect">
            <a:avLst>
              <a:gd name="adj" fmla="val 1236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2760" y="2181240"/>
            <a:ext cx="4425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76200" y="187200"/>
            <a:ext cx="1236600" cy="4083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857240" y="353880"/>
            <a:ext cx="1352520" cy="4081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94200" y="1244520"/>
            <a:ext cx="3916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ルメン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くせ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62320" y="3780000"/>
            <a:ext cx="391644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くせ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200" y="4470480"/>
            <a:ext cx="3595680" cy="2027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2760" y="2955960"/>
            <a:ext cx="1609560" cy="755640"/>
          </a:xfrm>
          <a:prstGeom prst="roundRect">
            <a:avLst>
              <a:gd name="adj" fmla="val 20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ルメ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5840" y="2808360"/>
            <a:ext cx="1609920" cy="755640"/>
          </a:xfrm>
          <a:prstGeom prst="roundRect">
            <a:avLst>
              <a:gd name="adj" fmla="val 20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きょう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09560" y="4959360"/>
            <a:ext cx="73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5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YOzFontNP04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61880" y="353880"/>
            <a:ext cx="1352520" cy="4081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994200" y="1244520"/>
            <a:ext cx="44751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じ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62320" y="3780000"/>
            <a:ext cx="447516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くん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じ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4200" y="4470480"/>
            <a:ext cx="3595680" cy="2027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9040" y="2808360"/>
            <a:ext cx="1609560" cy="755640"/>
          </a:xfrm>
          <a:prstGeom prst="roundRect">
            <a:avLst>
              <a:gd name="adj" fmla="val 20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きょう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87720" y="1501920"/>
            <a:ext cx="1160280" cy="2867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479680" y="2874960"/>
            <a:ext cx="1609560" cy="755640"/>
          </a:xfrm>
          <a:prstGeom prst="roundRect">
            <a:avLst>
              <a:gd name="adj" fmla="val 20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たろ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5189400"/>
            <a:ext cx="2797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にほんじ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1522080" y="3854520"/>
            <a:ext cx="338040" cy="10936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873520" y="3804840"/>
            <a:ext cx="48960" cy="11271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2181240" cy="6991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5640" y="2103480"/>
            <a:ext cx="3122640" cy="1071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295360" y="109440"/>
            <a:ext cx="2846520" cy="2540160"/>
            <a:chOff x="2295360" y="109440"/>
            <a:chExt cx="2846520" cy="2540160"/>
          </a:xfrm>
        </p:grpSpPr>
        <p:pic>
          <p:nvPicPr>
            <p:cNvPr id="320" name="" descr=""/>
            <p:cNvPicPr/>
            <p:nvPr/>
          </p:nvPicPr>
          <p:blipFill>
            <a:blip r:embed="rId8"/>
            <a:stretch/>
          </p:blipFill>
          <p:spPr>
            <a:xfrm>
              <a:off x="3129120" y="187200"/>
              <a:ext cx="201276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295360" y="109440"/>
              <a:ext cx="1290960" cy="132264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0" spc="-1" strike="noStrike">
                  <a:solidFill>
                    <a:srgbClr val="000000"/>
                  </a:solidFill>
                  <a:latin typeface="YOzFontNP04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しつれいですが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なまえ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60280" y="3705120"/>
            <a:ext cx="5857920" cy="924120"/>
          </a:xfrm>
          <a:prstGeom prst="roundRect">
            <a:avLst>
              <a:gd name="adj" fmla="val 1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とう？ やまだ？ カロリー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キャサリ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792520" y="15080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919680" y="655560"/>
            <a:ext cx="596412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60800" y="739800"/>
            <a:ext cx="581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カルメン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8591400" y="196920"/>
            <a:ext cx="1181160" cy="1790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822840" y="3797280"/>
            <a:ext cx="230976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ルメ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802040" y="1547280"/>
            <a:ext cx="482760" cy="2436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60280" y="3705120"/>
            <a:ext cx="5857920" cy="924120"/>
          </a:xfrm>
          <a:prstGeom prst="roundRect">
            <a:avLst>
              <a:gd name="adj" fmla="val 1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うきょう？ パリ？ イタリ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ゅうご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75040" y="14954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812960" y="655560"/>
            <a:ext cx="807084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4840" y="739800"/>
            <a:ext cx="786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8591400" y="196920"/>
            <a:ext cx="1181160" cy="1790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692520" y="3797280"/>
            <a:ext cx="230976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マドリッ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452760" y="1365120"/>
            <a:ext cx="1224000" cy="2619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812960" y="655560"/>
            <a:ext cx="807084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04840" y="739800"/>
            <a:ext cx="786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スペインじ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8"/>
          <a:stretch/>
        </p:blipFill>
        <p:spPr>
          <a:xfrm>
            <a:off x="8591400" y="196920"/>
            <a:ext cx="118116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60560" y="760320"/>
            <a:ext cx="5303880" cy="962280"/>
          </a:xfrm>
          <a:prstGeom prst="wedgeRoundRectCallout">
            <a:avLst>
              <a:gd name="adj1" fmla="val 42356"/>
              <a:gd name="adj2" fmla="val 9068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5800" y="949320"/>
            <a:ext cx="5078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ff"/>
                </a:solidFill>
                <a:latin typeface="YOzFontN04"/>
                <a:ea typeface="YOzFontN04"/>
              </a:rPr>
              <a:t>マイク・ミラー</a:t>
            </a: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240" y="1920960"/>
            <a:ext cx="2857320" cy="7232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23040" y="1522440"/>
            <a:ext cx="2211480" cy="7068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2720" y="2773440"/>
            <a:ext cx="5303880" cy="961920"/>
          </a:xfrm>
          <a:prstGeom prst="wedgeRoundRectCallout">
            <a:avLst>
              <a:gd name="adj1" fmla="val -57634"/>
              <a:gd name="adj2" fmla="val -2898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7960" y="2962440"/>
            <a:ext cx="5078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ff"/>
                </a:solidFill>
                <a:latin typeface="YOzFontN04"/>
                <a:ea typeface="YOzFontN04"/>
              </a:rPr>
              <a:t>さとう けいこ</a:t>
            </a:r>
            <a:r>
              <a:rPr b="0" lang="fr-FR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 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936880" y="3514320"/>
            <a:ext cx="1608120" cy="1211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360" y="4689360"/>
            <a:ext cx="9151920" cy="74628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まえ ： ありすえ・あべ・</a:t>
            </a:r>
            <a:r>
              <a:rPr b="0" lang="fr-FR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Jacques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・</a:t>
            </a:r>
            <a:r>
              <a:rPr b="0" lang="fr-FR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Chirac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83000" y="1527120"/>
            <a:ext cx="2455560" cy="32241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しご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60280" y="3705120"/>
            <a:ext cx="5857920" cy="924120"/>
          </a:xfrm>
          <a:prstGeom prst="roundRect">
            <a:avLst>
              <a:gd name="adj" fmla="val 1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くせい？ かいしゃい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しゃ？ エンジニ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075040" y="14954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682640" y="509760"/>
            <a:ext cx="8232840" cy="1369800"/>
          </a:xfrm>
          <a:prstGeom prst="roundRect">
            <a:avLst>
              <a:gd name="adj" fmla="val 13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78120" y="606600"/>
            <a:ext cx="678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だいが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がくせ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8591400" y="196920"/>
            <a:ext cx="1181160" cy="17906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 flipV="1">
            <a:off x="3235320" y="1836720"/>
            <a:ext cx="430200" cy="1952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5200" y="3654360"/>
            <a:ext cx="3392280" cy="2270160"/>
          </a:xfrm>
          <a:prstGeom prst="roundRect">
            <a:avLst>
              <a:gd name="adj" fmla="val 6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マドリッドだいが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いく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592280" y="3639960"/>
            <a:ext cx="2727360" cy="98928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9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21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075040" y="14954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919680" y="655560"/>
            <a:ext cx="596412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60800" y="739800"/>
            <a:ext cx="581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19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8"/>
          <a:stretch/>
        </p:blipFill>
        <p:spPr>
          <a:xfrm>
            <a:off x="8591400" y="196920"/>
            <a:ext cx="1181160" cy="1790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449600" y="4227480"/>
            <a:ext cx="1344600" cy="652320"/>
          </a:xfrm>
          <a:prstGeom prst="roundRect">
            <a:avLst>
              <a:gd name="adj" fmla="val 24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849560" y="1339560"/>
            <a:ext cx="282600" cy="30099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2200320" cy="69915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744560" y="316080"/>
            <a:ext cx="8466120" cy="1276200"/>
          </a:xfrm>
          <a:prstGeom prst="roundRect">
            <a:avLst>
              <a:gd name="adj" fmla="val 1405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1160" y="422280"/>
            <a:ext cx="82695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よろしくおねがい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687760" y="260280"/>
            <a:ext cx="7196040" cy="1357560"/>
          </a:xfrm>
          <a:prstGeom prst="roundRect">
            <a:avLst>
              <a:gd name="adj" fmla="val 13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0200" y="482760"/>
            <a:ext cx="68277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ちらこ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ろしくおねがい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8591400" y="196920"/>
            <a:ext cx="1181160" cy="1790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539640" y="1333440"/>
            <a:ext cx="2200320" cy="699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79280" y="485640"/>
            <a:ext cx="8269560" cy="91620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6200" y="56520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しつれいですが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080" y="1450800"/>
            <a:ext cx="3722760" cy="91620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9200" y="1531800"/>
            <a:ext cx="39830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なまえ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60200" y="5703840"/>
            <a:ext cx="1314720" cy="1505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964040" y="1504800"/>
            <a:ext cx="4548240" cy="830520"/>
          </a:xfrm>
          <a:prstGeom prst="roundRect">
            <a:avLst>
              <a:gd name="adj" fmla="val 216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78520" y="1577880"/>
            <a:ext cx="4406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カルメン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8616960" y="5403960"/>
            <a:ext cx="1181160" cy="17906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79280" y="2430360"/>
            <a:ext cx="4560840" cy="897120"/>
          </a:xfrm>
          <a:prstGeom prst="roundRect">
            <a:avLst>
              <a:gd name="adj" fmla="val 2003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080" y="2587680"/>
            <a:ext cx="55720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9880" y="3968640"/>
            <a:ext cx="3862440" cy="91620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200" y="4024440"/>
            <a:ext cx="36529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しご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8840" y="4960800"/>
            <a:ext cx="4635360" cy="91620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8280" y="5041800"/>
            <a:ext cx="45165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いく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81760" y="5025960"/>
            <a:ext cx="338112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76800" y="5111640"/>
            <a:ext cx="396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19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い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16280" y="3651120"/>
            <a:ext cx="5175360" cy="1289160"/>
          </a:xfrm>
          <a:prstGeom prst="roundRect">
            <a:avLst>
              <a:gd name="adj" fmla="val 139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86480" y="3814920"/>
            <a:ext cx="5636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だいがく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がくせい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4920" y="2405160"/>
            <a:ext cx="5364000" cy="1049400"/>
          </a:xfrm>
          <a:prstGeom prst="roundRect">
            <a:avLst>
              <a:gd name="adj" fmla="val 17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06800" y="2490840"/>
            <a:ext cx="517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マドリッド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スペインじん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2181240" cy="6991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195640" y="2103480"/>
            <a:ext cx="5802120" cy="16542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95360" y="109440"/>
            <a:ext cx="2846520" cy="2540160"/>
            <a:chOff x="2295360" y="109440"/>
            <a:chExt cx="2846520" cy="2540160"/>
          </a:xfrm>
        </p:grpSpPr>
        <p:pic>
          <p:nvPicPr>
            <p:cNvPr id="487" name="" descr=""/>
            <p:cNvPicPr/>
            <p:nvPr/>
          </p:nvPicPr>
          <p:blipFill>
            <a:blip r:embed="rId8"/>
            <a:stretch/>
          </p:blipFill>
          <p:spPr>
            <a:xfrm>
              <a:off x="3129120" y="187200"/>
              <a:ext cx="201276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295360" y="109440"/>
              <a:ext cx="1290960" cy="132264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8000" spc="-1" strike="noStrike">
                  <a:solidFill>
                    <a:srgbClr val="000000"/>
                  </a:solidFill>
                  <a:latin typeface="YOzFontNP04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しつれいですが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なまえ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260280" y="3705120"/>
            <a:ext cx="5857920" cy="924120"/>
          </a:xfrm>
          <a:prstGeom prst="roundRect">
            <a:avLst>
              <a:gd name="adj" fmla="val 1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とう？ やまだ？ ピエール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シラ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792520" y="15080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dur="indefinite" fill="hold">
                      <p:stCondLst>
                        <p:cond delay="indefinite"/>
                      </p:stCondLst>
                      <p:childTnLst>
                        <p:par>
                          <p:cTn id="4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1120" y="2075040"/>
            <a:ext cx="2022480" cy="7232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661080" y="1654200"/>
            <a:ext cx="2746440" cy="706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81040" y="417600"/>
            <a:ext cx="4759560" cy="1353960"/>
          </a:xfrm>
          <a:prstGeom prst="wedgeRoundRectCallout">
            <a:avLst>
              <a:gd name="adj1" fmla="val -30537"/>
              <a:gd name="adj2" fmla="val 97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13120" y="620640"/>
            <a:ext cx="4063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どうぞ よろし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3919680" y="655560"/>
            <a:ext cx="596412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60800" y="739800"/>
            <a:ext cx="581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ロラン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8"/>
          <a:stretch/>
        </p:blipFill>
        <p:spPr>
          <a:xfrm>
            <a:off x="8690040" y="352440"/>
            <a:ext cx="1004760" cy="1305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824280" y="3797280"/>
            <a:ext cx="230976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802040" y="1547280"/>
            <a:ext cx="482760" cy="2436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60280" y="3705120"/>
            <a:ext cx="5857920" cy="924120"/>
          </a:xfrm>
          <a:prstGeom prst="roundRect">
            <a:avLst>
              <a:gd name="adj" fmla="val 1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うきょう？ パリ？ イタリ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ゅうご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75040" y="14954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892160" y="509760"/>
            <a:ext cx="7993080" cy="1108080"/>
          </a:xfrm>
          <a:prstGeom prst="roundRect">
            <a:avLst>
              <a:gd name="adj" fmla="val 16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81160" y="606600"/>
            <a:ext cx="778824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ルドー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んでい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8690040" y="352440"/>
            <a:ext cx="1004760" cy="1305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693960" y="3797280"/>
            <a:ext cx="2310120" cy="70488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ルド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3452760" y="1365120"/>
            <a:ext cx="1224000" cy="2619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919680" y="655560"/>
            <a:ext cx="596412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0800" y="739800"/>
            <a:ext cx="581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じ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8690040" y="352440"/>
            <a:ext cx="1004760" cy="1305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4746600" y="3800520"/>
            <a:ext cx="2089080" cy="70164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4614480" y="1377720"/>
            <a:ext cx="669960" cy="260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しご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60280" y="3705120"/>
            <a:ext cx="5857920" cy="924120"/>
          </a:xfrm>
          <a:prstGeom prst="roundRect">
            <a:avLst>
              <a:gd name="adj" fmla="val 17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くせい？ かいしゃい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しゃ？ エンジニ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075040" y="14954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487520" y="482760"/>
            <a:ext cx="8593200" cy="1565280"/>
          </a:xfrm>
          <a:prstGeom prst="roundRect">
            <a:avLst>
              <a:gd name="adj" fmla="val 1145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17880" y="871560"/>
            <a:ext cx="581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いしゃい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8"/>
          <a:stretch/>
        </p:blipFill>
        <p:spPr>
          <a:xfrm>
            <a:off x="8690040" y="352440"/>
            <a:ext cx="1004760" cy="1305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940200" y="3549600"/>
            <a:ext cx="3392640" cy="2270160"/>
          </a:xfrm>
          <a:prstGeom prst="roundRect">
            <a:avLst>
              <a:gd name="adj" fmla="val 6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4717800" y="1795320"/>
            <a:ext cx="609480" cy="18892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487520" y="482760"/>
            <a:ext cx="8593200" cy="1565280"/>
          </a:xfrm>
          <a:prstGeom prst="roundRect">
            <a:avLst>
              <a:gd name="adj" fmla="val 1145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25480" y="584280"/>
            <a:ext cx="58118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フランステレコム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ゃい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8"/>
          <a:stretch/>
        </p:blipFill>
        <p:spPr>
          <a:xfrm>
            <a:off x="8690040" y="352440"/>
            <a:ext cx="1004760" cy="1305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940200" y="3549600"/>
            <a:ext cx="3392640" cy="2270160"/>
          </a:xfrm>
          <a:prstGeom prst="roundRect">
            <a:avLst>
              <a:gd name="adj" fmla="val 6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テレコ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4717800" y="1795320"/>
            <a:ext cx="609480" cy="18892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614600" y="708120"/>
            <a:ext cx="8269200" cy="915840"/>
          </a:xfrm>
          <a:prstGeom prst="roundRect">
            <a:avLst>
              <a:gd name="adj" fmla="val 196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11160" y="787320"/>
            <a:ext cx="8058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いく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592280" y="3639960"/>
            <a:ext cx="2727360" cy="98928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19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21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075040" y="1495440"/>
            <a:ext cx="209520" cy="2254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3097440" cy="69915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919680" y="655560"/>
            <a:ext cx="5964120" cy="966960"/>
          </a:xfrm>
          <a:prstGeom prst="roundRect">
            <a:avLst>
              <a:gd name="adj" fmla="val 18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60800" y="739800"/>
            <a:ext cx="581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3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8"/>
          <a:stretch/>
        </p:blipFill>
        <p:spPr>
          <a:xfrm>
            <a:off x="8690040" y="352440"/>
            <a:ext cx="1004760" cy="1305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748040" y="3800520"/>
            <a:ext cx="2089440" cy="701640"/>
          </a:xfrm>
          <a:prstGeom prst="roundRect">
            <a:avLst>
              <a:gd name="adj" fmla="val 22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614480" y="1377720"/>
            <a:ext cx="669960" cy="260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39640" y="1306440"/>
            <a:ext cx="2200320" cy="69915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744560" y="316080"/>
            <a:ext cx="8466120" cy="1276200"/>
          </a:xfrm>
          <a:prstGeom prst="roundRect">
            <a:avLst>
              <a:gd name="adj" fmla="val 1405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11160" y="422280"/>
            <a:ext cx="82695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よろしくおねがい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8"/>
          <a:stretch/>
        </p:blipFill>
        <p:spPr>
          <a:xfrm>
            <a:off x="420840" y="184320"/>
            <a:ext cx="131436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1120" y="2075040"/>
            <a:ext cx="2022480" cy="723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661080" y="1654200"/>
            <a:ext cx="2746440" cy="7068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69960" y="379440"/>
            <a:ext cx="5050080" cy="1784160"/>
          </a:xfrm>
          <a:prstGeom prst="wedgeRoundRectCallout">
            <a:avLst>
              <a:gd name="adj1" fmla="val 55000"/>
              <a:gd name="adj2" fmla="val 4218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8000" y="519120"/>
            <a:ext cx="40640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04"/>
                <a:ea typeface="YOzFontN04"/>
              </a:rPr>
              <a:t>こちらこ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どうぞ よろし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04"/>
                <a:ea typeface="YOzFontN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1600" y="2963880"/>
            <a:ext cx="1459080" cy="1193760"/>
          </a:xfrm>
          <a:custGeom>
            <a:avLst/>
            <a:gdLst/>
            <a:ahLst/>
            <a:rect l="l" t="t" r="r" b="b"/>
            <a:pathLst>
              <a:path w="4052" h="3316">
                <a:moveTo>
                  <a:pt x="2763" y="180"/>
                </a:moveTo>
                <a:cubicBezTo>
                  <a:pt x="2368" y="45"/>
                  <a:pt x="1952" y="102"/>
                  <a:pt x="1548" y="108"/>
                </a:cubicBezTo>
                <a:cubicBezTo>
                  <a:pt x="1144" y="114"/>
                  <a:pt x="685" y="0"/>
                  <a:pt x="404" y="537"/>
                </a:cubicBezTo>
                <a:cubicBezTo>
                  <a:pt x="214" y="900"/>
                  <a:pt x="84" y="1250"/>
                  <a:pt x="46" y="1646"/>
                </a:cubicBezTo>
                <a:cubicBezTo>
                  <a:pt x="0" y="2124"/>
                  <a:pt x="285" y="2534"/>
                  <a:pt x="654" y="2754"/>
                </a:cubicBezTo>
                <a:cubicBezTo>
                  <a:pt x="1009" y="2965"/>
                  <a:pt x="1397" y="3116"/>
                  <a:pt x="1798" y="3219"/>
                </a:cubicBezTo>
                <a:cubicBezTo>
                  <a:pt x="2172" y="3315"/>
                  <a:pt x="2565" y="3296"/>
                  <a:pt x="2942" y="3219"/>
                </a:cubicBezTo>
                <a:cubicBezTo>
                  <a:pt x="3432" y="3119"/>
                  <a:pt x="3542" y="2599"/>
                  <a:pt x="3836" y="2289"/>
                </a:cubicBezTo>
                <a:lnTo>
                  <a:pt x="4015" y="1896"/>
                </a:lnTo>
                <a:lnTo>
                  <a:pt x="4051" y="178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7240680" y="439740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4851360" y="3197160"/>
            <a:ext cx="2533680" cy="40957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245120" y="2309760"/>
            <a:ext cx="2852640" cy="570060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3308400" y="4743360"/>
            <a:ext cx="3743280" cy="33530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562800" y="2714760"/>
            <a:ext cx="3157560" cy="68245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5927760" y="5735520"/>
            <a:ext cx="3743280" cy="33530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687760" y="260280"/>
            <a:ext cx="7196040" cy="1357560"/>
          </a:xfrm>
          <a:prstGeom prst="roundRect">
            <a:avLst>
              <a:gd name="adj" fmla="val 13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0200" y="482760"/>
            <a:ext cx="68277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ちらこ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ろしくおねがい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7"/>
          <a:stretch/>
        </p:blipFill>
        <p:spPr>
          <a:xfrm>
            <a:off x="539640" y="1306440"/>
            <a:ext cx="2200320" cy="69915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8885160" y="262080"/>
            <a:ext cx="1005120" cy="130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680" y="473040"/>
            <a:ext cx="7916760" cy="990720"/>
          </a:xfrm>
          <a:prstGeom prst="roundRect">
            <a:avLst>
              <a:gd name="adj" fmla="val 1810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81440" y="3519000"/>
            <a:ext cx="1228680" cy="349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1960" y="600120"/>
            <a:ext cx="7489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ちら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かわ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39720" y="2049480"/>
            <a:ext cx="3300480" cy="652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942160" y="2649600"/>
            <a:ext cx="1742760" cy="5746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18080" y="1809720"/>
            <a:ext cx="29782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600" y="1738440"/>
            <a:ext cx="6377040" cy="1485720"/>
          </a:xfrm>
          <a:prstGeom prst="roundRect">
            <a:avLst>
              <a:gd name="adj" fmla="val 120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2120" y="1852560"/>
            <a:ext cx="5980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はじめまして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かわきょう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2160" y="2649600"/>
            <a:ext cx="1742760" cy="57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65160" y="677880"/>
            <a:ext cx="7320240" cy="3992400"/>
          </a:xfrm>
          <a:prstGeom prst="roundRect">
            <a:avLst>
              <a:gd name="adj" fmla="val 3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6240" y="811080"/>
            <a:ext cx="6951600" cy="3719520"/>
          </a:xfrm>
          <a:prstGeom prst="roundRect">
            <a:avLst>
              <a:gd name="adj" fmla="val 42"/>
            </a:avLst>
          </a:pr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19880" y="1809720"/>
            <a:ext cx="2977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YAMAK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8800" y="1751040"/>
            <a:ext cx="4825800" cy="1928880"/>
          </a:xfrm>
          <a:prstGeom prst="roundRect">
            <a:avLst>
              <a:gd name="adj" fmla="val 9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1878120"/>
            <a:ext cx="4265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きょう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きま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42160" y="2649600"/>
            <a:ext cx="1742760" cy="574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2200" y="527040"/>
            <a:ext cx="2021040" cy="836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きょう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4760" y="347760"/>
            <a:ext cx="1660320" cy="1193760"/>
          </a:xfrm>
          <a:custGeom>
            <a:avLst/>
            <a:gdLst/>
            <a:ahLst/>
            <a:rect l="l" t="t" r="r" b="b"/>
            <a:pathLst>
              <a:path w="4613" h="3315">
                <a:moveTo>
                  <a:pt x="0" y="525"/>
                </a:moveTo>
                <a:cubicBezTo>
                  <a:pt x="395" y="415"/>
                  <a:pt x="767" y="210"/>
                  <a:pt x="1180" y="168"/>
                </a:cubicBezTo>
                <a:cubicBezTo>
                  <a:pt x="1633" y="122"/>
                  <a:pt x="2078" y="0"/>
                  <a:pt x="2503" y="168"/>
                </a:cubicBezTo>
                <a:cubicBezTo>
                  <a:pt x="2971" y="354"/>
                  <a:pt x="3374" y="729"/>
                  <a:pt x="3611" y="1169"/>
                </a:cubicBezTo>
                <a:cubicBezTo>
                  <a:pt x="3831" y="1577"/>
                  <a:pt x="4233" y="1840"/>
                  <a:pt x="4326" y="2313"/>
                </a:cubicBezTo>
                <a:lnTo>
                  <a:pt x="4469" y="2671"/>
                </a:lnTo>
                <a:lnTo>
                  <a:pt x="4576" y="3064"/>
                </a:lnTo>
                <a:lnTo>
                  <a:pt x="4612" y="3314"/>
                </a:lnTo>
              </a:path>
            </a:pathLst>
          </a:custGeom>
          <a:noFill/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7:19:40Z</dcterms:created>
  <dc:creator/>
  <dc:description/>
  <dc:language>en-US</dc:language>
  <cp:lastModifiedBy/>
  <dcterms:modified xsi:type="dcterms:W3CDTF">2016-05-24T19:13:42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