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29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4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4292640" y="4813200"/>
            <a:ext cx="365760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いま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どうし＋て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" name=""/>
          <p:cNvSpPr/>
          <p:nvPr/>
        </p:nvSpPr>
        <p:spPr>
          <a:xfrm>
            <a:off x="2243160" y="7529400"/>
            <a:ext cx="61920" cy="32040"/>
          </a:xfrm>
          <a:custGeom>
            <a:avLst/>
            <a:gdLst/>
            <a:ahLst/>
            <a:rect l="l" t="t" r="r" b="b"/>
            <a:pathLst>
              <a:path w="172" h="86">
                <a:moveTo>
                  <a:pt x="171" y="85"/>
                </a:moveTo>
                <a:lnTo>
                  <a:pt x="0" y="0"/>
                </a:lnTo>
                <a:lnTo>
                  <a:pt x="171" y="8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79760" y="2319480"/>
            <a:ext cx="2162160" cy="6495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22320" y="5462640"/>
            <a:ext cx="8393040" cy="183024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2371680" y="5751360"/>
            <a:ext cx="58834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ち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さいふを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すれ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い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5670720" y="1353960"/>
            <a:ext cx="3809880" cy="1562400"/>
          </a:xfrm>
          <a:prstGeom prst="cloudCallout">
            <a:avLst>
              <a:gd name="adj1" fmla="val -54685"/>
              <a:gd name="adj2" fmla="val 5856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ふが ない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ちだ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185840" y="6197760"/>
            <a:ext cx="1038240" cy="106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79760" y="2319480"/>
            <a:ext cx="2162160" cy="6495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22320" y="5462640"/>
            <a:ext cx="8393040" cy="183024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2371680" y="5751360"/>
            <a:ext cx="63914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こか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さいふを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すれ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い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0" name=""/>
          <p:cNvSpPr/>
          <p:nvPr/>
        </p:nvSpPr>
        <p:spPr>
          <a:xfrm>
            <a:off x="5232240" y="1214280"/>
            <a:ext cx="4569120" cy="1711440"/>
          </a:xfrm>
          <a:prstGeom prst="cloudCallout">
            <a:avLst>
              <a:gd name="adj1" fmla="val -44300"/>
              <a:gd name="adj2" fmla="val 5725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ふが ない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こ？ わからない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185840" y="6197760"/>
            <a:ext cx="1038240" cy="106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97280" y="0"/>
            <a:ext cx="4480200" cy="7242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27280" y="758880"/>
            <a:ext cx="6357960" cy="1119240"/>
          </a:xfrm>
          <a:prstGeom prst="roundRect">
            <a:avLst>
              <a:gd name="adj" fmla="val 160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ぎ、うたいた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128520" y="3527280"/>
            <a:ext cx="4208400" cy="1879920"/>
          </a:xfrm>
          <a:prstGeom prst="roundRect">
            <a:avLst>
              <a:gd name="adj" fmla="val 954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つも こえが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おきいですから、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いさい こえで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ってくださいね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3600"/>
            <a:ext cx="10078920" cy="727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39920" y="5097600"/>
            <a:ext cx="7413840" cy="1479240"/>
          </a:xfrm>
          <a:prstGeom prst="roundRect">
            <a:avLst>
              <a:gd name="adj" fmla="val 12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7" name=""/>
          <p:cNvSpPr/>
          <p:nvPr/>
        </p:nvSpPr>
        <p:spPr>
          <a:xfrm>
            <a:off x="2678040" y="5407200"/>
            <a:ext cx="711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つい（＝おもわず）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え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おきくなっ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しまい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1428840" y="6203880"/>
            <a:ext cx="4478400" cy="957240"/>
          </a:xfrm>
          <a:custGeom>
            <a:avLst/>
            <a:gdLst/>
            <a:ahLst/>
            <a:rect l="l" t="t" r="r" b="b"/>
            <a:pathLst>
              <a:path w="12442" h="2661">
                <a:moveTo>
                  <a:pt x="0" y="777"/>
                </a:moveTo>
                <a:cubicBezTo>
                  <a:pt x="89" y="1026"/>
                  <a:pt x="234" y="1275"/>
                  <a:pt x="459" y="1498"/>
                </a:cubicBezTo>
                <a:cubicBezTo>
                  <a:pt x="676" y="1717"/>
                  <a:pt x="766" y="1997"/>
                  <a:pt x="1181" y="2133"/>
                </a:cubicBezTo>
                <a:cubicBezTo>
                  <a:pt x="1616" y="2274"/>
                  <a:pt x="2127" y="2333"/>
                  <a:pt x="2561" y="2476"/>
                </a:cubicBezTo>
                <a:cubicBezTo>
                  <a:pt x="3026" y="2629"/>
                  <a:pt x="3491" y="2613"/>
                  <a:pt x="3971" y="2637"/>
                </a:cubicBezTo>
                <a:cubicBezTo>
                  <a:pt x="4385" y="2660"/>
                  <a:pt x="4804" y="2644"/>
                  <a:pt x="5219" y="2637"/>
                </a:cubicBezTo>
                <a:cubicBezTo>
                  <a:pt x="5624" y="2632"/>
                  <a:pt x="6032" y="2647"/>
                  <a:pt x="6435" y="2601"/>
                </a:cubicBezTo>
                <a:cubicBezTo>
                  <a:pt x="6912" y="2550"/>
                  <a:pt x="7378" y="2527"/>
                  <a:pt x="7846" y="2476"/>
                </a:cubicBezTo>
                <a:cubicBezTo>
                  <a:pt x="8217" y="2434"/>
                  <a:pt x="8586" y="2419"/>
                  <a:pt x="8962" y="2384"/>
                </a:cubicBezTo>
                <a:cubicBezTo>
                  <a:pt x="9435" y="2341"/>
                  <a:pt x="9826" y="2205"/>
                  <a:pt x="10241" y="2097"/>
                </a:cubicBezTo>
                <a:cubicBezTo>
                  <a:pt x="10699" y="1978"/>
                  <a:pt x="11137" y="1801"/>
                  <a:pt x="11391" y="1556"/>
                </a:cubicBezTo>
                <a:cubicBezTo>
                  <a:pt x="11604" y="1347"/>
                  <a:pt x="11890" y="1158"/>
                  <a:pt x="11981" y="921"/>
                </a:cubicBezTo>
                <a:cubicBezTo>
                  <a:pt x="12080" y="663"/>
                  <a:pt x="12350" y="443"/>
                  <a:pt x="12408" y="180"/>
                </a:cubicBezTo>
                <a:lnTo>
                  <a:pt x="12441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5360" y="5506920"/>
            <a:ext cx="130824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8520" y="1441440"/>
            <a:ext cx="7729560" cy="5318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21000" y="5573880"/>
            <a:ext cx="7413480" cy="1479240"/>
          </a:xfrm>
          <a:prstGeom prst="roundRect">
            <a:avLst>
              <a:gd name="adj" fmla="val 12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2536920" y="5780160"/>
            <a:ext cx="660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つい（＝おもわず）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くさ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んで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しまい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1300320" y="6899400"/>
            <a:ext cx="4465440" cy="441360"/>
          </a:xfrm>
          <a:custGeom>
            <a:avLst/>
            <a:gdLst/>
            <a:ahLst/>
            <a:rect l="l" t="t" r="r" b="b"/>
            <a:pathLst>
              <a:path w="12406" h="1225">
                <a:moveTo>
                  <a:pt x="0" y="357"/>
                </a:moveTo>
                <a:cubicBezTo>
                  <a:pt x="89" y="472"/>
                  <a:pt x="233" y="586"/>
                  <a:pt x="458" y="689"/>
                </a:cubicBezTo>
                <a:cubicBezTo>
                  <a:pt x="674" y="790"/>
                  <a:pt x="764" y="919"/>
                  <a:pt x="1178" y="981"/>
                </a:cubicBezTo>
                <a:cubicBezTo>
                  <a:pt x="1611" y="1046"/>
                  <a:pt x="2121" y="1073"/>
                  <a:pt x="2554" y="1139"/>
                </a:cubicBezTo>
                <a:cubicBezTo>
                  <a:pt x="3017" y="1209"/>
                  <a:pt x="3481" y="1202"/>
                  <a:pt x="3960" y="1213"/>
                </a:cubicBezTo>
                <a:cubicBezTo>
                  <a:pt x="4372" y="1224"/>
                  <a:pt x="4790" y="1216"/>
                  <a:pt x="5204" y="1213"/>
                </a:cubicBezTo>
                <a:cubicBezTo>
                  <a:pt x="5608" y="1211"/>
                  <a:pt x="6015" y="1218"/>
                  <a:pt x="6416" y="1196"/>
                </a:cubicBezTo>
                <a:cubicBezTo>
                  <a:pt x="6892" y="1173"/>
                  <a:pt x="7357" y="1162"/>
                  <a:pt x="7823" y="1139"/>
                </a:cubicBezTo>
                <a:cubicBezTo>
                  <a:pt x="8193" y="1120"/>
                  <a:pt x="8561" y="1113"/>
                  <a:pt x="8936" y="1097"/>
                </a:cubicBezTo>
                <a:cubicBezTo>
                  <a:pt x="9408" y="1077"/>
                  <a:pt x="9798" y="1014"/>
                  <a:pt x="10211" y="965"/>
                </a:cubicBezTo>
                <a:cubicBezTo>
                  <a:pt x="10668" y="910"/>
                  <a:pt x="11105" y="828"/>
                  <a:pt x="11358" y="716"/>
                </a:cubicBezTo>
                <a:cubicBezTo>
                  <a:pt x="11570" y="620"/>
                  <a:pt x="11856" y="533"/>
                  <a:pt x="11946" y="424"/>
                </a:cubicBezTo>
                <a:cubicBezTo>
                  <a:pt x="12045" y="305"/>
                  <a:pt x="12314" y="204"/>
                  <a:pt x="12372" y="83"/>
                </a:cubicBezTo>
                <a:lnTo>
                  <a:pt x="12405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4480" y="5673600"/>
            <a:ext cx="1307880" cy="1339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2600" y="290520"/>
            <a:ext cx="6686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さけを たくさん のむことは よくないですが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ストが きょう おわりましたから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81000"/>
            <a:ext cx="10078920" cy="7278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50960" y="2657520"/>
            <a:ext cx="3938760" cy="1042920"/>
          </a:xfrm>
          <a:prstGeom prst="roundRect">
            <a:avLst>
              <a:gd name="adj" fmla="val 1722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った…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21120" y="785880"/>
            <a:ext cx="130824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8040" y="911160"/>
            <a:ext cx="84646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cf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「しゅくだいは もう しましたか。」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「はい、もう し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まい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」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820000" y="2860560"/>
            <a:ext cx="113364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2960" y="668160"/>
            <a:ext cx="7301160" cy="67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しまいます 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(GR1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ゃいます・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じゃ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（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fam.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なしことば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しま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ゃう・じゃ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（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fam.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、はなしことば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8480" y="0"/>
            <a:ext cx="369108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5000" y="3900600"/>
            <a:ext cx="1168200" cy="2301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20920" y="0"/>
            <a:ext cx="3691080" cy="2301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80920" y="3732120"/>
            <a:ext cx="3843360" cy="6147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90920" y="3863880"/>
            <a:ext cx="4595760" cy="133992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3906720" y="5437080"/>
            <a:ext cx="5384880" cy="13096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き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つけ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6037200" y="6496200"/>
            <a:ext cx="3649680" cy="10652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どうし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281160" y="3921120"/>
            <a:ext cx="3757320" cy="2076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305080" y="2440080"/>
            <a:ext cx="1173240" cy="15112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2725560" y="638280"/>
            <a:ext cx="5005440" cy="2076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843280" y="1222200"/>
            <a:ext cx="10079280" cy="633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2160" y="617400"/>
            <a:ext cx="7413480" cy="1479600"/>
          </a:xfrm>
          <a:prstGeom prst="roundRect">
            <a:avLst>
              <a:gd name="adj" fmla="val 12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"/>
          <p:cNvSpPr/>
          <p:nvPr/>
        </p:nvSpPr>
        <p:spPr>
          <a:xfrm>
            <a:off x="2535120" y="103824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くれ</a:t>
            </a: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しまいました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1724040" y="1635120"/>
            <a:ext cx="4363920" cy="801720"/>
          </a:xfrm>
          <a:custGeom>
            <a:avLst/>
            <a:gdLst/>
            <a:ahLst/>
            <a:rect l="l" t="t" r="r" b="b"/>
            <a:pathLst>
              <a:path w="12122" h="2227">
                <a:moveTo>
                  <a:pt x="0" y="650"/>
                </a:moveTo>
                <a:cubicBezTo>
                  <a:pt x="87" y="859"/>
                  <a:pt x="228" y="1067"/>
                  <a:pt x="447" y="1254"/>
                </a:cubicBezTo>
                <a:cubicBezTo>
                  <a:pt x="659" y="1437"/>
                  <a:pt x="746" y="1671"/>
                  <a:pt x="1151" y="1785"/>
                </a:cubicBezTo>
                <a:cubicBezTo>
                  <a:pt x="1574" y="1903"/>
                  <a:pt x="2072" y="1952"/>
                  <a:pt x="2495" y="2072"/>
                </a:cubicBezTo>
                <a:cubicBezTo>
                  <a:pt x="2948" y="2200"/>
                  <a:pt x="3401" y="2187"/>
                  <a:pt x="3869" y="2207"/>
                </a:cubicBezTo>
                <a:cubicBezTo>
                  <a:pt x="4272" y="2226"/>
                  <a:pt x="4680" y="2213"/>
                  <a:pt x="5085" y="2207"/>
                </a:cubicBezTo>
                <a:cubicBezTo>
                  <a:pt x="5479" y="2203"/>
                  <a:pt x="5877" y="2215"/>
                  <a:pt x="6269" y="2177"/>
                </a:cubicBezTo>
                <a:cubicBezTo>
                  <a:pt x="6734" y="2134"/>
                  <a:pt x="7188" y="2115"/>
                  <a:pt x="7644" y="2072"/>
                </a:cubicBezTo>
                <a:cubicBezTo>
                  <a:pt x="8006" y="2037"/>
                  <a:pt x="8365" y="2024"/>
                  <a:pt x="8731" y="1995"/>
                </a:cubicBezTo>
                <a:cubicBezTo>
                  <a:pt x="9192" y="1959"/>
                  <a:pt x="9573" y="1845"/>
                  <a:pt x="9978" y="1755"/>
                </a:cubicBezTo>
                <a:cubicBezTo>
                  <a:pt x="10424" y="1655"/>
                  <a:pt x="10851" y="1507"/>
                  <a:pt x="11098" y="1302"/>
                </a:cubicBezTo>
                <a:cubicBezTo>
                  <a:pt x="11306" y="1127"/>
                  <a:pt x="11584" y="969"/>
                  <a:pt x="11673" y="771"/>
                </a:cubicBezTo>
                <a:cubicBezTo>
                  <a:pt x="11769" y="555"/>
                  <a:pt x="12032" y="371"/>
                  <a:pt x="12089" y="151"/>
                </a:cubicBezTo>
                <a:lnTo>
                  <a:pt x="12121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3720" y="482760"/>
            <a:ext cx="1308240" cy="1339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921280" y="3753000"/>
            <a:ext cx="5042160" cy="471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 flipV="1">
            <a:off x="163080" y="4938840"/>
            <a:ext cx="1179720" cy="30960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5000" y="3900600"/>
            <a:ext cx="1168200" cy="2301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20920" y="0"/>
            <a:ext cx="3691080" cy="2301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880920" y="3732120"/>
            <a:ext cx="3843360" cy="6147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390920" y="3863880"/>
            <a:ext cx="4595760" cy="133992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き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6" name=""/>
          <p:cNvSpPr/>
          <p:nvPr/>
        </p:nvSpPr>
        <p:spPr>
          <a:xfrm>
            <a:off x="3906720" y="5437080"/>
            <a:ext cx="5384880" cy="13096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つき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6037200" y="6496200"/>
            <a:ext cx="3649680" cy="10652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どうし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2725560" y="638280"/>
            <a:ext cx="5005440" cy="2076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200" y="579600"/>
            <a:ext cx="9099720" cy="167292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2058840" y="965160"/>
            <a:ext cx="65404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じ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し </a:t>
            </a:r>
            <a:r>
              <a:rPr b="0" lang="fr-FR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+</a:t>
            </a:r>
            <a:r>
              <a:rPr b="0" lang="fr-FR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3114720"/>
            <a:ext cx="8315280" cy="12600"/>
          </a:xfrm>
          <a:prstGeom prst="line">
            <a:avLst/>
          </a:prstGeom>
          <a:ln w="2160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4041720" y="2895480"/>
            <a:ext cx="3668760" cy="52704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362240" y="3227040"/>
            <a:ext cx="31680" cy="6238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492520" y="2274480"/>
            <a:ext cx="212760" cy="6238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654280" y="2401920"/>
            <a:ext cx="3691080" cy="2301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158920" y="3040200"/>
            <a:ext cx="5005440" cy="2076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733320" y="566640"/>
            <a:ext cx="8315280" cy="12960"/>
          </a:xfrm>
          <a:prstGeom prst="line">
            <a:avLst/>
          </a:prstGeom>
          <a:ln w="2160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274760" y="601200"/>
            <a:ext cx="244440" cy="5605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115920" y="1131840"/>
            <a:ext cx="2960640" cy="811440"/>
          </a:xfrm>
          <a:prstGeom prst="roundRect">
            <a:avLst>
              <a:gd name="adj" fmla="val 1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きをつけました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519520" y="668160"/>
            <a:ext cx="19080" cy="4762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1" name=""/>
          <p:cNvSpPr/>
          <p:nvPr/>
        </p:nvSpPr>
        <p:spPr>
          <a:xfrm>
            <a:off x="3321000" y="1158840"/>
            <a:ext cx="6629400" cy="12477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3475080" y="450720"/>
            <a:ext cx="4079880" cy="29700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3552840" y="1403280"/>
            <a:ext cx="5934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き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ついてい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521320" y="1930320"/>
            <a:ext cx="4373640" cy="2352600"/>
            <a:chOff x="5521320" y="1930320"/>
            <a:chExt cx="4373640" cy="2352600"/>
          </a:xfrm>
        </p:grpSpPr>
        <p:sp>
          <p:nvSpPr>
            <p:cNvPr id="155" name=""/>
            <p:cNvSpPr/>
            <p:nvPr/>
          </p:nvSpPr>
          <p:spPr>
            <a:xfrm>
              <a:off x="7053120" y="1930320"/>
              <a:ext cx="498600" cy="884160"/>
            </a:xfrm>
            <a:prstGeom prst="line">
              <a:avLst/>
            </a:prstGeom>
            <a:ln w="108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21320" y="2793960"/>
              <a:ext cx="4373640" cy="1488960"/>
            </a:xfrm>
            <a:prstGeom prst="ellipse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77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じどうし</a:t>
              </a:r>
              <a:r>
                <a:rPr b="0" lang="fr-FR" sz="36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+</a:t>
              </a:r>
              <a:r>
                <a:rPr b="0" lang="ja-JP" sz="36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ています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862520" y="5411880"/>
            <a:ext cx="3184560" cy="2392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93560" y="2070000"/>
            <a:ext cx="376560" cy="743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35120" y="2014560"/>
            <a:ext cx="1239840" cy="19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33320" y="566640"/>
            <a:ext cx="8315280" cy="12960"/>
          </a:xfrm>
          <a:prstGeom prst="line">
            <a:avLst/>
          </a:prstGeom>
          <a:ln w="2160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274760" y="601200"/>
            <a:ext cx="244440" cy="5605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33640"/>
            <a:ext cx="3230640" cy="811080"/>
          </a:xfrm>
          <a:prstGeom prst="roundRect">
            <a:avLst>
              <a:gd name="adj" fmla="val 1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コップをわりました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519520" y="669960"/>
            <a:ext cx="19080" cy="4762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3321000" y="1158840"/>
            <a:ext cx="6629400" cy="12477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5" name=""/>
          <p:cNvSpPr/>
          <p:nvPr/>
        </p:nvSpPr>
        <p:spPr>
          <a:xfrm>
            <a:off x="3475080" y="450720"/>
            <a:ext cx="4079880" cy="29700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>
            <a:off x="3552840" y="1403280"/>
            <a:ext cx="61405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コップ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われてい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3680" y="2057400"/>
            <a:ext cx="2867040" cy="2070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95600" y="3741840"/>
            <a:ext cx="2054160" cy="3819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34440" y="2789280"/>
            <a:ext cx="2041200" cy="4209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5643360" y="3795840"/>
            <a:ext cx="2049480" cy="6760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152280"/>
            <a:ext cx="470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744480"/>
            <a:ext cx="5273640" cy="336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961240" y="1353960"/>
            <a:ext cx="3406680" cy="7020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127320" y="5037120"/>
            <a:ext cx="6629400" cy="12477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3359160" y="5281560"/>
            <a:ext cx="61405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ど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 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われてい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33320" y="566640"/>
            <a:ext cx="8315280" cy="12960"/>
          </a:xfrm>
          <a:prstGeom prst="line">
            <a:avLst/>
          </a:prstGeom>
          <a:ln w="2160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519520" y="669960"/>
            <a:ext cx="19080" cy="4762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3321000" y="1158840"/>
            <a:ext cx="6629400" cy="12477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3475080" y="450720"/>
            <a:ext cx="4079880" cy="29700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"/>
          <p:cNvSpPr/>
          <p:nvPr/>
        </p:nvSpPr>
        <p:spPr>
          <a:xfrm>
            <a:off x="3552840" y="1403280"/>
            <a:ext cx="5934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く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よごれてい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38280" y="1046160"/>
            <a:ext cx="6246720" cy="5602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854360" y="3732120"/>
            <a:ext cx="5251320" cy="23814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58760"/>
            <a:ext cx="10078920" cy="727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67240" y="5946840"/>
            <a:ext cx="2084400" cy="1403280"/>
          </a:xfrm>
          <a:prstGeom prst="roundRect">
            <a:avLst>
              <a:gd name="adj" fmla="val 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5" name=""/>
          <p:cNvSpPr/>
          <p:nvPr/>
        </p:nvSpPr>
        <p:spPr>
          <a:xfrm>
            <a:off x="3822840" y="5846760"/>
            <a:ext cx="4273560" cy="16779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34800" y="372960"/>
            <a:ext cx="2754360" cy="1106640"/>
          </a:xfrm>
          <a:prstGeom prst="roundRect">
            <a:avLst>
              <a:gd name="adj" fmla="val 1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こ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4389480" y="334800"/>
            <a:ext cx="5508720" cy="1222560"/>
          </a:xfrm>
          <a:prstGeom prst="roundRect">
            <a:avLst>
              <a:gd name="adj" fmla="val 1467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われてい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1119240" y="1184400"/>
            <a:ext cx="2459160" cy="952200"/>
          </a:xfrm>
          <a:custGeom>
            <a:avLst/>
            <a:gdLst/>
            <a:ahLst/>
            <a:rect l="l" t="t" r="r" b="b"/>
            <a:pathLst>
              <a:path w="6830" h="2646">
                <a:moveTo>
                  <a:pt x="0" y="0"/>
                </a:moveTo>
                <a:cubicBezTo>
                  <a:pt x="269" y="424"/>
                  <a:pt x="129" y="895"/>
                  <a:pt x="357" y="1359"/>
                </a:cubicBezTo>
                <a:cubicBezTo>
                  <a:pt x="566" y="1784"/>
                  <a:pt x="910" y="2068"/>
                  <a:pt x="1323" y="2253"/>
                </a:cubicBezTo>
                <a:cubicBezTo>
                  <a:pt x="1726" y="2433"/>
                  <a:pt x="2136" y="2605"/>
                  <a:pt x="2574" y="2610"/>
                </a:cubicBezTo>
                <a:cubicBezTo>
                  <a:pt x="3012" y="2615"/>
                  <a:pt x="3457" y="2645"/>
                  <a:pt x="3897" y="2610"/>
                </a:cubicBezTo>
                <a:cubicBezTo>
                  <a:pt x="4310" y="2577"/>
                  <a:pt x="4736" y="2599"/>
                  <a:pt x="5113" y="2360"/>
                </a:cubicBezTo>
                <a:cubicBezTo>
                  <a:pt x="5502" y="2113"/>
                  <a:pt x="6025" y="2052"/>
                  <a:pt x="6257" y="1573"/>
                </a:cubicBezTo>
                <a:cubicBezTo>
                  <a:pt x="6444" y="1188"/>
                  <a:pt x="6777" y="843"/>
                  <a:pt x="6793" y="393"/>
                </a:cubicBezTo>
                <a:lnTo>
                  <a:pt x="6829" y="393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3154320" y="372960"/>
            <a:ext cx="1106640" cy="1106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17640" y="3436920"/>
            <a:ext cx="3286080" cy="3797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662360" y="2943360"/>
            <a:ext cx="3407040" cy="70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38280" y="1046160"/>
            <a:ext cx="6246720" cy="5602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54360" y="3732120"/>
            <a:ext cx="5251320" cy="23814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" y="372960"/>
            <a:ext cx="2329200" cy="1106640"/>
          </a:xfrm>
          <a:prstGeom prst="roundRect">
            <a:avLst>
              <a:gd name="adj" fmla="val 1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かばん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4119480" y="334800"/>
            <a:ext cx="5780160" cy="1222560"/>
          </a:xfrm>
          <a:prstGeom prst="roundRect">
            <a:avLst>
              <a:gd name="adj" fmla="val 1467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ポケットがついて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2689200" y="322200"/>
            <a:ext cx="1365120" cy="1106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(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に</a:t>
            </a:r>
            <a:r>
              <a:rPr b="0" lang="fr-FR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)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32160" y="617400"/>
            <a:ext cx="7413480" cy="1479600"/>
          </a:xfrm>
          <a:prstGeom prst="roundRect">
            <a:avLst>
              <a:gd name="adj" fmla="val 12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"/>
          <p:cNvSpPr/>
          <p:nvPr/>
        </p:nvSpPr>
        <p:spPr>
          <a:xfrm>
            <a:off x="2870280" y="927000"/>
            <a:ext cx="700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ふを おとし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しまいました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"/>
          <p:cNvSpPr/>
          <p:nvPr/>
        </p:nvSpPr>
        <p:spPr>
          <a:xfrm>
            <a:off x="1724040" y="1635120"/>
            <a:ext cx="4363920" cy="801720"/>
          </a:xfrm>
          <a:custGeom>
            <a:avLst/>
            <a:gdLst/>
            <a:ahLst/>
            <a:rect l="l" t="t" r="r" b="b"/>
            <a:pathLst>
              <a:path w="12122" h="2227">
                <a:moveTo>
                  <a:pt x="0" y="650"/>
                </a:moveTo>
                <a:cubicBezTo>
                  <a:pt x="87" y="859"/>
                  <a:pt x="228" y="1067"/>
                  <a:pt x="447" y="1254"/>
                </a:cubicBezTo>
                <a:cubicBezTo>
                  <a:pt x="659" y="1437"/>
                  <a:pt x="746" y="1671"/>
                  <a:pt x="1151" y="1785"/>
                </a:cubicBezTo>
                <a:cubicBezTo>
                  <a:pt x="1574" y="1903"/>
                  <a:pt x="2072" y="1952"/>
                  <a:pt x="2495" y="2072"/>
                </a:cubicBezTo>
                <a:cubicBezTo>
                  <a:pt x="2948" y="2200"/>
                  <a:pt x="3401" y="2187"/>
                  <a:pt x="3869" y="2207"/>
                </a:cubicBezTo>
                <a:cubicBezTo>
                  <a:pt x="4272" y="2226"/>
                  <a:pt x="4680" y="2213"/>
                  <a:pt x="5085" y="2207"/>
                </a:cubicBezTo>
                <a:cubicBezTo>
                  <a:pt x="5479" y="2203"/>
                  <a:pt x="5877" y="2215"/>
                  <a:pt x="6269" y="2177"/>
                </a:cubicBezTo>
                <a:cubicBezTo>
                  <a:pt x="6734" y="2134"/>
                  <a:pt x="7188" y="2115"/>
                  <a:pt x="7644" y="2072"/>
                </a:cubicBezTo>
                <a:cubicBezTo>
                  <a:pt x="8006" y="2037"/>
                  <a:pt x="8365" y="2024"/>
                  <a:pt x="8731" y="1995"/>
                </a:cubicBezTo>
                <a:cubicBezTo>
                  <a:pt x="9192" y="1959"/>
                  <a:pt x="9573" y="1845"/>
                  <a:pt x="9978" y="1755"/>
                </a:cubicBezTo>
                <a:cubicBezTo>
                  <a:pt x="10424" y="1655"/>
                  <a:pt x="10851" y="1507"/>
                  <a:pt x="11098" y="1302"/>
                </a:cubicBezTo>
                <a:cubicBezTo>
                  <a:pt x="11306" y="1127"/>
                  <a:pt x="11584" y="969"/>
                  <a:pt x="11673" y="771"/>
                </a:cubicBezTo>
                <a:cubicBezTo>
                  <a:pt x="11769" y="555"/>
                  <a:pt x="12032" y="371"/>
                  <a:pt x="12089" y="151"/>
                </a:cubicBezTo>
                <a:lnTo>
                  <a:pt x="12121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9880" y="496800"/>
            <a:ext cx="130824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93640" y="1200240"/>
            <a:ext cx="787572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ます 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→ て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る  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→ てる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るんです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→ てるん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cf.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ければなり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→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くちゃ、なきゃ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etc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717480"/>
            <a:ext cx="30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fam.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、はなしことば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25680" y="4032360"/>
            <a:ext cx="3598920" cy="3201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55520" y="2779560"/>
            <a:ext cx="2664000" cy="1995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34800" y="128520"/>
            <a:ext cx="5329440" cy="1055880"/>
          </a:xfrm>
          <a:prstGeom prst="roundRect">
            <a:avLst>
              <a:gd name="adj" fmla="val 1701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どうしたん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>
            <a:off x="2381400" y="2046240"/>
            <a:ext cx="7426080" cy="1492200"/>
          </a:xfrm>
          <a:prstGeom prst="roundRect">
            <a:avLst>
              <a:gd name="adj" fmla="val 1201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2793960" y="2381400"/>
            <a:ext cx="670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割れ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いるんです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79760" y="2319480"/>
            <a:ext cx="2162160" cy="6495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22320" y="5462640"/>
            <a:ext cx="8393040" cy="183024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1184400" y="5710320"/>
            <a:ext cx="77468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ふを わすれ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まい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5670720" y="1353960"/>
            <a:ext cx="3809880" cy="1562400"/>
          </a:xfrm>
          <a:prstGeom prst="cloudCallout">
            <a:avLst>
              <a:gd name="adj1" fmla="val -54685"/>
              <a:gd name="adj2" fmla="val 5856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ふが ない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すれた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85840" y="6197760"/>
            <a:ext cx="1038240" cy="106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2160" y="617400"/>
            <a:ext cx="7413480" cy="1479600"/>
          </a:xfrm>
          <a:prstGeom prst="roundRect">
            <a:avLst>
              <a:gd name="adj" fmla="val 12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2535120" y="103824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ろん</a:t>
            </a: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しまいました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1724040" y="1635120"/>
            <a:ext cx="4363920" cy="801720"/>
          </a:xfrm>
          <a:custGeom>
            <a:avLst/>
            <a:gdLst/>
            <a:ahLst/>
            <a:rect l="l" t="t" r="r" b="b"/>
            <a:pathLst>
              <a:path w="12122" h="2227">
                <a:moveTo>
                  <a:pt x="0" y="650"/>
                </a:moveTo>
                <a:cubicBezTo>
                  <a:pt x="87" y="859"/>
                  <a:pt x="228" y="1067"/>
                  <a:pt x="447" y="1254"/>
                </a:cubicBezTo>
                <a:cubicBezTo>
                  <a:pt x="659" y="1437"/>
                  <a:pt x="746" y="1671"/>
                  <a:pt x="1151" y="1785"/>
                </a:cubicBezTo>
                <a:cubicBezTo>
                  <a:pt x="1574" y="1903"/>
                  <a:pt x="2072" y="1952"/>
                  <a:pt x="2495" y="2072"/>
                </a:cubicBezTo>
                <a:cubicBezTo>
                  <a:pt x="2948" y="2200"/>
                  <a:pt x="3401" y="2187"/>
                  <a:pt x="3869" y="2207"/>
                </a:cubicBezTo>
                <a:cubicBezTo>
                  <a:pt x="4272" y="2226"/>
                  <a:pt x="4680" y="2213"/>
                  <a:pt x="5085" y="2207"/>
                </a:cubicBezTo>
                <a:cubicBezTo>
                  <a:pt x="5479" y="2203"/>
                  <a:pt x="5877" y="2215"/>
                  <a:pt x="6269" y="2177"/>
                </a:cubicBezTo>
                <a:cubicBezTo>
                  <a:pt x="6734" y="2134"/>
                  <a:pt x="7188" y="2115"/>
                  <a:pt x="7644" y="2072"/>
                </a:cubicBezTo>
                <a:cubicBezTo>
                  <a:pt x="8006" y="2037"/>
                  <a:pt x="8365" y="2024"/>
                  <a:pt x="8731" y="1995"/>
                </a:cubicBezTo>
                <a:cubicBezTo>
                  <a:pt x="9192" y="1959"/>
                  <a:pt x="9573" y="1845"/>
                  <a:pt x="9978" y="1755"/>
                </a:cubicBezTo>
                <a:cubicBezTo>
                  <a:pt x="10424" y="1655"/>
                  <a:pt x="10851" y="1507"/>
                  <a:pt x="11098" y="1302"/>
                </a:cubicBezTo>
                <a:cubicBezTo>
                  <a:pt x="11306" y="1127"/>
                  <a:pt x="11584" y="969"/>
                  <a:pt x="11673" y="771"/>
                </a:cubicBezTo>
                <a:cubicBezTo>
                  <a:pt x="11769" y="555"/>
                  <a:pt x="12032" y="371"/>
                  <a:pt x="12089" y="151"/>
                </a:cubicBezTo>
                <a:lnTo>
                  <a:pt x="12121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93720" y="482760"/>
            <a:ext cx="1308240" cy="1339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998720" y="3340080"/>
            <a:ext cx="447192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15000" y="2583000"/>
            <a:ext cx="3406680" cy="701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136520"/>
            <a:ext cx="4638600" cy="5924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22320" y="5462640"/>
            <a:ext cx="8988480" cy="175572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2805120" y="5794200"/>
            <a:ext cx="72169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ソコンが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しょうして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しまいました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63520" y="5576760"/>
            <a:ext cx="130824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93680" y="717480"/>
            <a:ext cx="5338800" cy="5946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31760" y="5688000"/>
            <a:ext cx="7369200" cy="1376280"/>
          </a:xfrm>
          <a:prstGeom prst="roundRect">
            <a:avLst>
              <a:gd name="adj" fmla="val 1304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ねぼうし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まい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84320" y="4486320"/>
            <a:ext cx="130788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132520" y="79200"/>
            <a:ext cx="4948200" cy="4948560"/>
          </a:xfrm>
          <a:custGeom>
            <a:avLst/>
            <a:gdLst>
              <a:gd name="textAreaLeft" fmla="*/ 360 w 4948200"/>
              <a:gd name="textAreaRight" fmla="*/ 4947840 w 4948200"/>
              <a:gd name="textAreaTop" fmla="*/ 360 h 4948560"/>
              <a:gd name="textAreaBottom" fmla="*/ 4948200 h 4948560"/>
            </a:gdLst>
            <a:ahLst/>
            <a:rect l="textAreaLeft" t="textAreaTop" r="textAreaRight" b="textAreaBottom"/>
            <a:pathLst>
              <a:path w="21600" h="21602">
                <a:moveTo>
                  <a:pt x="6" y="0"/>
                </a:moveTo>
                <a:arcTo wR="6" hR="6" stAng="16200000" swAng="-5400000"/>
                <a:lnTo>
                  <a:pt x="0" y="21596"/>
                </a:lnTo>
                <a:arcTo wR="6" hR="6" stAng="10800000" swAng="-5400000"/>
                <a:lnTo>
                  <a:pt x="21594" y="21602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0120" y="1035000"/>
            <a:ext cx="3979800" cy="1023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720" y="2381400"/>
            <a:ext cx="5943600" cy="914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さごはんを たべるじかんが なくなり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1031760" y="5688000"/>
            <a:ext cx="7369200" cy="1376280"/>
          </a:xfrm>
          <a:prstGeom prst="roundRect">
            <a:avLst>
              <a:gd name="adj" fmla="val 1304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さごはんを たべるじかん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くな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まい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45240" y="1655640"/>
            <a:ext cx="3943440" cy="4303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8880" y="746280"/>
            <a:ext cx="4182840" cy="137952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55280" y="746280"/>
            <a:ext cx="4189320" cy="137952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07800" y="4183200"/>
            <a:ext cx="1308240" cy="133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22320" y="5462640"/>
            <a:ext cx="8393040" cy="183024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"/>
          <p:cNvSpPr/>
          <p:nvPr/>
        </p:nvSpPr>
        <p:spPr>
          <a:xfrm>
            <a:off x="2219400" y="5738760"/>
            <a:ext cx="6899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ばんを あみだな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すれ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い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5840" y="6199200"/>
            <a:ext cx="1038240" cy="106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42:31Z</dcterms:created>
  <dc:creator/>
  <dc:description/>
  <dc:language>en-US</dc:language>
  <cp:lastModifiedBy/>
  <dcterms:modified xsi:type="dcterms:W3CDTF">2016-05-24T19:28:27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