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0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7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31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2122560" y="4203720"/>
            <a:ext cx="50752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いこう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ことにします </a:t>
            </a: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な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84080" y="2766960"/>
            <a:ext cx="2811600" cy="6521400"/>
            <a:chOff x="784080" y="2766960"/>
            <a:chExt cx="2811600" cy="65214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84080" y="2766960"/>
              <a:ext cx="2702160" cy="65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598840" y="4230720"/>
              <a:ext cx="996840" cy="29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519440" y="2492280"/>
            <a:ext cx="2733840" cy="6724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499000" y="1395360"/>
            <a:ext cx="1219320" cy="139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91360" y="3728880"/>
            <a:ext cx="1000080" cy="299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4760" y="3321000"/>
            <a:ext cx="1670040" cy="357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130320" y="196920"/>
            <a:ext cx="5719680" cy="1731960"/>
          </a:xfrm>
          <a:prstGeom prst="roundRect">
            <a:avLst>
              <a:gd name="adj" fmla="val 103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かさ</a:t>
            </a:r>
            <a:r>
              <a:rPr b="0" lang="ja-JP" sz="4000" spc="-1" strike="noStrike">
                <a:solidFill>
                  <a:srgbClr val="800000"/>
                </a:solidFill>
                <a:latin typeface="mikachan"/>
                <a:ea typeface="mikachan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かしま</a:t>
            </a:r>
            <a:r>
              <a:rPr b="0" lang="ja-JP" sz="4000" spc="-1" strike="noStrike">
                <a:solidFill>
                  <a:srgbClr val="ff0000"/>
                </a:solidFill>
                <a:latin typeface="mikachan"/>
                <a:ea typeface="mikachan"/>
              </a:rPr>
              <a:t>しょうか</a:t>
            </a: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いねい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784080" y="2766960"/>
            <a:ext cx="2811600" cy="6521400"/>
            <a:chOff x="784080" y="2766960"/>
            <a:chExt cx="2811600" cy="65214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84080" y="2766960"/>
              <a:ext cx="2702160" cy="65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2598840" y="4230720"/>
              <a:ext cx="996840" cy="29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191360" y="3728880"/>
            <a:ext cx="1000080" cy="2990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4760" y="3321000"/>
            <a:ext cx="1670040" cy="357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130320" y="196920"/>
            <a:ext cx="4878360" cy="1731960"/>
          </a:xfrm>
          <a:prstGeom prst="roundRect">
            <a:avLst>
              <a:gd name="adj" fmla="val 103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かさ</a:t>
            </a:r>
            <a:r>
              <a:rPr b="0" lang="ja-JP" sz="4000" spc="-1" strike="noStrike">
                <a:solidFill>
                  <a:srgbClr val="800000"/>
                </a:solidFill>
                <a:latin typeface="mikachan"/>
                <a:ea typeface="mikachan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か</a:t>
            </a:r>
            <a:r>
              <a:rPr b="0" lang="ja-JP" sz="4000" spc="-1" strike="noStrike">
                <a:solidFill>
                  <a:srgbClr val="ff0000"/>
                </a:solidFill>
                <a:latin typeface="mikachan"/>
                <a:ea typeface="mikachan"/>
              </a:rPr>
              <a:t>そうか</a:t>
            </a: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354560" y="2058840"/>
            <a:ext cx="2465280" cy="707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12720" y="171360"/>
            <a:ext cx="9366480" cy="3062520"/>
            <a:chOff x="612720" y="171360"/>
            <a:chExt cx="9366480" cy="3062520"/>
          </a:xfrm>
        </p:grpSpPr>
        <p:sp>
          <p:nvSpPr>
            <p:cNvPr id="170" name=""/>
            <p:cNvSpPr/>
            <p:nvPr/>
          </p:nvSpPr>
          <p:spPr>
            <a:xfrm>
              <a:off x="612720" y="171360"/>
              <a:ext cx="9366480" cy="3062520"/>
            </a:xfrm>
            <a:prstGeom prst="roundRect">
              <a:avLst>
                <a:gd name="adj" fmla="val 585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3880" y="282600"/>
              <a:ext cx="868356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みゆきさんは とてもきれいで やさしい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ぼくは みゆきさんが すきだ…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みゆきさんも ぼくがすきだ、と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ってくれた…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どくしんは さびしいし…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759800" y="1995480"/>
            <a:ext cx="2131920" cy="5565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686640" y="1957320"/>
            <a:ext cx="1434960" cy="770040"/>
          </a:xfrm>
          <a:prstGeom prst="roundRect">
            <a:avLst>
              <a:gd name="adj" fmla="val 2334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き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4584600" y="4518000"/>
            <a:ext cx="5322960" cy="35751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73280" y="2944800"/>
            <a:ext cx="2419200" cy="6534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92280" y="3249720"/>
            <a:ext cx="442800" cy="44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1077840" y="3757680"/>
            <a:ext cx="27792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9920" y="3002040"/>
            <a:ext cx="442800" cy="44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1552680" y="324972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222120" y="325440"/>
            <a:ext cx="9487080" cy="2870280"/>
          </a:xfrm>
          <a:prstGeom prst="roundRect">
            <a:avLst>
              <a:gd name="adj" fmla="val 62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2595600" y="49323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35120" y="2565360"/>
            <a:ext cx="2419200" cy="653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17480" y="652320"/>
            <a:ext cx="609120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だ、けっこ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よし、けっこ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-534960" y="247680"/>
            <a:ext cx="2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507000" y="669960"/>
            <a:ext cx="3283200" cy="4057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17720" y="349740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4462560" y="3359160"/>
            <a:ext cx="5322960" cy="35751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92280" y="2992320"/>
            <a:ext cx="2504880" cy="711540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55600" y="130320"/>
            <a:ext cx="9366120" cy="2214360"/>
            <a:chOff x="255600" y="130320"/>
            <a:chExt cx="9366120" cy="2214360"/>
          </a:xfrm>
        </p:grpSpPr>
        <p:sp>
          <p:nvSpPr>
            <p:cNvPr id="190" name=""/>
            <p:cNvSpPr/>
            <p:nvPr/>
          </p:nvSpPr>
          <p:spPr>
            <a:xfrm>
              <a:off x="255600" y="130320"/>
              <a:ext cx="9366120" cy="2214360"/>
            </a:xfrm>
            <a:prstGeom prst="roundRect">
              <a:avLst>
                <a:gd name="adj" fmla="val 80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4960" y="209520"/>
              <a:ext cx="8683560" cy="19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ぼくは えいごが へただ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でも、えいごを じょうずに はなしたい…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84320" y="2427120"/>
            <a:ext cx="779040" cy="844560"/>
            <a:chOff x="1084320" y="2427120"/>
            <a:chExt cx="779040" cy="844560"/>
          </a:xfrm>
        </p:grpSpPr>
        <p:sp>
          <p:nvSpPr>
            <p:cNvPr id="193" name=""/>
            <p:cNvSpPr/>
            <p:nvPr/>
          </p:nvSpPr>
          <p:spPr>
            <a:xfrm>
              <a:off x="1084320" y="2427120"/>
              <a:ext cx="440280" cy="479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40440" y="2922480"/>
              <a:ext cx="32292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9920" y="3002040"/>
            <a:ext cx="442800" cy="44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324972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222120" y="325440"/>
            <a:ext cx="9487080" cy="2870280"/>
          </a:xfrm>
          <a:prstGeom prst="roundRect">
            <a:avLst>
              <a:gd name="adj" fmla="val 62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2595600" y="49323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717480" y="652320"/>
            <a:ext cx="659772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だ、りゅうがく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よし、りゅうがく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-534960" y="247680"/>
            <a:ext cx="2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349740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811160" y="3502080"/>
            <a:ext cx="2584800" cy="58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06360" y="182520"/>
            <a:ext cx="9366120" cy="2214720"/>
            <a:chOff x="306360" y="182520"/>
            <a:chExt cx="9366120" cy="2214720"/>
          </a:xfrm>
        </p:grpSpPr>
        <p:sp>
          <p:nvSpPr>
            <p:cNvPr id="204" name=""/>
            <p:cNvSpPr/>
            <p:nvPr/>
          </p:nvSpPr>
          <p:spPr>
            <a:xfrm>
              <a:off x="306360" y="182520"/>
              <a:ext cx="9366120" cy="2214720"/>
            </a:xfrm>
            <a:prstGeom prst="roundRect">
              <a:avLst>
                <a:gd name="adj" fmla="val 80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7520" y="262080"/>
              <a:ext cx="7248240" cy="19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わたしは まいにち たばこを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30</a:t>
              </a: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ぽん すっている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たばこは たかくなったし、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からだに わるいし…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4320" y="2427120"/>
            <a:ext cx="779040" cy="844560"/>
            <a:chOff x="1084320" y="2427120"/>
            <a:chExt cx="779040" cy="844560"/>
          </a:xfrm>
        </p:grpSpPr>
        <p:sp>
          <p:nvSpPr>
            <p:cNvPr id="207" name=""/>
            <p:cNvSpPr/>
            <p:nvPr/>
          </p:nvSpPr>
          <p:spPr>
            <a:xfrm>
              <a:off x="1084320" y="2427120"/>
              <a:ext cx="440280" cy="479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0440" y="2922480"/>
              <a:ext cx="32292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04800" y="2684520"/>
            <a:ext cx="2419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9920" y="3002040"/>
            <a:ext cx="442800" cy="44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1552680" y="324972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222120" y="325440"/>
            <a:ext cx="9487080" cy="2870280"/>
          </a:xfrm>
          <a:prstGeom prst="roundRect">
            <a:avLst>
              <a:gd name="adj" fmla="val 62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2595600" y="49323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820800"/>
            <a:ext cx="58402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きんえ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たばこを 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やめよう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-534960" y="247680"/>
            <a:ext cx="2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1917720" y="3497400"/>
            <a:ext cx="325440" cy="352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68400" y="3398760"/>
            <a:ext cx="2419560" cy="6400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06440" y="923760"/>
            <a:ext cx="2717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だ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（よし、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24240" y="1847880"/>
            <a:ext cx="2162160" cy="6496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62440" y="1219320"/>
            <a:ext cx="5630760" cy="1708200"/>
          </a:xfrm>
          <a:prstGeom prst="cloudCallout">
            <a:avLst>
              <a:gd name="adj1" fmla="val -37046"/>
              <a:gd name="adj2" fmla="val 5722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きっぷを かわなくちゃ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さいふ、さいふ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324240" y="1847880"/>
            <a:ext cx="2162160" cy="6496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32280" y="1214280"/>
            <a:ext cx="5686560" cy="1711440"/>
          </a:xfrm>
          <a:prstGeom prst="cloudCallout">
            <a:avLst>
              <a:gd name="adj1" fmla="val -38398"/>
              <a:gd name="adj2" fmla="val 57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わすれちゃっ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724960" y="1554120"/>
            <a:ext cx="1503360" cy="951120"/>
            <a:chOff x="8724960" y="1554120"/>
            <a:chExt cx="1503360" cy="951120"/>
          </a:xfrm>
        </p:grpSpPr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8886600" y="1739880"/>
              <a:ext cx="10213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727840" y="1554120"/>
              <a:ext cx="1496880" cy="9223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724960" y="1554120"/>
              <a:ext cx="1503360" cy="9223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813280" y="21574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どう</a:t>
            </a:r>
            <a:r>
              <a:rPr b="0" lang="ja-JP" sz="24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…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516480"/>
            <a:ext cx="3354480" cy="212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 flipV="1">
            <a:off x="3238200" y="4462200"/>
            <a:ext cx="1911240" cy="44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1400"/>
            <a:ext cx="1440" cy="35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298440"/>
            <a:ext cx="4809960" cy="2919600"/>
            <a:chOff x="0" y="298440"/>
            <a:chExt cx="4809960" cy="2919600"/>
          </a:xfrm>
        </p:grpSpPr>
        <p:sp>
          <p:nvSpPr>
            <p:cNvPr id="51" name=""/>
            <p:cNvSpPr/>
            <p:nvPr/>
          </p:nvSpPr>
          <p:spPr>
            <a:xfrm>
              <a:off x="0" y="298440"/>
              <a:ext cx="4809960" cy="2919600"/>
            </a:xfrm>
            <a:prstGeom prst="roundRect">
              <a:avLst>
                <a:gd name="adj" fmla="val 150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6360" y="934920"/>
              <a:ext cx="4437000" cy="208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デパート</a:t>
              </a:r>
              <a:r>
                <a:rPr b="0" lang="ja-JP" sz="4800" spc="-1" strike="noStrike">
                  <a:solidFill>
                    <a:srgbClr val="800000"/>
                  </a:solidFill>
                  <a:latin typeface="Y.OzN_'04"/>
                  <a:ea typeface="Y.OzN_'04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いきましょう</a:t>
              </a: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いねい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50240" y="2346480"/>
            <a:ext cx="1923840" cy="49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72120" y="1766880"/>
            <a:ext cx="1913040" cy="57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4960" y="2270160"/>
            <a:ext cx="3848040" cy="6010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727600" y="2882880"/>
            <a:ext cx="2140200" cy="56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7320" y="235080"/>
            <a:ext cx="9485280" cy="1982520"/>
          </a:xfrm>
          <a:prstGeom prst="roundRect">
            <a:avLst>
              <a:gd name="adj" fmla="val 9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-104760" y="717480"/>
            <a:ext cx="104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396720" y="493560"/>
            <a:ext cx="76377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ゆきさん、けっこ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よう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ゆびわも もうかった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-717480" y="1109520"/>
            <a:ext cx="27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25600" y="4892760"/>
            <a:ext cx="596880" cy="612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82480" y="1130400"/>
            <a:ext cx="1209960" cy="99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7450200" y="312840"/>
            <a:ext cx="181296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4960" y="2270160"/>
            <a:ext cx="3848040" cy="6010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97160" y="77760"/>
            <a:ext cx="7783560" cy="2792520"/>
          </a:xfrm>
          <a:prstGeom prst="roundRect">
            <a:avLst>
              <a:gd name="adj" fmla="val 642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-104760" y="717480"/>
            <a:ext cx="104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-717480" y="1109520"/>
            <a:ext cx="27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25600" y="4892760"/>
            <a:ext cx="596880" cy="612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63920" y="266760"/>
            <a:ext cx="63165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だめよ。わたし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やまもとしゃちょう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けっこんするの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397640" y="130320"/>
            <a:ext cx="3065400" cy="3639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149960" y="2987640"/>
            <a:ext cx="3522960" cy="35226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727600" y="2882880"/>
            <a:ext cx="21402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9800" y="157320"/>
            <a:ext cx="6367680" cy="2584440"/>
          </a:xfrm>
          <a:prstGeom prst="roundRect">
            <a:avLst>
              <a:gd name="adj" fmla="val 694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587760" y="92160"/>
            <a:ext cx="2649600" cy="3092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104760" y="717480"/>
            <a:ext cx="104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-717480" y="1109520"/>
            <a:ext cx="27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563400" y="835200"/>
            <a:ext cx="3144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ゆびわ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どうしよう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7149960" y="2987640"/>
            <a:ext cx="3522960" cy="35226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27600" y="2882880"/>
            <a:ext cx="2140200" cy="5630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30280" y="2257560"/>
            <a:ext cx="4167000" cy="6153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477800" y="5141880"/>
            <a:ext cx="597240" cy="612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3687480" y="195120"/>
            <a:ext cx="1886040" cy="247968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3692520" y="195120"/>
            <a:ext cx="1879560" cy="247968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627120" y="2570040"/>
            <a:ext cx="442800" cy="44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782640" y="3040200"/>
            <a:ext cx="339840" cy="377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025720" y="379440"/>
            <a:ext cx="59688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764400" y="1940040"/>
            <a:ext cx="2467080" cy="710568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17360" y="4259160"/>
            <a:ext cx="9599760" cy="5286600"/>
            <a:chOff x="117360" y="4259160"/>
            <a:chExt cx="9599760" cy="5286600"/>
          </a:xfrm>
        </p:grpSpPr>
        <p:sp>
          <p:nvSpPr>
            <p:cNvPr id="264" name=""/>
            <p:cNvSpPr/>
            <p:nvPr/>
          </p:nvSpPr>
          <p:spPr>
            <a:xfrm>
              <a:off x="1095480" y="4259160"/>
              <a:ext cx="7773840" cy="3297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7360" y="5140440"/>
              <a:ext cx="9599760" cy="9360"/>
            </a:xfrm>
            <a:prstGeom prst="line">
              <a:avLst/>
            </a:prstGeom>
            <a:ln w="144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3313080" y="5389560"/>
              <a:ext cx="205920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944960" y="5715000"/>
              <a:ext cx="309600" cy="3618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75160" y="5442120"/>
              <a:ext cx="309600" cy="3618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15000" y="4762440"/>
              <a:ext cx="2801880" cy="8971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.OzN_'04 Bold"/>
                  <a:ea typeface="Y.OzN_'04 Bold"/>
                </a:rPr>
                <a:t>アルバイト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22120" y="2825640"/>
            <a:ext cx="2335320" cy="7075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202280" y="279360"/>
            <a:ext cx="5743440" cy="1820880"/>
          </a:xfrm>
          <a:prstGeom prst="wedgeRoundRectCallout">
            <a:avLst>
              <a:gd name="adj1" fmla="val 1222"/>
              <a:gd name="adj2" fmla="val 7229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4468680" y="449280"/>
            <a:ext cx="50752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アルバイト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よう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もって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もいます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209520" y="658800"/>
            <a:ext cx="3795840" cy="1611360"/>
          </a:xfrm>
          <a:prstGeom prst="wedgeRoundRectCallout">
            <a:avLst>
              <a:gd name="adj1" fmla="val 4231"/>
              <a:gd name="adj2" fmla="val 12039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420840" y="995400"/>
            <a:ext cx="35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ふゆやすみ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どうし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819760" y="1003320"/>
            <a:ext cx="4137120" cy="1265040"/>
          </a:xfrm>
          <a:prstGeom prst="roundRect">
            <a:avLst>
              <a:gd name="adj" fmla="val 14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は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764400" y="2057400"/>
            <a:ext cx="2467080" cy="710568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95400" y="4203720"/>
            <a:ext cx="9599400" cy="4510080"/>
            <a:chOff x="95400" y="4203720"/>
            <a:chExt cx="9599400" cy="4510080"/>
          </a:xfrm>
        </p:grpSpPr>
        <p:sp>
          <p:nvSpPr>
            <p:cNvPr id="278" name=""/>
            <p:cNvSpPr/>
            <p:nvPr/>
          </p:nvSpPr>
          <p:spPr>
            <a:xfrm>
              <a:off x="1073160" y="4203720"/>
              <a:ext cx="7773840" cy="3297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5400" y="5084640"/>
              <a:ext cx="9599400" cy="9720"/>
            </a:xfrm>
            <a:prstGeom prst="line">
              <a:avLst/>
            </a:prstGeom>
            <a:ln w="144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23000" y="5659560"/>
              <a:ext cx="309240" cy="3618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53200" y="5386320"/>
              <a:ext cx="309240" cy="362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44760" y="4602240"/>
              <a:ext cx="5149800" cy="1001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ともだちとりょこう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2278080" y="5541840"/>
              <a:ext cx="2217600" cy="31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23920" y="2833560"/>
            <a:ext cx="2332080" cy="7067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51000" y="279360"/>
            <a:ext cx="4425840" cy="2087640"/>
          </a:xfrm>
          <a:prstGeom prst="wedgeRoundRectCallout">
            <a:avLst>
              <a:gd name="adj1" fmla="val 9814"/>
              <a:gd name="adj2" fmla="val 8084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6" name=""/>
          <p:cNvSpPr/>
          <p:nvPr/>
        </p:nvSpPr>
        <p:spPr>
          <a:xfrm>
            <a:off x="630360" y="476280"/>
            <a:ext cx="41004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 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ともだち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と 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りょこう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に 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いこう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と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も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もっています</a:t>
            </a: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9680" y="0"/>
            <a:ext cx="7704000" cy="2662200"/>
          </a:xfrm>
          <a:prstGeom prst="wedgeRoundRectCallout">
            <a:avLst>
              <a:gd name="adj1" fmla="val 46000"/>
              <a:gd name="adj2" fmla="val 70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ともだち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りょこう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う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おもって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( X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もいます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)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56560" y="2044800"/>
            <a:ext cx="2466720" cy="7105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62080" y="1554120"/>
            <a:ext cx="1414440" cy="2021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5640" y="3879720"/>
            <a:ext cx="5715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cf. 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わたしは〜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おもいます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/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おもっ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21480" y="4002120"/>
            <a:ext cx="2466720" cy="7105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24040" y="4022640"/>
            <a:ext cx="2266920" cy="4429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22360" y="287280"/>
            <a:ext cx="6551640" cy="1295280"/>
          </a:xfrm>
          <a:prstGeom prst="roundRect">
            <a:avLst>
              <a:gd name="adj" fmla="val 138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を そつぎょうした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142920" y="2009880"/>
            <a:ext cx="4449600" cy="17208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たらこう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4938840" y="2089080"/>
            <a:ext cx="4806720" cy="17208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たら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つもりです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319880" y="3602160"/>
            <a:ext cx="922320" cy="622080"/>
            <a:chOff x="7319880" y="3602160"/>
            <a:chExt cx="922320" cy="622080"/>
          </a:xfrm>
        </p:grpSpPr>
        <p:sp>
          <p:nvSpPr>
            <p:cNvPr id="297" name=""/>
            <p:cNvSpPr/>
            <p:nvPr/>
          </p:nvSpPr>
          <p:spPr>
            <a:xfrm>
              <a:off x="7920000" y="3602160"/>
              <a:ext cx="32220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9880" y="3875040"/>
              <a:ext cx="32220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57560" y="3614760"/>
            <a:ext cx="922320" cy="622440"/>
            <a:chOff x="2257560" y="3614760"/>
            <a:chExt cx="922320" cy="622440"/>
          </a:xfrm>
        </p:grpSpPr>
        <p:sp>
          <p:nvSpPr>
            <p:cNvPr id="300" name=""/>
            <p:cNvSpPr/>
            <p:nvPr/>
          </p:nvSpPr>
          <p:spPr>
            <a:xfrm>
              <a:off x="2857680" y="3614760"/>
              <a:ext cx="32220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57560" y="3887640"/>
              <a:ext cx="322200" cy="34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4016160" y="5049720"/>
            <a:ext cx="1036440" cy="534960"/>
          </a:xfrm>
          <a:prstGeom prst="line">
            <a:avLst/>
          </a:prstGeom>
          <a:ln w="10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4041720" y="5594400"/>
            <a:ext cx="1036800" cy="541440"/>
          </a:xfrm>
          <a:prstGeom prst="line">
            <a:avLst/>
          </a:prstGeom>
          <a:ln w="10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882800" y="2854440"/>
            <a:ext cx="2419200" cy="6400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92040" y="1449360"/>
            <a:ext cx="9288360" cy="1535040"/>
          </a:xfrm>
          <a:prstGeom prst="roundRect">
            <a:avLst>
              <a:gd name="adj" fmla="val 11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は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もうたばこ</a:t>
            </a: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すわないつもり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で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27360" y="2754360"/>
            <a:ext cx="922320" cy="622080"/>
            <a:chOff x="3627360" y="2754360"/>
            <a:chExt cx="922320" cy="622080"/>
          </a:xfrm>
        </p:grpSpPr>
        <p:sp>
          <p:nvSpPr>
            <p:cNvPr id="307" name=""/>
            <p:cNvSpPr/>
            <p:nvPr/>
          </p:nvSpPr>
          <p:spPr>
            <a:xfrm>
              <a:off x="4227480" y="2754360"/>
              <a:ext cx="32220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7360" y="3027240"/>
              <a:ext cx="322200" cy="34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915840" y="495360"/>
            <a:ext cx="2529000" cy="138276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807840" y="509760"/>
            <a:ext cx="2593800" cy="1341360"/>
            <a:chOff x="807840" y="509760"/>
            <a:chExt cx="2593800" cy="1341360"/>
          </a:xfrm>
        </p:grpSpPr>
        <p:sp>
          <p:nvSpPr>
            <p:cNvPr id="311" name=""/>
            <p:cNvSpPr/>
            <p:nvPr/>
          </p:nvSpPr>
          <p:spPr>
            <a:xfrm flipH="1">
              <a:off x="807840" y="509760"/>
              <a:ext cx="2593800" cy="13413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520" y="509760"/>
              <a:ext cx="2587680" cy="13413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587760" y="665280"/>
            <a:ext cx="258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い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7840" y="952560"/>
            <a:ext cx="964692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?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えったら テレビを み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つもりで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?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じゅぎょうの あとで コーヒーを のむ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  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つもりで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5" name=""/>
          <p:cNvSpPr/>
          <p:nvPr/>
        </p:nvSpPr>
        <p:spPr>
          <a:xfrm>
            <a:off x="4187880" y="1096920"/>
            <a:ext cx="129960" cy="126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344600" y="768240"/>
            <a:ext cx="8575200" cy="4748040"/>
            <a:chOff x="1344600" y="768240"/>
            <a:chExt cx="8575200" cy="4748040"/>
          </a:xfrm>
        </p:grpSpPr>
        <p:grpSp>
          <p:nvGrpSpPr>
            <p:cNvPr id="317" name=""/>
            <p:cNvGrpSpPr/>
            <p:nvPr/>
          </p:nvGrpSpPr>
          <p:grpSpPr>
            <a:xfrm>
              <a:off x="3419640" y="768240"/>
              <a:ext cx="6500160" cy="3494880"/>
              <a:chOff x="3419640" y="768240"/>
              <a:chExt cx="6500160" cy="3494880"/>
            </a:xfrm>
          </p:grpSpPr>
          <p:sp>
            <p:nvSpPr>
              <p:cNvPr id="318" name=""/>
              <p:cNvSpPr/>
              <p:nvPr/>
            </p:nvSpPr>
            <p:spPr>
              <a:xfrm>
                <a:off x="3539880" y="768240"/>
                <a:ext cx="3726720" cy="897120"/>
              </a:xfrm>
              <a:prstGeom prst="ellipse">
                <a:avLst/>
              </a:prstGeom>
              <a:noFill/>
              <a:ln w="72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86560" y="1805040"/>
                <a:ext cx="4233240" cy="896760"/>
              </a:xfrm>
              <a:prstGeom prst="ellipse">
                <a:avLst/>
              </a:prstGeom>
              <a:noFill/>
              <a:ln w="72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3680640" y="2522880"/>
                <a:ext cx="2232360" cy="1703880"/>
              </a:xfrm>
              <a:prstGeom prst="line">
                <a:avLst/>
              </a:prstGeom>
              <a:ln w="72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3419640" y="1563840"/>
                <a:ext cx="759600" cy="2699280"/>
              </a:xfrm>
              <a:prstGeom prst="line">
                <a:avLst/>
              </a:prstGeom>
              <a:ln w="72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344600" y="4188960"/>
              <a:ext cx="6858000" cy="1327320"/>
            </a:xfrm>
            <a:prstGeom prst="roundRect">
              <a:avLst>
                <a:gd name="adj" fmla="val 13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ちいさいこと </a:t>
              </a:r>
              <a:r>
                <a:rPr b="0" lang="en-US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+ 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つもりです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80640" y="4146480"/>
            <a:ext cx="7432920" cy="1552680"/>
            <a:chOff x="980640" y="4146480"/>
            <a:chExt cx="7432920" cy="1552680"/>
          </a:xfrm>
        </p:grpSpPr>
        <p:sp>
          <p:nvSpPr>
            <p:cNvPr id="324" name=""/>
            <p:cNvSpPr/>
            <p:nvPr/>
          </p:nvSpPr>
          <p:spPr>
            <a:xfrm flipH="1">
              <a:off x="980640" y="4146480"/>
              <a:ext cx="7432920" cy="15526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5320" y="4146480"/>
              <a:ext cx="7426800" cy="15526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60280" y="6197760"/>
            <a:ext cx="943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○ 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らいねん、にほんへ いく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つもりです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080040" y="222120"/>
            <a:ext cx="2127240" cy="6305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761080" y="3627360"/>
            <a:ext cx="4592520" cy="2882880"/>
          </a:xfrm>
          <a:prstGeom prst="roundRect">
            <a:avLst>
              <a:gd name="adj" fmla="val 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9" name=""/>
          <p:cNvSpPr/>
          <p:nvPr/>
        </p:nvSpPr>
        <p:spPr>
          <a:xfrm>
            <a:off x="2157480" y="4216320"/>
            <a:ext cx="4356000" cy="1554120"/>
          </a:xfrm>
          <a:prstGeom prst="wedgeRoundRectCallout">
            <a:avLst>
              <a:gd name="adj1" fmla="val -62532"/>
              <a:gd name="adj2" fmla="val -7520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072120" y="3537000"/>
            <a:ext cx="2185920" cy="6329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V="1">
            <a:off x="1773360" y="2972880"/>
            <a:ext cx="4338360" cy="1249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>
            <a:off x="1865160" y="6481800"/>
            <a:ext cx="4457880" cy="126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5234040" y="3868560"/>
            <a:ext cx="649080" cy="668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96920" y="2727360"/>
            <a:ext cx="2152440" cy="6534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36640" y="658800"/>
            <a:ext cx="4356360" cy="1554120"/>
          </a:xfrm>
          <a:prstGeom prst="wedgeRoundRectCallout">
            <a:avLst>
              <a:gd name="adj1" fmla="val -47101"/>
              <a:gd name="adj2" fmla="val 117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2044800" y="77004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ふゆやすみ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するつも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1498680" y="2352600"/>
            <a:ext cx="4572000" cy="408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cf. </a:t>
            </a: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ふゆやすみ、どうしますか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982760" y="203040"/>
            <a:ext cx="723960" cy="725760"/>
            <a:chOff x="4982760" y="203040"/>
            <a:chExt cx="723960" cy="725760"/>
          </a:xfrm>
        </p:grpSpPr>
        <p:sp>
          <p:nvSpPr>
            <p:cNvPr id="339" name=""/>
            <p:cNvSpPr/>
            <p:nvPr/>
          </p:nvSpPr>
          <p:spPr>
            <a:xfrm flipH="1">
              <a:off x="4982760" y="865080"/>
              <a:ext cx="700200" cy="36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983120" y="203040"/>
              <a:ext cx="357840" cy="6987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5000" y="230040"/>
              <a:ext cx="351720" cy="6987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563920" y="428616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ふゆやすみ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するつも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516480"/>
            <a:ext cx="3354480" cy="212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641400" y="4172040"/>
            <a:ext cx="1260360" cy="792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1400"/>
            <a:ext cx="1440" cy="35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311040"/>
            <a:ext cx="4809960" cy="2919600"/>
            <a:chOff x="0" y="311040"/>
            <a:chExt cx="4809960" cy="2919600"/>
          </a:xfrm>
        </p:grpSpPr>
        <p:sp>
          <p:nvSpPr>
            <p:cNvPr id="60" name=""/>
            <p:cNvSpPr/>
            <p:nvPr/>
          </p:nvSpPr>
          <p:spPr>
            <a:xfrm>
              <a:off x="0" y="311040"/>
              <a:ext cx="4809960" cy="2919600"/>
            </a:xfrm>
            <a:prstGeom prst="roundRect">
              <a:avLst>
                <a:gd name="adj" fmla="val 150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360" y="896760"/>
              <a:ext cx="4437000" cy="208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デパート</a:t>
              </a:r>
              <a:r>
                <a:rPr b="0" lang="ja-JP" sz="48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いこう（よ）</a:t>
              </a: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370160" y="2727360"/>
            <a:ext cx="64800" cy="2962080"/>
          </a:xfrm>
          <a:custGeom>
            <a:avLst/>
            <a:gdLst/>
            <a:ahLst/>
            <a:rect l="l" t="t" r="r" b="b"/>
            <a:pathLst>
              <a:path w="183" h="8229">
                <a:moveTo>
                  <a:pt x="0" y="8228"/>
                </a:moveTo>
                <a:lnTo>
                  <a:pt x="182" y="0"/>
                </a:lnTo>
              </a:path>
            </a:pathLst>
          </a:custGeom>
          <a:noFill/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8000" y="5576760"/>
            <a:ext cx="4029120" cy="1562400"/>
            <a:chOff x="108000" y="5576760"/>
            <a:chExt cx="4029120" cy="1562400"/>
          </a:xfrm>
        </p:grpSpPr>
        <p:sp>
          <p:nvSpPr>
            <p:cNvPr id="64" name=""/>
            <p:cNvSpPr/>
            <p:nvPr/>
          </p:nvSpPr>
          <p:spPr>
            <a:xfrm>
              <a:off x="108000" y="5576760"/>
              <a:ext cx="4029120" cy="1562400"/>
            </a:xfrm>
            <a:prstGeom prst="roundRect">
              <a:avLst>
                <a:gd name="adj" fmla="val 9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いこうけい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81600" y="1976400"/>
            <a:ext cx="2138400" cy="550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99400" y="2387520"/>
            <a:ext cx="1923840" cy="497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38080" y="2021040"/>
            <a:ext cx="2322720" cy="6514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2092320" y="4160880"/>
            <a:ext cx="990720" cy="2114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V="1">
            <a:off x="2674800" y="1863720"/>
            <a:ext cx="1893960" cy="2481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433440" y="279360"/>
            <a:ext cx="7632720" cy="1521000"/>
          </a:xfrm>
          <a:prstGeom prst="roundRect">
            <a:avLst>
              <a:gd name="adj" fmla="val 117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、かいぎ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の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よていです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らいげつ、パリ</a:t>
            </a: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いくよていです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5113440" y="4091040"/>
            <a:ext cx="4602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cf.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</a:rPr>
              <a:t>よていが あり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08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0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1" name=""/>
          <p:cNvSpPr/>
          <p:nvPr/>
        </p:nvSpPr>
        <p:spPr>
          <a:xfrm>
            <a:off x="4842000" y="1282680"/>
            <a:ext cx="44575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にしま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2" name=""/>
          <p:cNvSpPr/>
          <p:nvPr/>
        </p:nvSpPr>
        <p:spPr>
          <a:xfrm>
            <a:off x="2787480" y="2244600"/>
            <a:ext cx="2259360" cy="711360"/>
          </a:xfrm>
          <a:prstGeom prst="roundRect">
            <a:avLst>
              <a:gd name="adj" fmla="val 222"/>
            </a:avLst>
          </a:prstGeom>
          <a:solidFill>
            <a:srgbClr val="ffffcc"/>
          </a:solidFill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きめ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3" name=""/>
          <p:cNvSpPr/>
          <p:nvPr/>
        </p:nvSpPr>
        <p:spPr>
          <a:xfrm>
            <a:off x="3019320" y="795240"/>
            <a:ext cx="3397320" cy="1390680"/>
          </a:xfrm>
          <a:custGeom>
            <a:avLst/>
            <a:gdLst/>
            <a:ahLst/>
            <a:rect l="l" t="t" r="r" b="b"/>
            <a:pathLst>
              <a:path w="9436" h="3861">
                <a:moveTo>
                  <a:pt x="19" y="3860"/>
                </a:moveTo>
                <a:cubicBezTo>
                  <a:pt x="0" y="3045"/>
                  <a:pt x="693" y="1773"/>
                  <a:pt x="1121" y="1177"/>
                </a:cubicBezTo>
                <a:cubicBezTo>
                  <a:pt x="1442" y="728"/>
                  <a:pt x="2015" y="402"/>
                  <a:pt x="2633" y="317"/>
                </a:cubicBezTo>
                <a:cubicBezTo>
                  <a:pt x="3237" y="234"/>
                  <a:pt x="3827" y="64"/>
                  <a:pt x="4439" y="31"/>
                </a:cubicBezTo>
                <a:cubicBezTo>
                  <a:pt x="5010" y="0"/>
                  <a:pt x="5586" y="34"/>
                  <a:pt x="6160" y="31"/>
                </a:cubicBezTo>
                <a:cubicBezTo>
                  <a:pt x="6773" y="27"/>
                  <a:pt x="7366" y="200"/>
                  <a:pt x="7882" y="460"/>
                </a:cubicBezTo>
                <a:cubicBezTo>
                  <a:pt x="8354" y="698"/>
                  <a:pt x="8903" y="810"/>
                  <a:pt x="9309" y="1141"/>
                </a:cubicBezTo>
                <a:lnTo>
                  <a:pt x="9435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3824280" y="1074600"/>
            <a:ext cx="1106640" cy="731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4273560" y="1812960"/>
            <a:ext cx="27000" cy="40176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00200" y="3056040"/>
            <a:ext cx="2533680" cy="755964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5170320" y="3417840"/>
            <a:ext cx="4905720" cy="5792760"/>
            <a:chOff x="5170320" y="3417840"/>
            <a:chExt cx="4905720" cy="5792760"/>
          </a:xfrm>
        </p:grpSpPr>
        <p:sp>
          <p:nvSpPr>
            <p:cNvPr id="359" name=""/>
            <p:cNvSpPr/>
            <p:nvPr/>
          </p:nvSpPr>
          <p:spPr>
            <a:xfrm>
              <a:off x="5602320" y="3417840"/>
              <a:ext cx="4282920" cy="1243080"/>
            </a:xfrm>
            <a:prstGeom prst="wedgeRoundRectCallout">
              <a:avLst>
                <a:gd name="adj1" fmla="val -22875"/>
                <a:gd name="adj2" fmla="val 8368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70320" y="3703680"/>
              <a:ext cx="378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cf.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5730840" y="4873680"/>
              <a:ext cx="14097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8497800" y="4594320"/>
              <a:ext cx="1319400" cy="46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811840" y="3711600"/>
              <a:ext cx="4264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スペインへ いく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ことに しよう</a:t>
              </a:r>
              <a:r>
                <a:rPr b="0" lang="en-US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/ </a:t>
              </a:r>
              <a:r>
                <a:rPr b="0" lang="ja-JP" sz="24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しましょう。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08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5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7" name=""/>
          <p:cNvSpPr/>
          <p:nvPr/>
        </p:nvSpPr>
        <p:spPr>
          <a:xfrm>
            <a:off x="4842000" y="1282680"/>
            <a:ext cx="44575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にしました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8" name=""/>
          <p:cNvSpPr/>
          <p:nvPr/>
        </p:nvSpPr>
        <p:spPr>
          <a:xfrm>
            <a:off x="1123920" y="1852560"/>
            <a:ext cx="2844720" cy="701640"/>
          </a:xfrm>
          <a:prstGeom prst="roundRect">
            <a:avLst>
              <a:gd name="adj" fmla="val 222"/>
            </a:avLst>
          </a:prstGeom>
          <a:solidFill>
            <a:srgbClr val="ffffcc"/>
          </a:solidFill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きめま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2916360" y="795240"/>
            <a:ext cx="3498840" cy="1030320"/>
          </a:xfrm>
          <a:custGeom>
            <a:avLst/>
            <a:gdLst/>
            <a:ahLst/>
            <a:rect l="l" t="t" r="r" b="b"/>
            <a:pathLst>
              <a:path w="9720" h="2861">
                <a:moveTo>
                  <a:pt x="19" y="2860"/>
                </a:moveTo>
                <a:cubicBezTo>
                  <a:pt x="0" y="2045"/>
                  <a:pt x="977" y="1773"/>
                  <a:pt x="1405" y="1177"/>
                </a:cubicBezTo>
                <a:cubicBezTo>
                  <a:pt x="1726" y="728"/>
                  <a:pt x="2299" y="402"/>
                  <a:pt x="2917" y="317"/>
                </a:cubicBezTo>
                <a:cubicBezTo>
                  <a:pt x="3521" y="234"/>
                  <a:pt x="4111" y="64"/>
                  <a:pt x="4723" y="31"/>
                </a:cubicBezTo>
                <a:cubicBezTo>
                  <a:pt x="5294" y="0"/>
                  <a:pt x="5870" y="34"/>
                  <a:pt x="6444" y="31"/>
                </a:cubicBezTo>
                <a:cubicBezTo>
                  <a:pt x="7057" y="27"/>
                  <a:pt x="7650" y="200"/>
                  <a:pt x="8166" y="460"/>
                </a:cubicBezTo>
                <a:cubicBezTo>
                  <a:pt x="8638" y="698"/>
                  <a:pt x="9187" y="810"/>
                  <a:pt x="9593" y="1141"/>
                </a:cubicBezTo>
                <a:lnTo>
                  <a:pt x="9719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3824280" y="1074600"/>
            <a:ext cx="1106640" cy="731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230720" y="1812960"/>
            <a:ext cx="46080" cy="7142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00200" y="3056040"/>
            <a:ext cx="2533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08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7" name=""/>
          <p:cNvSpPr/>
          <p:nvPr/>
        </p:nvSpPr>
        <p:spPr>
          <a:xfrm>
            <a:off x="4359240" y="1282680"/>
            <a:ext cx="51721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になりました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8" name=""/>
          <p:cNvSpPr/>
          <p:nvPr/>
        </p:nvSpPr>
        <p:spPr>
          <a:xfrm>
            <a:off x="2916360" y="795240"/>
            <a:ext cx="3498840" cy="1030320"/>
          </a:xfrm>
          <a:custGeom>
            <a:avLst/>
            <a:gdLst/>
            <a:ahLst/>
            <a:rect l="l" t="t" r="r" b="b"/>
            <a:pathLst>
              <a:path w="9720" h="2861">
                <a:moveTo>
                  <a:pt x="19" y="2860"/>
                </a:moveTo>
                <a:cubicBezTo>
                  <a:pt x="0" y="2045"/>
                  <a:pt x="977" y="1773"/>
                  <a:pt x="1405" y="1177"/>
                </a:cubicBezTo>
                <a:cubicBezTo>
                  <a:pt x="1726" y="728"/>
                  <a:pt x="2299" y="402"/>
                  <a:pt x="2917" y="317"/>
                </a:cubicBezTo>
                <a:cubicBezTo>
                  <a:pt x="3521" y="234"/>
                  <a:pt x="4111" y="64"/>
                  <a:pt x="4723" y="31"/>
                </a:cubicBezTo>
                <a:cubicBezTo>
                  <a:pt x="5294" y="0"/>
                  <a:pt x="5870" y="34"/>
                  <a:pt x="6444" y="31"/>
                </a:cubicBezTo>
                <a:cubicBezTo>
                  <a:pt x="7057" y="27"/>
                  <a:pt x="7650" y="200"/>
                  <a:pt x="8166" y="460"/>
                </a:cubicBezTo>
                <a:cubicBezTo>
                  <a:pt x="8638" y="698"/>
                  <a:pt x="9187" y="810"/>
                  <a:pt x="9593" y="1141"/>
                </a:cubicBezTo>
                <a:lnTo>
                  <a:pt x="9719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9" name=""/>
          <p:cNvSpPr/>
          <p:nvPr/>
        </p:nvSpPr>
        <p:spPr>
          <a:xfrm>
            <a:off x="3543480" y="1046160"/>
            <a:ext cx="1411200" cy="754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230720" y="1812960"/>
            <a:ext cx="46080" cy="7142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1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502000" y="3056040"/>
            <a:ext cx="2533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842000" y="348768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4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5" name=""/>
          <p:cNvSpPr/>
          <p:nvPr/>
        </p:nvSpPr>
        <p:spPr>
          <a:xfrm>
            <a:off x="3541680" y="1903320"/>
            <a:ext cx="4457880" cy="166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6" name=""/>
          <p:cNvSpPr/>
          <p:nvPr/>
        </p:nvSpPr>
        <p:spPr>
          <a:xfrm>
            <a:off x="4167360" y="366084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440080" y="3359160"/>
            <a:ext cx="2290680" cy="6821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888080" y="3726000"/>
            <a:ext cx="2228760" cy="6770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651720" y="3292560"/>
            <a:ext cx="3325680" cy="1203120"/>
          </a:xfrm>
          <a:prstGeom prst="wedgeRoundRectCallout">
            <a:avLst>
              <a:gd name="adj1" fmla="val -54513"/>
              <a:gd name="adj2" fmla="val 8188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0" name=""/>
          <p:cNvSpPr/>
          <p:nvPr/>
        </p:nvSpPr>
        <p:spPr>
          <a:xfrm>
            <a:off x="6724800" y="3521160"/>
            <a:ext cx="350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みません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バスが おくれたんです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-398520" y="3719520"/>
            <a:ext cx="2954520" cy="35384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17440" y="217440"/>
            <a:ext cx="7954920" cy="1069920"/>
          </a:xfrm>
          <a:prstGeom prst="roundRect">
            <a:avLst>
              <a:gd name="adj" fmla="val 14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3" name=""/>
          <p:cNvSpPr/>
          <p:nvPr/>
        </p:nvSpPr>
        <p:spPr>
          <a:xfrm>
            <a:off x="450720" y="550800"/>
            <a:ext cx="7869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バスが おくれた 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</a:rPr>
              <a:t>ことに します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4" name=""/>
          <p:cNvSpPr/>
          <p:nvPr/>
        </p:nvSpPr>
        <p:spPr>
          <a:xfrm>
            <a:off x="4173480" y="228276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</a:rPr>
              <a:t>そうだ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</a:rPr>
              <a:t>うそを つこ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389320"/>
            <a:ext cx="2570040" cy="1179360"/>
          </a:xfrm>
          <a:prstGeom prst="wedgeRoundRectCallout">
            <a:avLst>
              <a:gd name="adj1" fmla="val -9425"/>
              <a:gd name="adj2" fmla="val 1256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2676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まっ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ぼうし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842000" y="348768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8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9" name=""/>
          <p:cNvSpPr/>
          <p:nvPr/>
        </p:nvSpPr>
        <p:spPr>
          <a:xfrm>
            <a:off x="3541680" y="1903320"/>
            <a:ext cx="4457880" cy="166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0" name=""/>
          <p:cNvSpPr/>
          <p:nvPr/>
        </p:nvSpPr>
        <p:spPr>
          <a:xfrm>
            <a:off x="4167360" y="366084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440080" y="3359160"/>
            <a:ext cx="2290680" cy="6821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888080" y="3726000"/>
            <a:ext cx="2228760" cy="6770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651720" y="3292560"/>
            <a:ext cx="3325680" cy="1203120"/>
          </a:xfrm>
          <a:prstGeom prst="wedgeRoundRectCallout">
            <a:avLst>
              <a:gd name="adj1" fmla="val -54513"/>
              <a:gd name="adj2" fmla="val 8188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4" name=""/>
          <p:cNvSpPr/>
          <p:nvPr/>
        </p:nvSpPr>
        <p:spPr>
          <a:xfrm>
            <a:off x="6724800" y="352116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え！？ しゅくだい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らいませんでしたよ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216000" y="3781440"/>
            <a:ext cx="2162160" cy="6496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17440" y="187200"/>
            <a:ext cx="7916760" cy="167328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7" name=""/>
          <p:cNvSpPr/>
          <p:nvPr/>
        </p:nvSpPr>
        <p:spPr>
          <a:xfrm>
            <a:off x="450720" y="550800"/>
            <a:ext cx="6853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しゅくだいを もらわなかっ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</a:rPr>
              <a:t>ことに します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8" name=""/>
          <p:cNvSpPr/>
          <p:nvPr/>
        </p:nvSpPr>
        <p:spPr>
          <a:xfrm>
            <a:off x="4173480" y="228276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</a:rPr>
              <a:t>そうだ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</a:rPr>
              <a:t>うそを つこ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389320"/>
            <a:ext cx="2570040" cy="1179360"/>
          </a:xfrm>
          <a:prstGeom prst="wedgeRoundRectCallout">
            <a:avLst>
              <a:gd name="adj1" fmla="val -9425"/>
              <a:gd name="adj2" fmla="val 1256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2495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まっ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くだい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すれ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4880" y="1454040"/>
            <a:ext cx="404316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1030320" y="1595520"/>
            <a:ext cx="666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1720800" y="1625760"/>
            <a:ext cx="2895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き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1058760" y="2251080"/>
            <a:ext cx="340200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ーｉ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o 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159372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こ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692280" y="3164040"/>
            <a:ext cx="404316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1017720" y="330516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1770120" y="3405240"/>
            <a:ext cx="2895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み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1046160" y="3960720"/>
            <a:ext cx="332280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ーｉ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o 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1697040" y="3303720"/>
            <a:ext cx="1119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も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325440" y="16992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5100480" y="14922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5427720" y="163512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6062760" y="164628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5456160" y="2290680"/>
            <a:ext cx="369108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ー  → よ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6230880" y="1633680"/>
            <a:ext cx="1119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よ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5089680" y="3201840"/>
            <a:ext cx="4270320" cy="114624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5415120" y="334332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6676920" y="334332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5443560" y="4000680"/>
            <a:ext cx="359712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ー → よ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6562800" y="3382920"/>
            <a:ext cx="1119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よ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5062680" y="2476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299880" y="501012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4213080" y="5081760"/>
            <a:ext cx="5353200" cy="10746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きましょう → こよ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4187880" y="6281640"/>
            <a:ext cx="5337000" cy="10209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ましょう → しよ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7920" y="3160800"/>
            <a:ext cx="1917720" cy="2786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2893680" y="3868560"/>
            <a:ext cx="1152360" cy="46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393840"/>
            <a:ext cx="6532560" cy="2501640"/>
            <a:chOff x="0" y="393840"/>
            <a:chExt cx="6532560" cy="2501640"/>
          </a:xfrm>
        </p:grpSpPr>
        <p:sp>
          <p:nvSpPr>
            <p:cNvPr id="96" name=""/>
            <p:cNvSpPr/>
            <p:nvPr/>
          </p:nvSpPr>
          <p:spPr>
            <a:xfrm>
              <a:off x="403200" y="393840"/>
              <a:ext cx="6129360" cy="2501640"/>
            </a:xfrm>
            <a:prstGeom prst="roundRect">
              <a:avLst>
                <a:gd name="adj" fmla="val 7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73188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640" y="441360"/>
              <a:ext cx="5113440" cy="2398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っしょ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としょか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.OzN_'04"/>
                  <a:ea typeface="Y.OzN_'04"/>
                </a:rPr>
                <a:t>で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べんきょうしようよ</a:t>
              </a: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7800" y="4637160"/>
            <a:ext cx="3622680" cy="2017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00640" y="2540160"/>
            <a:ext cx="4795920" cy="49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123840" y="2925720"/>
            <a:ext cx="3230640" cy="2849760"/>
          </a:xfrm>
          <a:prstGeom prst="roundRect">
            <a:avLst>
              <a:gd name="adj" fmla="val 56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6360" y="271440"/>
            <a:ext cx="5378760" cy="2430360"/>
            <a:chOff x="36360" y="271440"/>
            <a:chExt cx="5378760" cy="2430360"/>
          </a:xfrm>
        </p:grpSpPr>
        <p:sp>
          <p:nvSpPr>
            <p:cNvPr id="105" name=""/>
            <p:cNvSpPr/>
            <p:nvPr/>
          </p:nvSpPr>
          <p:spPr>
            <a:xfrm>
              <a:off x="436680" y="271440"/>
              <a:ext cx="4978440" cy="2430360"/>
            </a:xfrm>
            <a:prstGeom prst="roundRect">
              <a:avLst>
                <a:gd name="adj" fmla="val 7375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60" y="568440"/>
              <a:ext cx="36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880" y="755640"/>
              <a:ext cx="4533840" cy="175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え</a:t>
              </a:r>
              <a:r>
                <a:rPr b="0" lang="ja-JP" sz="4000" spc="-1" strike="noStrike">
                  <a:solidFill>
                    <a:srgbClr val="800000"/>
                  </a:solidFill>
                  <a:latin typeface="Y.OzN_'04"/>
                  <a:ea typeface="Y.OzN_'04"/>
                </a:rPr>
                <a:t>の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てんらんかい</a:t>
              </a:r>
              <a:r>
                <a:rPr b="0" lang="ja-JP" sz="4000" spc="-1" strike="noStrike">
                  <a:solidFill>
                    <a:srgbClr val="800000"/>
                  </a:solidFill>
                  <a:latin typeface="Y.OzN_'04"/>
                  <a:ea typeface="Y.OzN_'04"/>
                </a:rPr>
                <a:t>へ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いこうか</a:t>
              </a:r>
              <a:r>
                <a:rPr b="0" lang="ja-JP" sz="40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640560" y="1511280"/>
            <a:ext cx="3363840" cy="1263600"/>
            <a:chOff x="6640560" y="1511280"/>
            <a:chExt cx="3363840" cy="1263600"/>
          </a:xfrm>
        </p:grpSpPr>
        <p:sp>
          <p:nvSpPr>
            <p:cNvPr id="109" name=""/>
            <p:cNvSpPr/>
            <p:nvPr/>
          </p:nvSpPr>
          <p:spPr>
            <a:xfrm>
              <a:off x="6891480" y="1511280"/>
              <a:ext cx="3112920" cy="1263600"/>
            </a:xfrm>
            <a:prstGeom prst="roundRect">
              <a:avLst>
                <a:gd name="adj" fmla="val 14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40560" y="169560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59600" y="1763640"/>
              <a:ext cx="28335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どこいく？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90600" y="1517760"/>
            <a:ext cx="6732000" cy="1085760"/>
            <a:chOff x="390600" y="1517760"/>
            <a:chExt cx="6732000" cy="1085760"/>
          </a:xfrm>
        </p:grpSpPr>
        <p:sp>
          <p:nvSpPr>
            <p:cNvPr id="113" name=""/>
            <p:cNvSpPr/>
            <p:nvPr/>
          </p:nvSpPr>
          <p:spPr>
            <a:xfrm>
              <a:off x="3356280" y="1849320"/>
              <a:ext cx="3766320" cy="754200"/>
            </a:xfrm>
            <a:prstGeom prst="roundRect">
              <a:avLst>
                <a:gd name="adj" fmla="val 2373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どうですか？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90600" y="1517760"/>
              <a:ext cx="3810240" cy="974520"/>
              <a:chOff x="390600" y="1517760"/>
              <a:chExt cx="3810240" cy="974520"/>
            </a:xfrm>
          </p:grpSpPr>
          <p:sp>
            <p:nvSpPr>
              <p:cNvPr id="115" name=""/>
              <p:cNvSpPr/>
              <p:nvPr/>
            </p:nvSpPr>
            <p:spPr>
              <a:xfrm>
                <a:off x="390600" y="1517760"/>
                <a:ext cx="2934000" cy="974520"/>
              </a:xfrm>
              <a:prstGeom prst="ellipse">
                <a:avLst/>
              </a:prstGeom>
              <a:noFill/>
              <a:ln w="72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7840" y="2022480"/>
                <a:ext cx="873000" cy="214200"/>
              </a:xfrm>
              <a:prstGeom prst="line">
                <a:avLst/>
              </a:prstGeom>
              <a:ln w="72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92720" y="3189240"/>
            <a:ext cx="1936800" cy="565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531120" y="3424320"/>
            <a:ext cx="2711160" cy="5422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7520" y="3024360"/>
            <a:ext cx="296064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819440" y="3811680"/>
            <a:ext cx="79056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271440"/>
            <a:ext cx="4156200" cy="2398680"/>
            <a:chOff x="0" y="271440"/>
            <a:chExt cx="4156200" cy="2398680"/>
          </a:xfrm>
        </p:grpSpPr>
        <p:sp>
          <p:nvSpPr>
            <p:cNvPr id="122" name=""/>
            <p:cNvSpPr/>
            <p:nvPr/>
          </p:nvSpPr>
          <p:spPr>
            <a:xfrm>
              <a:off x="309600" y="271440"/>
              <a:ext cx="3846600" cy="2398680"/>
            </a:xfrm>
            <a:prstGeom prst="roundRect">
              <a:avLst>
                <a:gd name="adj" fmla="val 7472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9544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7680" y="749160"/>
              <a:ext cx="3501720" cy="1737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えいが</a:t>
              </a:r>
              <a:r>
                <a:rPr b="0" lang="ja-JP" sz="4800" spc="-1" strike="noStrike">
                  <a:solidFill>
                    <a:srgbClr val="800000"/>
                  </a:solidFill>
                  <a:latin typeface="Y.OzN_'04"/>
                  <a:ea typeface="Y.OzN_'04"/>
                </a:rPr>
                <a:t>を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みようか</a:t>
              </a: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640560" y="1511280"/>
            <a:ext cx="3363840" cy="1263600"/>
            <a:chOff x="6640560" y="1511280"/>
            <a:chExt cx="3363840" cy="1263600"/>
          </a:xfrm>
        </p:grpSpPr>
        <p:sp>
          <p:nvSpPr>
            <p:cNvPr id="126" name=""/>
            <p:cNvSpPr/>
            <p:nvPr/>
          </p:nvSpPr>
          <p:spPr>
            <a:xfrm>
              <a:off x="6891480" y="1511280"/>
              <a:ext cx="3112920" cy="1263600"/>
            </a:xfrm>
            <a:prstGeom prst="roundRect">
              <a:avLst>
                <a:gd name="adj" fmla="val 14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40560" y="169560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59600" y="1763640"/>
              <a:ext cx="28335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なにする？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94160" y="3151080"/>
            <a:ext cx="1936800" cy="565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531120" y="3386160"/>
            <a:ext cx="2711160" cy="5423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2600" y="2700360"/>
            <a:ext cx="3397320" cy="2386080"/>
            <a:chOff x="282600" y="2700360"/>
            <a:chExt cx="3397320" cy="2386080"/>
          </a:xfrm>
        </p:grpSpPr>
        <p:sp>
          <p:nvSpPr>
            <p:cNvPr id="133" name=""/>
            <p:cNvSpPr/>
            <p:nvPr/>
          </p:nvSpPr>
          <p:spPr>
            <a:xfrm>
              <a:off x="282600" y="2700360"/>
              <a:ext cx="3397320" cy="2386080"/>
            </a:xfrm>
            <a:prstGeom prst="roundRect">
              <a:avLst>
                <a:gd name="adj" fmla="val 6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2401560" y="3375000"/>
              <a:ext cx="569880" cy="2779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" y="2733840"/>
              <a:ext cx="1954080" cy="102384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511200" y="2738520"/>
              <a:ext cx="193212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2711520" y="3422520"/>
              <a:ext cx="952560" cy="166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760" y="299880"/>
            <a:ext cx="5746680" cy="1632240"/>
          </a:xfrm>
          <a:prstGeom prst="roundRect">
            <a:avLst>
              <a:gd name="adj" fmla="val 1099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つだい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44640" y="5033880"/>
            <a:ext cx="3106800" cy="820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30920" y="348768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23000" y="4089240"/>
            <a:ext cx="1919520" cy="2124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いねい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0040" y="2387520"/>
            <a:ext cx="2038320" cy="65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299880"/>
            <a:ext cx="5322960" cy="1657440"/>
          </a:xfrm>
          <a:prstGeom prst="roundRect">
            <a:avLst>
              <a:gd name="adj" fmla="val 10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Y.OzN_'04"/>
                <a:ea typeface="Y.OzN_'04"/>
              </a:rPr>
              <a:t>てつだおう</a:t>
            </a:r>
            <a:r>
              <a:rPr b="0" lang="ja-JP" sz="5400" spc="-1" strike="noStrike">
                <a:solidFill>
                  <a:srgbClr val="000000"/>
                </a:solidFill>
                <a:latin typeface="Y.OzN_'04"/>
                <a:ea typeface="Y.OzN_'04"/>
              </a:rPr>
              <a:t>か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16600" y="313200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08680" y="3735360"/>
            <a:ext cx="1919520" cy="2124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2830680" y="4678200"/>
            <a:ext cx="3106440" cy="820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77840" y="2290680"/>
            <a:ext cx="1951200" cy="62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1:03:30Z</dcterms:created>
  <dc:creator/>
  <dc:description/>
  <dc:language>en-US</dc:language>
  <cp:lastModifiedBy/>
  <dcterms:modified xsi:type="dcterms:W3CDTF">2016-05-24T19:28:58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