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jpeg" ContentType="image/jpeg"/>
  <Override PartName="/ppt/media/image6.png" ContentType="image/png"/>
  <Override PartName="/ppt/media/image10.png" ContentType="image/png"/>
  <Override PartName="/ppt/media/image5.png" ContentType="image/png"/>
  <Override PartName="/ppt/media/image13.jpeg" ContentType="image/jpeg"/>
  <Override PartName="/ppt/media/image23.png" ContentType="image/png"/>
  <Override PartName="/ppt/media/image4.png" ContentType="image/png"/>
  <Override PartName="/ppt/media/image25.jpeg" ContentType="image/jpeg"/>
  <Override PartName="/ppt/media/image2.jpeg" ContentType="image/jpeg"/>
  <Override PartName="/ppt/media/image3.png" ContentType="image/png"/>
  <Override PartName="/ppt/media/image22.png" ContentType="image/png"/>
  <Override PartName="/ppt/media/image21.jpeg" ContentType="image/jpeg"/>
  <Override PartName="/ppt/media/image16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40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sldImg"/>
          </p:nvPr>
        </p:nvSpPr>
        <p:spPr>
          <a:xfrm>
            <a:off x="1310760" y="1027080"/>
            <a:ext cx="4930920" cy="36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itstream Vera Serif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169640" y="5086080"/>
            <a:ext cx="521964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04840" y="812880"/>
            <a:ext cx="5345280" cy="4008240"/>
          </a:xfrm>
          <a:prstGeom prst="rect">
            <a:avLst/>
          </a:prstGeom>
          <a:ln w="0">
            <a:noFill/>
          </a:ln>
        </p:spPr>
      </p:sp>
      <p:sp>
        <p:nvSpPr>
          <p:cNvPr id="247" name=""/>
          <p:cNvSpPr/>
          <p:nvPr/>
        </p:nvSpPr>
        <p:spPr>
          <a:xfrm>
            <a:off x="755640" y="5078520"/>
            <a:ext cx="6043680" cy="472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265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267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269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271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273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275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277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279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281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283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249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285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287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289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291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293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295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297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299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01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03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251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05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07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09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11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253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255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257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259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261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263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43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739440" y="4390200"/>
            <a:ext cx="86043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8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48360" y="2101320"/>
            <a:ext cx="4198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739440" y="4390200"/>
            <a:ext cx="4198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148360" y="4390200"/>
            <a:ext cx="4198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27702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648600" y="2101320"/>
            <a:ext cx="27702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557760" y="2101320"/>
            <a:ext cx="27702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739440" y="4390200"/>
            <a:ext cx="27702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648600" y="4390200"/>
            <a:ext cx="27702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557760" y="4390200"/>
            <a:ext cx="27702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739440" y="2101320"/>
            <a:ext cx="86043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43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8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148360" y="2101320"/>
            <a:ext cx="4198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739440" y="626760"/>
            <a:ext cx="860436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8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48360" y="2101320"/>
            <a:ext cx="4198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739440" y="4390200"/>
            <a:ext cx="4198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8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48360" y="2101320"/>
            <a:ext cx="4198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48360" y="4390200"/>
            <a:ext cx="4198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8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48360" y="2101320"/>
            <a:ext cx="4198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739440" y="4390200"/>
            <a:ext cx="86043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itstream Vera Serif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39440" y="2101320"/>
            <a:ext cx="86043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erif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  <a:p>
            <a:pPr lvl="1" marL="343080" indent="-34308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erif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  <a:p>
            <a:pPr lvl="2" marL="343080" indent="-34308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erif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  <a:p>
            <a:pPr lvl="3" marL="343080" indent="-34308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erif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  <a:p>
            <a:pPr lvl="4" marL="343080" indent="-34308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erif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  <a:p>
            <a:pPr lvl="5" marL="343080" indent="-34308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erif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  <a:p>
            <a:pPr lvl="6" marL="343080" indent="-34308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erif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" name=""/>
          <p:cNvSpPr/>
          <p:nvPr/>
        </p:nvSpPr>
        <p:spPr>
          <a:xfrm>
            <a:off x="7272360" y="7056360"/>
            <a:ext cx="27795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http://j-learning.com/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20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619280" y="404640"/>
            <a:ext cx="6945120" cy="15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0736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9600" spc="-1" strike="noStrike">
                <a:solidFill>
                  <a:srgbClr val="000000"/>
                </a:solidFill>
                <a:latin typeface="YOzFontNP04"/>
                <a:ea typeface="YOzFontNP04"/>
              </a:rPr>
              <a:t>だい </a:t>
            </a:r>
            <a:r>
              <a:rPr b="0" lang="en-US" sz="9600" spc="-1" strike="noStrike">
                <a:solidFill>
                  <a:srgbClr val="000000"/>
                </a:solidFill>
                <a:latin typeface="YOzFontNP04"/>
                <a:ea typeface="YOzFontNP04"/>
              </a:rPr>
              <a:t>47 </a:t>
            </a:r>
            <a:r>
              <a:rPr b="0" lang="ja-JP" sz="9600" spc="-1" strike="noStrike">
                <a:solidFill>
                  <a:srgbClr val="000000"/>
                </a:solidFill>
                <a:latin typeface="YOzFontNP04"/>
                <a:ea typeface="YOzFontNP04"/>
              </a:rPr>
              <a:t>か</a:t>
            </a:r>
            <a:endParaRPr b="0" lang="en-US" sz="96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44" name=""/>
          <p:cNvSpPr/>
          <p:nvPr/>
        </p:nvSpPr>
        <p:spPr>
          <a:xfrm>
            <a:off x="2700360" y="2025720"/>
            <a:ext cx="487836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20736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9600" spc="-1" strike="noStrike">
                <a:solidFill>
                  <a:srgbClr val="000000"/>
                </a:solidFill>
                <a:latin typeface="YOzFontNP04"/>
                <a:ea typeface="YOzFontNP04"/>
              </a:rPr>
              <a:t>スライド</a:t>
            </a:r>
            <a:endParaRPr b="0" lang="en-US" sz="96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45" name=""/>
          <p:cNvSpPr/>
          <p:nvPr/>
        </p:nvSpPr>
        <p:spPr>
          <a:xfrm>
            <a:off x="9899640" y="5578560"/>
            <a:ext cx="14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46" name=""/>
          <p:cNvSpPr/>
          <p:nvPr/>
        </p:nvSpPr>
        <p:spPr>
          <a:xfrm>
            <a:off x="1928880" y="3951360"/>
            <a:ext cx="2236680" cy="16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YOzFontNP04"/>
                <a:ea typeface="YOzFontNP04"/>
              </a:rPr>
              <a:t>〜が します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12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YOzFontNP04"/>
                <a:ea typeface="YOzFontNP04"/>
              </a:rPr>
              <a:t>〜そうです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12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YOzFontNP04"/>
                <a:ea typeface="YOzFontNP04"/>
              </a:rPr>
              <a:t>〜ようです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3011400" y="2948040"/>
            <a:ext cx="2033640" cy="154080"/>
          </a:xfrm>
          <a:prstGeom prst="line">
            <a:avLst/>
          </a:prstGeom>
          <a:ln w="108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09" name=""/>
          <p:cNvSpPr/>
          <p:nvPr/>
        </p:nvSpPr>
        <p:spPr>
          <a:xfrm>
            <a:off x="995400" y="5541840"/>
            <a:ext cx="8767800" cy="1425600"/>
          </a:xfrm>
          <a:prstGeom prst="roundRect">
            <a:avLst>
              <a:gd name="adj" fmla="val 111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10" name=""/>
          <p:cNvSpPr/>
          <p:nvPr/>
        </p:nvSpPr>
        <p:spPr>
          <a:xfrm>
            <a:off x="4803840" y="552600"/>
            <a:ext cx="4832280" cy="1117440"/>
          </a:xfrm>
          <a:prstGeom prst="roundRect">
            <a:avLst>
              <a:gd name="adj" fmla="val 139"/>
            </a:avLst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9504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とりが なきます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11" name=""/>
          <p:cNvSpPr/>
          <p:nvPr/>
        </p:nvSpPr>
        <p:spPr>
          <a:xfrm>
            <a:off x="2400480" y="5637240"/>
            <a:ext cx="5486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ff"/>
                </a:solidFill>
                <a:latin typeface="Y.OzN_'04"/>
                <a:ea typeface="Y.OzN_'04"/>
              </a:rPr>
              <a:t>とりが なく こえ</a:t>
            </a:r>
            <a:r>
              <a:rPr b="0" lang="ja-JP" sz="4800" spc="-1" strike="noStrike">
                <a:solidFill>
                  <a:srgbClr val="800000"/>
                </a:solidFill>
                <a:latin typeface="Y.OzN_'04"/>
                <a:ea typeface="Y.OzN_'04"/>
              </a:rPr>
              <a:t>が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 u="sng">
                <a:solidFill>
                  <a:srgbClr val="ff0000"/>
                </a:solidFill>
                <a:uFillTx/>
                <a:latin typeface="Y.OzN_'04"/>
                <a:ea typeface="Y.OzN_'04"/>
              </a:rPr>
              <a:t>し</a:t>
            </a:r>
            <a:r>
              <a:rPr b="0" lang="ja-JP" sz="4800" spc="-1" strike="noStrike">
                <a:solidFill>
                  <a:srgbClr val="000000"/>
                </a:solidFill>
                <a:latin typeface="Y.OzN_'04"/>
                <a:ea typeface="Y.OzN_'04"/>
              </a:rPr>
              <a:t>ます。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dur="indefinite" fill="hold">
                      <p:stCondLst>
                        <p:cond delay="indefinite"/>
                      </p:stCondLst>
                      <p:childTnLst>
                        <p:par>
                          <p:cTn id="6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3011400" y="2948040"/>
            <a:ext cx="2033640" cy="154080"/>
          </a:xfrm>
          <a:prstGeom prst="line">
            <a:avLst/>
          </a:prstGeom>
          <a:ln w="108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13" name=""/>
          <p:cNvSpPr/>
          <p:nvPr/>
        </p:nvSpPr>
        <p:spPr>
          <a:xfrm>
            <a:off x="982800" y="5321160"/>
            <a:ext cx="8767800" cy="1425600"/>
          </a:xfrm>
          <a:prstGeom prst="roundRect">
            <a:avLst>
              <a:gd name="adj" fmla="val 111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14" name=""/>
          <p:cNvSpPr/>
          <p:nvPr/>
        </p:nvSpPr>
        <p:spPr>
          <a:xfrm>
            <a:off x="1728720" y="5432400"/>
            <a:ext cx="73152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ff"/>
                </a:solidFill>
                <a:latin typeface="Y.OzN_'04"/>
                <a:ea typeface="Y.OzN_'04"/>
              </a:rPr>
              <a:t>とりが ないている </a:t>
            </a:r>
            <a:r>
              <a:rPr b="0" lang="ja-JP" sz="4800" spc="-1" strike="noStrike" u="sng">
                <a:solidFill>
                  <a:srgbClr val="0000ff"/>
                </a:solidFill>
                <a:uFillTx/>
                <a:latin typeface="Y.OzN_'04"/>
                <a:ea typeface="Y.OzN_'04"/>
              </a:rPr>
              <a:t>こえ</a:t>
            </a:r>
            <a:r>
              <a:rPr b="0" lang="ja-JP" sz="4800" spc="-1" strike="noStrike">
                <a:solidFill>
                  <a:srgbClr val="800000"/>
                </a:solidFill>
                <a:latin typeface="Y.OzN_'04"/>
                <a:ea typeface="Y.OzN_'04"/>
              </a:rPr>
              <a:t>が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 u="sng">
                <a:solidFill>
                  <a:srgbClr val="ff0000"/>
                </a:solidFill>
                <a:uFillTx/>
                <a:latin typeface="Y.OzN_'04"/>
                <a:ea typeface="Y.OzN_'04"/>
              </a:rPr>
              <a:t>し</a:t>
            </a:r>
            <a:r>
              <a:rPr b="0" lang="ja-JP" sz="4800" spc="-1" strike="noStrike">
                <a:solidFill>
                  <a:srgbClr val="000000"/>
                </a:solidFill>
                <a:latin typeface="Y.OzN_'04"/>
                <a:ea typeface="Y.OzN_'04"/>
              </a:rPr>
              <a:t>ます。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dur="indefinite" fill="hold">
                      <p:stCondLst>
                        <p:cond delay="indefinite"/>
                      </p:stCondLst>
                      <p:childTnLst>
                        <p:par>
                          <p:cTn id="6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836800" y="195120"/>
            <a:ext cx="4540320" cy="518796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7264440" y="2583000"/>
            <a:ext cx="2506680" cy="47116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960480" y="4027320"/>
            <a:ext cx="2270160" cy="17971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4"/>
          <a:stretch/>
        </p:blipFill>
        <p:spPr>
          <a:xfrm>
            <a:off x="4334040" y="3913200"/>
            <a:ext cx="2720880" cy="25686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2014560" y="5902200"/>
            <a:ext cx="5657760" cy="1071720"/>
          </a:xfrm>
          <a:prstGeom prst="roundRect">
            <a:avLst>
              <a:gd name="adj" fmla="val 148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20" name=""/>
          <p:cNvSpPr/>
          <p:nvPr/>
        </p:nvSpPr>
        <p:spPr>
          <a:xfrm>
            <a:off x="1436760" y="2411280"/>
            <a:ext cx="1038240" cy="1540080"/>
          </a:xfrm>
          <a:custGeom>
            <a:avLst/>
            <a:gdLst/>
            <a:ahLst/>
            <a:rect l="l" t="t" r="r" b="b"/>
            <a:pathLst>
              <a:path w="2886" h="4277">
                <a:moveTo>
                  <a:pt x="747" y="4276"/>
                </a:moveTo>
                <a:cubicBezTo>
                  <a:pt x="354" y="3694"/>
                  <a:pt x="0" y="2693"/>
                  <a:pt x="568" y="2138"/>
                </a:cubicBezTo>
                <a:cubicBezTo>
                  <a:pt x="938" y="1776"/>
                  <a:pt x="1560" y="1889"/>
                  <a:pt x="1958" y="1568"/>
                </a:cubicBezTo>
                <a:cubicBezTo>
                  <a:pt x="2429" y="1188"/>
                  <a:pt x="2458" y="509"/>
                  <a:pt x="2742" y="0"/>
                </a:cubicBezTo>
                <a:lnTo>
                  <a:pt x="2885" y="0"/>
                </a:lnTo>
              </a:path>
            </a:pathLst>
          </a:custGeom>
          <a:noFill/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21" name=""/>
          <p:cNvSpPr/>
          <p:nvPr/>
        </p:nvSpPr>
        <p:spPr>
          <a:xfrm>
            <a:off x="2079720" y="2565360"/>
            <a:ext cx="1038240" cy="1540080"/>
          </a:xfrm>
          <a:custGeom>
            <a:avLst/>
            <a:gdLst/>
            <a:ahLst/>
            <a:rect l="l" t="t" r="r" b="b"/>
            <a:pathLst>
              <a:path w="2886" h="4277">
                <a:moveTo>
                  <a:pt x="747" y="4276"/>
                </a:moveTo>
                <a:cubicBezTo>
                  <a:pt x="354" y="3694"/>
                  <a:pt x="0" y="2693"/>
                  <a:pt x="568" y="2138"/>
                </a:cubicBezTo>
                <a:cubicBezTo>
                  <a:pt x="938" y="1776"/>
                  <a:pt x="1560" y="1889"/>
                  <a:pt x="1958" y="1568"/>
                </a:cubicBezTo>
                <a:cubicBezTo>
                  <a:pt x="2429" y="1188"/>
                  <a:pt x="2458" y="509"/>
                  <a:pt x="2742" y="0"/>
                </a:cubicBezTo>
                <a:lnTo>
                  <a:pt x="2885" y="0"/>
                </a:lnTo>
              </a:path>
            </a:pathLst>
          </a:custGeom>
          <a:noFill/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22" name=""/>
          <p:cNvSpPr/>
          <p:nvPr/>
        </p:nvSpPr>
        <p:spPr>
          <a:xfrm>
            <a:off x="4305240" y="2732040"/>
            <a:ext cx="585720" cy="1398600"/>
          </a:xfrm>
          <a:custGeom>
            <a:avLst/>
            <a:gdLst/>
            <a:ahLst/>
            <a:rect l="l" t="t" r="r" b="b"/>
            <a:pathLst>
              <a:path w="1627" h="3886">
                <a:moveTo>
                  <a:pt x="656" y="3885"/>
                </a:moveTo>
                <a:cubicBezTo>
                  <a:pt x="0" y="3346"/>
                  <a:pt x="122" y="2505"/>
                  <a:pt x="193" y="1782"/>
                </a:cubicBezTo>
                <a:cubicBezTo>
                  <a:pt x="258" y="1118"/>
                  <a:pt x="1626" y="753"/>
                  <a:pt x="549" y="36"/>
                </a:cubicBezTo>
                <a:lnTo>
                  <a:pt x="407" y="0"/>
                </a:lnTo>
              </a:path>
            </a:pathLst>
          </a:custGeom>
          <a:noFill/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23" name=""/>
          <p:cNvSpPr/>
          <p:nvPr/>
        </p:nvSpPr>
        <p:spPr>
          <a:xfrm>
            <a:off x="5214960" y="2604960"/>
            <a:ext cx="585720" cy="1398600"/>
          </a:xfrm>
          <a:custGeom>
            <a:avLst/>
            <a:gdLst/>
            <a:ahLst/>
            <a:rect l="l" t="t" r="r" b="b"/>
            <a:pathLst>
              <a:path w="1627" h="3886">
                <a:moveTo>
                  <a:pt x="656" y="3885"/>
                </a:moveTo>
                <a:cubicBezTo>
                  <a:pt x="0" y="3346"/>
                  <a:pt x="122" y="2505"/>
                  <a:pt x="193" y="1782"/>
                </a:cubicBezTo>
                <a:cubicBezTo>
                  <a:pt x="258" y="1118"/>
                  <a:pt x="1626" y="753"/>
                  <a:pt x="549" y="36"/>
                </a:cubicBezTo>
                <a:lnTo>
                  <a:pt x="407" y="0"/>
                </a:lnTo>
              </a:path>
            </a:pathLst>
          </a:custGeom>
          <a:noFill/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24" name=""/>
          <p:cNvSpPr/>
          <p:nvPr/>
        </p:nvSpPr>
        <p:spPr>
          <a:xfrm>
            <a:off x="6721560" y="2135160"/>
            <a:ext cx="757080" cy="879480"/>
          </a:xfrm>
          <a:custGeom>
            <a:avLst/>
            <a:gdLst/>
            <a:ahLst/>
            <a:rect l="l" t="t" r="r" b="b"/>
            <a:pathLst>
              <a:path w="2103" h="2442">
                <a:moveTo>
                  <a:pt x="0" y="19"/>
                </a:moveTo>
                <a:cubicBezTo>
                  <a:pt x="1075" y="0"/>
                  <a:pt x="681" y="1281"/>
                  <a:pt x="926" y="1908"/>
                </a:cubicBezTo>
                <a:cubicBezTo>
                  <a:pt x="1134" y="2441"/>
                  <a:pt x="1667" y="2233"/>
                  <a:pt x="2067" y="2336"/>
                </a:cubicBezTo>
                <a:lnTo>
                  <a:pt x="2102" y="2336"/>
                </a:lnTo>
              </a:path>
            </a:pathLst>
          </a:custGeom>
          <a:noFill/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25" name=""/>
          <p:cNvSpPr/>
          <p:nvPr/>
        </p:nvSpPr>
        <p:spPr>
          <a:xfrm>
            <a:off x="7491240" y="1905120"/>
            <a:ext cx="757440" cy="879480"/>
          </a:xfrm>
          <a:custGeom>
            <a:avLst/>
            <a:gdLst/>
            <a:ahLst/>
            <a:rect l="l" t="t" r="r" b="b"/>
            <a:pathLst>
              <a:path w="2103" h="2442">
                <a:moveTo>
                  <a:pt x="0" y="19"/>
                </a:moveTo>
                <a:cubicBezTo>
                  <a:pt x="1075" y="0"/>
                  <a:pt x="681" y="1281"/>
                  <a:pt x="926" y="1908"/>
                </a:cubicBezTo>
                <a:cubicBezTo>
                  <a:pt x="1134" y="2441"/>
                  <a:pt x="1667" y="2233"/>
                  <a:pt x="2067" y="2336"/>
                </a:cubicBezTo>
                <a:lnTo>
                  <a:pt x="2102" y="2336"/>
                </a:lnTo>
              </a:path>
            </a:pathLst>
          </a:custGeom>
          <a:noFill/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3463920" y="2331720"/>
            <a:ext cx="1398600" cy="506520"/>
          </a:xfrm>
          <a:prstGeom prst="line">
            <a:avLst/>
          </a:prstGeom>
          <a:ln w="72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27" name=""/>
          <p:cNvSpPr/>
          <p:nvPr/>
        </p:nvSpPr>
        <p:spPr>
          <a:xfrm flipH="1" flipV="1">
            <a:off x="5357520" y="2356920"/>
            <a:ext cx="1366920" cy="544680"/>
          </a:xfrm>
          <a:prstGeom prst="line">
            <a:avLst/>
          </a:prstGeom>
          <a:ln w="72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28" name=""/>
          <p:cNvSpPr/>
          <p:nvPr/>
        </p:nvSpPr>
        <p:spPr>
          <a:xfrm>
            <a:off x="2235240" y="6032520"/>
            <a:ext cx="5348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03680" bIns="0" anchor="t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におい </a:t>
            </a:r>
            <a:r>
              <a:rPr b="0" lang="ja-JP" sz="4800" spc="-1" strike="noStrike">
                <a:solidFill>
                  <a:srgbClr val="800000"/>
                </a:solidFill>
                <a:latin typeface="YOzFontNP04"/>
                <a:ea typeface="YOzFontNP04"/>
              </a:rPr>
              <a:t>が</a:t>
            </a:r>
            <a:r>
              <a:rPr b="0" lang="ja-JP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します。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dur="indefinite" fill="hold">
                      <p:stCondLst>
                        <p:cond delay="indefinite"/>
                      </p:stCondLst>
                      <p:childTnLst>
                        <p:par>
                          <p:cTn id="7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836800" y="195120"/>
            <a:ext cx="4540320" cy="518796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4095720" y="3789360"/>
            <a:ext cx="2506680" cy="471168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871560" y="5902200"/>
            <a:ext cx="9066240" cy="1071720"/>
          </a:xfrm>
          <a:prstGeom prst="roundRect">
            <a:avLst>
              <a:gd name="adj" fmla="val 148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32" name=""/>
          <p:cNvSpPr/>
          <p:nvPr/>
        </p:nvSpPr>
        <p:spPr>
          <a:xfrm>
            <a:off x="4305240" y="2732040"/>
            <a:ext cx="585720" cy="1398600"/>
          </a:xfrm>
          <a:custGeom>
            <a:avLst/>
            <a:gdLst/>
            <a:ahLst/>
            <a:rect l="l" t="t" r="r" b="b"/>
            <a:pathLst>
              <a:path w="1627" h="3886">
                <a:moveTo>
                  <a:pt x="656" y="3885"/>
                </a:moveTo>
                <a:cubicBezTo>
                  <a:pt x="0" y="3346"/>
                  <a:pt x="122" y="2505"/>
                  <a:pt x="193" y="1782"/>
                </a:cubicBezTo>
                <a:cubicBezTo>
                  <a:pt x="258" y="1118"/>
                  <a:pt x="1626" y="753"/>
                  <a:pt x="549" y="36"/>
                </a:cubicBezTo>
                <a:lnTo>
                  <a:pt x="407" y="0"/>
                </a:lnTo>
              </a:path>
            </a:pathLst>
          </a:custGeom>
          <a:noFill/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33" name=""/>
          <p:cNvSpPr/>
          <p:nvPr/>
        </p:nvSpPr>
        <p:spPr>
          <a:xfrm>
            <a:off x="1182600" y="6032520"/>
            <a:ext cx="8724960" cy="75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03680" bIns="0" anchor="t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はなの いいにおい </a:t>
            </a:r>
            <a:r>
              <a:rPr b="0" lang="ja-JP" sz="4800" spc="-1" strike="noStrike">
                <a:solidFill>
                  <a:srgbClr val="800000"/>
                </a:solidFill>
                <a:latin typeface="YOzFontNP04"/>
                <a:ea typeface="YOzFontNP04"/>
              </a:rPr>
              <a:t>が</a:t>
            </a:r>
            <a:r>
              <a:rPr b="0" lang="ja-JP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します。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34" name=""/>
          <p:cNvSpPr/>
          <p:nvPr/>
        </p:nvSpPr>
        <p:spPr>
          <a:xfrm>
            <a:off x="5870520" y="2706840"/>
            <a:ext cx="585720" cy="1398600"/>
          </a:xfrm>
          <a:custGeom>
            <a:avLst/>
            <a:gdLst/>
            <a:ahLst/>
            <a:rect l="l" t="t" r="r" b="b"/>
            <a:pathLst>
              <a:path w="1627" h="3886">
                <a:moveTo>
                  <a:pt x="656" y="3885"/>
                </a:moveTo>
                <a:cubicBezTo>
                  <a:pt x="0" y="3346"/>
                  <a:pt x="122" y="2505"/>
                  <a:pt x="193" y="1782"/>
                </a:cubicBezTo>
                <a:cubicBezTo>
                  <a:pt x="258" y="1118"/>
                  <a:pt x="1626" y="753"/>
                  <a:pt x="549" y="36"/>
                </a:cubicBezTo>
                <a:lnTo>
                  <a:pt x="407" y="0"/>
                </a:lnTo>
              </a:path>
            </a:pathLst>
          </a:custGeom>
          <a:noFill/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35" name=""/>
          <p:cNvSpPr/>
          <p:nvPr/>
        </p:nvSpPr>
        <p:spPr>
          <a:xfrm>
            <a:off x="6850080" y="3784680"/>
            <a:ext cx="2886120" cy="7048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6200" bIns="0" anchor="ctr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Bitstream Vera Serif"/>
                <a:ea typeface="YOzFontNP04"/>
              </a:rPr>
              <a:t>はな・いい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dur="indefinite" fill="hold">
                      <p:stCondLst>
                        <p:cond delay="indefinite"/>
                      </p:stCondLst>
                      <p:childTnLst>
                        <p:par>
                          <p:cTn id="8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451240" y="106200"/>
            <a:ext cx="4539960" cy="51879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3949560" y="3824280"/>
            <a:ext cx="2721240" cy="25686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3919680" y="2643120"/>
            <a:ext cx="585720" cy="1398600"/>
          </a:xfrm>
          <a:custGeom>
            <a:avLst/>
            <a:gdLst/>
            <a:ahLst/>
            <a:rect l="l" t="t" r="r" b="b"/>
            <a:pathLst>
              <a:path w="1627" h="3886">
                <a:moveTo>
                  <a:pt x="656" y="3885"/>
                </a:moveTo>
                <a:cubicBezTo>
                  <a:pt x="0" y="3346"/>
                  <a:pt x="122" y="2505"/>
                  <a:pt x="193" y="1782"/>
                </a:cubicBezTo>
                <a:cubicBezTo>
                  <a:pt x="258" y="1118"/>
                  <a:pt x="1626" y="753"/>
                  <a:pt x="549" y="36"/>
                </a:cubicBezTo>
                <a:lnTo>
                  <a:pt x="407" y="0"/>
                </a:lnTo>
              </a:path>
            </a:pathLst>
          </a:custGeom>
          <a:noFill/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39" name=""/>
          <p:cNvSpPr/>
          <p:nvPr/>
        </p:nvSpPr>
        <p:spPr>
          <a:xfrm>
            <a:off x="5060880" y="2617920"/>
            <a:ext cx="585720" cy="1398600"/>
          </a:xfrm>
          <a:custGeom>
            <a:avLst/>
            <a:gdLst/>
            <a:ahLst/>
            <a:rect l="l" t="t" r="r" b="b"/>
            <a:pathLst>
              <a:path w="1627" h="3886">
                <a:moveTo>
                  <a:pt x="656" y="3885"/>
                </a:moveTo>
                <a:cubicBezTo>
                  <a:pt x="0" y="3346"/>
                  <a:pt x="122" y="2505"/>
                  <a:pt x="193" y="1782"/>
                </a:cubicBezTo>
                <a:cubicBezTo>
                  <a:pt x="258" y="1118"/>
                  <a:pt x="1626" y="753"/>
                  <a:pt x="549" y="36"/>
                </a:cubicBezTo>
                <a:lnTo>
                  <a:pt x="407" y="0"/>
                </a:lnTo>
              </a:path>
            </a:pathLst>
          </a:custGeom>
          <a:noFill/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40" name=""/>
          <p:cNvSpPr/>
          <p:nvPr/>
        </p:nvSpPr>
        <p:spPr>
          <a:xfrm>
            <a:off x="615960" y="5902200"/>
            <a:ext cx="9275760" cy="1071720"/>
          </a:xfrm>
          <a:prstGeom prst="roundRect">
            <a:avLst>
              <a:gd name="adj" fmla="val 148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41" name=""/>
          <p:cNvSpPr/>
          <p:nvPr/>
        </p:nvSpPr>
        <p:spPr>
          <a:xfrm>
            <a:off x="455760" y="6006960"/>
            <a:ext cx="943596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03680" bIns="0" anchor="t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おいしそうな におい </a:t>
            </a:r>
            <a:r>
              <a:rPr b="0" lang="ja-JP" sz="4800" spc="-1" strike="noStrike">
                <a:solidFill>
                  <a:srgbClr val="800000"/>
                </a:solidFill>
                <a:latin typeface="YOzFontNP04"/>
                <a:ea typeface="YOzFontNP04"/>
              </a:rPr>
              <a:t>が</a:t>
            </a:r>
            <a:r>
              <a:rPr b="0" lang="ja-JP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します。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42" name=""/>
          <p:cNvSpPr/>
          <p:nvPr/>
        </p:nvSpPr>
        <p:spPr>
          <a:xfrm>
            <a:off x="5477040" y="3219480"/>
            <a:ext cx="2885760" cy="7048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6200" bIns="0" anchor="ctr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Bitstream Vera Serif"/>
                <a:ea typeface="YOzFontNP04"/>
              </a:rPr>
              <a:t>おいしい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dur="indefinite" fill="hold">
                      <p:stCondLst>
                        <p:cond delay="indefinite"/>
                      </p:stCondLst>
                      <p:childTnLst>
                        <p:par>
                          <p:cTn id="8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-12600" y="85680"/>
            <a:ext cx="10078920" cy="73692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119160" y="2036880"/>
            <a:ext cx="3147840" cy="766800"/>
          </a:xfrm>
          <a:prstGeom prst="roundRect">
            <a:avLst>
              <a:gd name="adj" fmla="val 204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8640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こえが します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45" name=""/>
          <p:cNvSpPr/>
          <p:nvPr/>
        </p:nvSpPr>
        <p:spPr>
          <a:xfrm>
            <a:off x="119160" y="3519360"/>
            <a:ext cx="3147840" cy="766800"/>
          </a:xfrm>
          <a:prstGeom prst="roundRect">
            <a:avLst>
              <a:gd name="adj" fmla="val 204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8640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おとが します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46" name=""/>
          <p:cNvSpPr/>
          <p:nvPr/>
        </p:nvSpPr>
        <p:spPr>
          <a:xfrm>
            <a:off x="7567560" y="2011320"/>
            <a:ext cx="2143080" cy="1428840"/>
          </a:xfrm>
          <a:prstGeom prst="roundRect">
            <a:avLst>
              <a:gd name="adj" fmla="val 111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8640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においが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します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47" name=""/>
          <p:cNvSpPr/>
          <p:nvPr/>
        </p:nvSpPr>
        <p:spPr>
          <a:xfrm>
            <a:off x="6561000" y="6284880"/>
            <a:ext cx="3148200" cy="766800"/>
          </a:xfrm>
          <a:prstGeom prst="roundRect">
            <a:avLst>
              <a:gd name="adj" fmla="val 204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8640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あじが します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48" name=""/>
          <p:cNvSpPr/>
          <p:nvPr/>
        </p:nvSpPr>
        <p:spPr>
          <a:xfrm>
            <a:off x="4379760" y="290520"/>
            <a:ext cx="3781440" cy="766800"/>
          </a:xfrm>
          <a:prstGeom prst="roundRect">
            <a:avLst>
              <a:gd name="adj" fmla="val 204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8640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かんじがします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119160" y="92160"/>
            <a:ext cx="5357880" cy="3929040"/>
          </a:xfrm>
          <a:prstGeom prst="roundRect">
            <a:avLst>
              <a:gd name="adj" fmla="val 4565"/>
            </a:avLst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216000" y="125280"/>
            <a:ext cx="4587840" cy="361800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671400" y="522360"/>
            <a:ext cx="1047960" cy="357120"/>
          </a:xfrm>
          <a:prstGeom prst="roundRect">
            <a:avLst>
              <a:gd name="adj" fmla="val 444"/>
            </a:avLst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6912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Kochi Mincho"/>
                <a:ea typeface="Kochi Mincho"/>
              </a:rPr>
              <a:t>あした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2911320" y="762120"/>
            <a:ext cx="1256040" cy="245268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741240" y="3889440"/>
            <a:ext cx="885960" cy="1388880"/>
          </a:xfrm>
          <a:prstGeom prst="line">
            <a:avLst/>
          </a:prstGeom>
          <a:ln w="108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3"/>
          <a:stretch/>
        </p:blipFill>
        <p:spPr>
          <a:xfrm>
            <a:off x="8543880" y="2590920"/>
            <a:ext cx="2336760" cy="710568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4"/>
          <a:stretch/>
        </p:blipFill>
        <p:spPr>
          <a:xfrm>
            <a:off x="1204920" y="4309920"/>
            <a:ext cx="2293920" cy="696600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5"/>
          <a:stretch/>
        </p:blipFill>
        <p:spPr>
          <a:xfrm>
            <a:off x="3614760" y="3281400"/>
            <a:ext cx="2158920" cy="654048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5734080" y="1501920"/>
            <a:ext cx="3117960" cy="3090600"/>
          </a:xfrm>
          <a:prstGeom prst="wedgeRoundRectCallout">
            <a:avLst>
              <a:gd name="adj1" fmla="val -68912"/>
              <a:gd name="adj2" fmla="val 33402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58" name=""/>
          <p:cNvSpPr/>
          <p:nvPr/>
        </p:nvSpPr>
        <p:spPr>
          <a:xfrm>
            <a:off x="6183360" y="2894040"/>
            <a:ext cx="355284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9504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あしたは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はれ</a:t>
            </a:r>
            <a:r>
              <a:rPr b="0" lang="ja-JP" sz="4400" spc="-1" strike="noStrike" u="sng">
                <a:solidFill>
                  <a:srgbClr val="000000"/>
                </a:solidFill>
                <a:uFillTx/>
                <a:latin typeface="YOzFontNP04"/>
                <a:ea typeface="YOzFontNP04"/>
              </a:rPr>
              <a:t>だ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 u="sng">
                <a:solidFill>
                  <a:srgbClr val="ff0000"/>
                </a:solidFill>
                <a:uFillTx/>
                <a:latin typeface="YOzFontNP04"/>
                <a:ea typeface="YOzFontNP04"/>
              </a:rPr>
              <a:t>そうです</a:t>
            </a: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59" name=""/>
          <p:cNvSpPr/>
          <p:nvPr/>
        </p:nvSpPr>
        <p:spPr>
          <a:xfrm>
            <a:off x="5213520" y="1411200"/>
            <a:ext cx="4754520" cy="1281240"/>
          </a:xfrm>
          <a:prstGeom prst="roundRect">
            <a:avLst>
              <a:gd name="adj" fmla="val 14019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60" name=""/>
          <p:cNvSpPr/>
          <p:nvPr/>
        </p:nvSpPr>
        <p:spPr>
          <a:xfrm>
            <a:off x="5361120" y="1581120"/>
            <a:ext cx="4338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86400" bIns="0" anchor="t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てんきよほう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ff0000"/>
                </a:solidFill>
                <a:latin typeface="YOzFontNP04"/>
                <a:ea typeface="YOzFontNP04"/>
              </a:rPr>
              <a:t>によれば </a:t>
            </a:r>
            <a:r>
              <a:rPr b="0" lang="en-US" sz="4000" spc="-1" strike="noStrike">
                <a:solidFill>
                  <a:srgbClr val="ff0000"/>
                </a:solidFill>
                <a:latin typeface="YOzFontNP04"/>
                <a:ea typeface="YOzFontNP04"/>
              </a:rPr>
              <a:t>/ </a:t>
            </a:r>
            <a:r>
              <a:rPr b="0" lang="ja-JP" sz="4000" spc="-1" strike="noStrike">
                <a:solidFill>
                  <a:srgbClr val="ff0000"/>
                </a:solidFill>
                <a:latin typeface="YOzFontNP04"/>
                <a:ea typeface="YOzFontNP04"/>
              </a:rPr>
              <a:t>よると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61" name=""/>
          <p:cNvSpPr/>
          <p:nvPr/>
        </p:nvSpPr>
        <p:spPr>
          <a:xfrm>
            <a:off x="577800" y="2523960"/>
            <a:ext cx="3786120" cy="757440"/>
          </a:xfrm>
          <a:prstGeom prst="roundRect">
            <a:avLst>
              <a:gd name="adj" fmla="val 23736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62" name=""/>
          <p:cNvSpPr/>
          <p:nvPr/>
        </p:nvSpPr>
        <p:spPr>
          <a:xfrm>
            <a:off x="525600" y="2616120"/>
            <a:ext cx="426384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9504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あしたは はれ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dur="indefinite" fill="hold">
                      <p:stCondLst>
                        <p:cond delay="indefinite"/>
                      </p:stCondLst>
                      <p:childTnLst>
                        <p:par>
                          <p:cTn id="9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dur="indefinite" fill="hold">
                      <p:stCondLst>
                        <p:cond delay="indefinite"/>
                      </p:stCondLst>
                      <p:childTnLst>
                        <p:par>
                          <p:cTn id="10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119160" y="92160"/>
            <a:ext cx="5357880" cy="3929040"/>
          </a:xfrm>
          <a:prstGeom prst="roundRect">
            <a:avLst>
              <a:gd name="adj" fmla="val 4565"/>
            </a:avLst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216000" y="125280"/>
            <a:ext cx="4587840" cy="361800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671400" y="522360"/>
            <a:ext cx="1047960" cy="357120"/>
          </a:xfrm>
          <a:prstGeom prst="roundRect">
            <a:avLst>
              <a:gd name="adj" fmla="val 444"/>
            </a:avLst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6912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Kochi Mincho"/>
                <a:ea typeface="Kochi Mincho"/>
              </a:rPr>
              <a:t>あした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2911320" y="762120"/>
            <a:ext cx="1256040" cy="245268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741240" y="3889440"/>
            <a:ext cx="885960" cy="1388880"/>
          </a:xfrm>
          <a:prstGeom prst="line">
            <a:avLst/>
          </a:prstGeom>
          <a:ln w="108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3"/>
          <a:stretch/>
        </p:blipFill>
        <p:spPr>
          <a:xfrm>
            <a:off x="8543880" y="2590920"/>
            <a:ext cx="2336760" cy="710568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4"/>
          <a:stretch/>
        </p:blipFill>
        <p:spPr>
          <a:xfrm>
            <a:off x="1204920" y="4309920"/>
            <a:ext cx="2293920" cy="696600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5"/>
          <a:stretch/>
        </p:blipFill>
        <p:spPr>
          <a:xfrm>
            <a:off x="3614760" y="3281400"/>
            <a:ext cx="2158920" cy="654048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5734080" y="1501920"/>
            <a:ext cx="3117960" cy="3090600"/>
          </a:xfrm>
          <a:prstGeom prst="wedgeRoundRectCallout">
            <a:avLst>
              <a:gd name="adj1" fmla="val -68912"/>
              <a:gd name="adj2" fmla="val 33402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72" name=""/>
          <p:cNvSpPr/>
          <p:nvPr/>
        </p:nvSpPr>
        <p:spPr>
          <a:xfrm>
            <a:off x="6183360" y="2894040"/>
            <a:ext cx="355284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9504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あしたは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あたたかい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 u="sng">
                <a:solidFill>
                  <a:srgbClr val="ff0000"/>
                </a:solidFill>
                <a:uFillTx/>
                <a:latin typeface="YOzFontNP04"/>
                <a:ea typeface="YOzFontNP04"/>
              </a:rPr>
              <a:t>そうです</a:t>
            </a: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73" name=""/>
          <p:cNvSpPr/>
          <p:nvPr/>
        </p:nvSpPr>
        <p:spPr>
          <a:xfrm>
            <a:off x="5213520" y="1461960"/>
            <a:ext cx="4754520" cy="1230480"/>
          </a:xfrm>
          <a:prstGeom prst="roundRect">
            <a:avLst>
              <a:gd name="adj" fmla="val 14597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74" name=""/>
          <p:cNvSpPr/>
          <p:nvPr/>
        </p:nvSpPr>
        <p:spPr>
          <a:xfrm>
            <a:off x="5386320" y="1554120"/>
            <a:ext cx="4338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86400" bIns="0" anchor="t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てんきよほう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ff0000"/>
                </a:solidFill>
                <a:latin typeface="YOzFontNP04"/>
                <a:ea typeface="YOzFontNP04"/>
              </a:rPr>
              <a:t>によれば </a:t>
            </a:r>
            <a:r>
              <a:rPr b="0" lang="en-US" sz="4000" spc="-1" strike="noStrike">
                <a:solidFill>
                  <a:srgbClr val="ff0000"/>
                </a:solidFill>
                <a:latin typeface="YOzFontNP04"/>
                <a:ea typeface="YOzFontNP04"/>
              </a:rPr>
              <a:t>/ </a:t>
            </a:r>
            <a:r>
              <a:rPr b="0" lang="ja-JP" sz="4000" spc="-1" strike="noStrike">
                <a:solidFill>
                  <a:srgbClr val="ff0000"/>
                </a:solidFill>
                <a:latin typeface="YOzFontNP04"/>
                <a:ea typeface="YOzFontNP04"/>
              </a:rPr>
              <a:t>よると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75" name=""/>
          <p:cNvSpPr/>
          <p:nvPr/>
        </p:nvSpPr>
        <p:spPr>
          <a:xfrm>
            <a:off x="577800" y="2523960"/>
            <a:ext cx="3192480" cy="782640"/>
          </a:xfrm>
          <a:prstGeom prst="roundRect">
            <a:avLst>
              <a:gd name="adj" fmla="val 22963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76" name=""/>
          <p:cNvSpPr/>
          <p:nvPr/>
        </p:nvSpPr>
        <p:spPr>
          <a:xfrm>
            <a:off x="692280" y="2616120"/>
            <a:ext cx="297648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9504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あたたかい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dur="indefinite" fill="hold">
                      <p:stCondLst>
                        <p:cond delay="indefinite"/>
                      </p:stCondLst>
                      <p:childTnLst>
                        <p:par>
                          <p:cTn id="10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dur="indefinite" fill="hold">
                      <p:stCondLst>
                        <p:cond delay="indefinite"/>
                      </p:stCondLst>
                      <p:childTnLst>
                        <p:par>
                          <p:cTn id="1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358920" y="90360"/>
            <a:ext cx="3786120" cy="2421000"/>
          </a:xfrm>
          <a:prstGeom prst="wedgeRoundRectCallout">
            <a:avLst>
              <a:gd name="adj1" fmla="val 4203"/>
              <a:gd name="adj2" fmla="val 91384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78" name=""/>
          <p:cNvSpPr/>
          <p:nvPr/>
        </p:nvSpPr>
        <p:spPr>
          <a:xfrm>
            <a:off x="436680" y="422280"/>
            <a:ext cx="335268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9504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やまださんは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けっこんした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 u="sng">
                <a:solidFill>
                  <a:srgbClr val="ff0000"/>
                </a:solidFill>
                <a:uFillTx/>
                <a:latin typeface="YOzFontNP04"/>
                <a:ea typeface="YOzFontNP04"/>
              </a:rPr>
              <a:t>そうです</a:t>
            </a: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79" name=""/>
          <p:cNvSpPr/>
          <p:nvPr/>
        </p:nvSpPr>
        <p:spPr>
          <a:xfrm>
            <a:off x="4854600" y="1481040"/>
            <a:ext cx="142380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6048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YOzFontNP04"/>
                <a:ea typeface="YOzFontNP04"/>
              </a:rPr>
              <a:t>山田さん</a:t>
            </a:r>
            <a:endParaRPr b="0" lang="en-US" sz="28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dur="indefinite" fill="hold">
                      <p:stCondLst>
                        <p:cond delay="indefinite"/>
                      </p:stCondLst>
                      <p:childTnLst>
                        <p:par>
                          <p:cTn id="11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-12600" y="85680"/>
            <a:ext cx="10078920" cy="736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68200" y="1244520"/>
            <a:ext cx="3324240" cy="100951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 flipH="1">
            <a:off x="3357720" y="2527200"/>
            <a:ext cx="4093920" cy="106560"/>
          </a:xfrm>
          <a:prstGeom prst="line">
            <a:avLst/>
          </a:prstGeom>
          <a:ln w="72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49" name=""/>
          <p:cNvSpPr/>
          <p:nvPr/>
        </p:nvSpPr>
        <p:spPr>
          <a:xfrm>
            <a:off x="1058760" y="5978520"/>
            <a:ext cx="8612280" cy="1071720"/>
          </a:xfrm>
          <a:prstGeom prst="roundRect">
            <a:avLst>
              <a:gd name="adj" fmla="val 148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0368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車</a:t>
            </a:r>
            <a:r>
              <a:rPr b="0" lang="ja-JP" sz="4800" spc="-1" strike="noStrike">
                <a:solidFill>
                  <a:srgbClr val="800000"/>
                </a:solidFill>
                <a:latin typeface="YOzFontNP04"/>
                <a:ea typeface="YOzFontNP04"/>
              </a:rPr>
              <a:t>の </a:t>
            </a:r>
            <a:r>
              <a:rPr b="0" lang="ja-JP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おと</a:t>
            </a:r>
            <a:r>
              <a:rPr b="0" lang="ja-JP" sz="4800" spc="-1" strike="noStrike">
                <a:solidFill>
                  <a:srgbClr val="800000"/>
                </a:solidFill>
                <a:latin typeface="YOzFontNP04"/>
                <a:ea typeface="YOzFontNP04"/>
              </a:rPr>
              <a:t>が</a:t>
            </a:r>
            <a:r>
              <a:rPr b="0" lang="ja-JP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します。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7143840" y="1765440"/>
            <a:ext cx="2644560" cy="17143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4979880" y="1725480"/>
            <a:ext cx="438120" cy="676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3438360" y="77760"/>
            <a:ext cx="6307200" cy="1974960"/>
          </a:xfrm>
          <a:prstGeom prst="wedgeRoundRectCallout">
            <a:avLst>
              <a:gd name="adj1" fmla="val -34361"/>
              <a:gd name="adj2" fmla="val 72046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82" name=""/>
          <p:cNvSpPr/>
          <p:nvPr/>
        </p:nvSpPr>
        <p:spPr>
          <a:xfrm>
            <a:off x="3745080" y="644400"/>
            <a:ext cx="62100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03680" bIns="0" anchor="t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(</a:t>
            </a:r>
            <a:r>
              <a:rPr b="0" lang="ja-JP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どうも</a:t>
            </a:r>
            <a:r>
              <a:rPr b="0" lang="en-US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)</a:t>
            </a:r>
            <a:r>
              <a:rPr b="0" lang="ja-JP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るす</a:t>
            </a:r>
            <a:r>
              <a:rPr b="0" lang="ja-JP" sz="4800" spc="-1" strike="noStrike">
                <a:solidFill>
                  <a:srgbClr val="800000"/>
                </a:solidFill>
                <a:latin typeface="YOzFontNP04"/>
                <a:ea typeface="YOzFontNP04"/>
              </a:rPr>
              <a:t>の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ff0000"/>
                </a:solidFill>
                <a:latin typeface="YOzFontNP04"/>
                <a:ea typeface="YOzFontNP04"/>
              </a:rPr>
              <a:t>ようです</a:t>
            </a:r>
            <a:r>
              <a:rPr b="0" lang="ja-JP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dur="indefinite" fill="hold">
                      <p:stCondLst>
                        <p:cond delay="indefinite"/>
                      </p:stCondLst>
                      <p:childTnLst>
                        <p:par>
                          <p:cTn id="12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3605040" y="77760"/>
            <a:ext cx="6142320" cy="1974960"/>
          </a:xfrm>
          <a:prstGeom prst="wedgeRoundRectCallout">
            <a:avLst>
              <a:gd name="adj1" fmla="val -36629"/>
              <a:gd name="adj2" fmla="val 72064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84" name=""/>
          <p:cNvSpPr/>
          <p:nvPr/>
        </p:nvSpPr>
        <p:spPr>
          <a:xfrm>
            <a:off x="3830760" y="503280"/>
            <a:ext cx="67579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03680" bIns="0" anchor="t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(</a:t>
            </a:r>
            <a:r>
              <a:rPr b="0" lang="ja-JP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どうも</a:t>
            </a:r>
            <a:r>
              <a:rPr b="0" lang="en-US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)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でかけた</a:t>
            </a:r>
            <a:r>
              <a:rPr b="0" lang="ja-JP" sz="4800" spc="-1" strike="noStrike">
                <a:solidFill>
                  <a:srgbClr val="ff0000"/>
                </a:solidFill>
                <a:latin typeface="YOzFontNP04"/>
                <a:ea typeface="YOzFontNP04"/>
              </a:rPr>
              <a:t>ようです</a:t>
            </a:r>
            <a:r>
              <a:rPr b="0" lang="ja-JP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dur="indefinite" fill="hold">
                      <p:stCondLst>
                        <p:cond delay="indefinite"/>
                      </p:stCondLst>
                      <p:childTnLst>
                        <p:par>
                          <p:cTn id="13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5" name=""/>
          <p:cNvGrpSpPr/>
          <p:nvPr/>
        </p:nvGrpSpPr>
        <p:grpSpPr>
          <a:xfrm>
            <a:off x="-1020960" y="71280"/>
            <a:ext cx="11812320" cy="7410600"/>
            <a:chOff x="-1020960" y="71280"/>
            <a:chExt cx="11812320" cy="7410600"/>
          </a:xfrm>
        </p:grpSpPr>
        <p:sp>
          <p:nvSpPr>
            <p:cNvPr id="186" name=""/>
            <p:cNvSpPr/>
            <p:nvPr/>
          </p:nvSpPr>
          <p:spPr>
            <a:xfrm>
              <a:off x="8420400" y="71280"/>
              <a:ext cx="66240" cy="5159520"/>
            </a:xfrm>
            <a:prstGeom prst="line">
              <a:avLst/>
            </a:prstGeom>
            <a:ln w="72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8489880" y="5276880"/>
              <a:ext cx="2301480" cy="2205000"/>
            </a:xfrm>
            <a:prstGeom prst="line">
              <a:avLst/>
            </a:prstGeom>
            <a:ln w="72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>
              <a:off x="-1020960" y="5330880"/>
              <a:ext cx="9566280" cy="0"/>
            </a:xfrm>
            <a:prstGeom prst="line">
              <a:avLst/>
            </a:prstGeom>
            <a:ln w="72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</p:grp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0" y="2733840"/>
            <a:ext cx="7854840" cy="362088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639720" y="3051000"/>
            <a:ext cx="920880" cy="190188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3"/>
          <a:stretch/>
        </p:blipFill>
        <p:spPr>
          <a:xfrm>
            <a:off x="763560" y="2268360"/>
            <a:ext cx="6015240" cy="282600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8647200" y="0"/>
            <a:ext cx="1171440" cy="13622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9097920" y="1504800"/>
            <a:ext cx="876240" cy="136224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6683400" y="1257480"/>
            <a:ext cx="2297160" cy="860400"/>
          </a:xfrm>
          <a:prstGeom prst="wedgeRoundRectCallout">
            <a:avLst>
              <a:gd name="adj1" fmla="val 68430"/>
              <a:gd name="adj2" fmla="val 79800"/>
              <a:gd name="adj3" fmla="val 16667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77760" bIns="0" anchor="ctr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YOzFontNP04"/>
                <a:ea typeface="YOzFontNP04"/>
              </a:rPr>
              <a:t>かんぱい！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95" name=""/>
          <p:cNvSpPr/>
          <p:nvPr/>
        </p:nvSpPr>
        <p:spPr>
          <a:xfrm>
            <a:off x="-257040" y="-474840"/>
            <a:ext cx="8377200" cy="2463840"/>
          </a:xfrm>
          <a:prstGeom prst="cloudCallout">
            <a:avLst>
              <a:gd name="adj1" fmla="val -24731"/>
              <a:gd name="adj2" fmla="val 77060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96" name=""/>
          <p:cNvSpPr/>
          <p:nvPr/>
        </p:nvSpPr>
        <p:spPr>
          <a:xfrm>
            <a:off x="333360" y="236520"/>
            <a:ext cx="76201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.OzN_'04"/>
                <a:ea typeface="Y.OzN_'04"/>
              </a:rPr>
              <a:t>パーティーを している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 u="sng">
                <a:solidFill>
                  <a:srgbClr val="ff0000"/>
                </a:solidFill>
                <a:uFillTx/>
                <a:latin typeface="Y.OzN_'04"/>
                <a:ea typeface="Y.OzN_'04"/>
              </a:rPr>
              <a:t>ようです</a:t>
            </a:r>
            <a:r>
              <a:rPr b="0" lang="ja-JP" sz="4800" spc="-1" strike="noStrike">
                <a:solidFill>
                  <a:srgbClr val="000000"/>
                </a:solidFill>
                <a:latin typeface="Y.OzN_'04"/>
                <a:ea typeface="Y.OzN_'04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dur="indefinite" fill="hold">
                      <p:stCondLst>
                        <p:cond delay="indefinite"/>
                      </p:stCondLst>
                      <p:childTnLst>
                        <p:par>
                          <p:cTn id="14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7" name=""/>
          <p:cNvGrpSpPr/>
          <p:nvPr/>
        </p:nvGrpSpPr>
        <p:grpSpPr>
          <a:xfrm>
            <a:off x="-1020960" y="71280"/>
            <a:ext cx="11812320" cy="7410600"/>
            <a:chOff x="-1020960" y="71280"/>
            <a:chExt cx="11812320" cy="7410600"/>
          </a:xfrm>
        </p:grpSpPr>
        <p:sp>
          <p:nvSpPr>
            <p:cNvPr id="198" name=""/>
            <p:cNvSpPr/>
            <p:nvPr/>
          </p:nvSpPr>
          <p:spPr>
            <a:xfrm>
              <a:off x="8420400" y="71280"/>
              <a:ext cx="66240" cy="5159520"/>
            </a:xfrm>
            <a:prstGeom prst="line">
              <a:avLst/>
            </a:prstGeom>
            <a:ln w="72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8489880" y="5276880"/>
              <a:ext cx="2301480" cy="2205000"/>
            </a:xfrm>
            <a:prstGeom prst="line">
              <a:avLst/>
            </a:prstGeom>
            <a:ln w="72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-1020960" y="5330880"/>
              <a:ext cx="9566280" cy="0"/>
            </a:xfrm>
            <a:prstGeom prst="line">
              <a:avLst/>
            </a:prstGeom>
            <a:ln w="72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</p:grp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0" y="2733840"/>
            <a:ext cx="7854840" cy="362088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639720" y="3051000"/>
            <a:ext cx="920880" cy="190188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738360" y="2268360"/>
            <a:ext cx="6014880" cy="282600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90360" y="-565200"/>
            <a:ext cx="8377200" cy="2463840"/>
          </a:xfrm>
          <a:prstGeom prst="cloudCallout">
            <a:avLst>
              <a:gd name="adj1" fmla="val -24731"/>
              <a:gd name="adj2" fmla="val 77060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05" name=""/>
          <p:cNvSpPr/>
          <p:nvPr/>
        </p:nvSpPr>
        <p:spPr>
          <a:xfrm>
            <a:off x="1077840" y="0"/>
            <a:ext cx="676116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.OzN_'04"/>
                <a:ea typeface="Y.OzN_'04"/>
              </a:rPr>
              <a:t>パーティーが おわった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 u="sng">
                <a:solidFill>
                  <a:srgbClr val="ff0000"/>
                </a:solidFill>
                <a:uFillTx/>
                <a:latin typeface="Y.OzN_'04"/>
                <a:ea typeface="Y.OzN_'04"/>
              </a:rPr>
              <a:t>ようです</a:t>
            </a:r>
            <a:r>
              <a:rPr b="0" lang="ja-JP" sz="4800" spc="-1" strike="noStrike">
                <a:solidFill>
                  <a:srgbClr val="000000"/>
                </a:solidFill>
                <a:latin typeface="Y.OzN_'04"/>
                <a:ea typeface="Y.OzN_'04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dur="indefinite" fill="hold">
                      <p:stCondLst>
                        <p:cond delay="indefinite"/>
                      </p:stCondLst>
                      <p:childTnLst>
                        <p:par>
                          <p:cTn id="14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-550800" y="5661000"/>
            <a:ext cx="11160000" cy="2463840"/>
          </a:xfrm>
          <a:prstGeom prst="cloudCallout">
            <a:avLst>
              <a:gd name="adj1" fmla="val 16782"/>
              <a:gd name="adj2" fmla="val -94435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07" name=""/>
          <p:cNvSpPr/>
          <p:nvPr/>
        </p:nvSpPr>
        <p:spPr>
          <a:xfrm>
            <a:off x="700200" y="6186600"/>
            <a:ext cx="878688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03680" bIns="0" anchor="t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こどもが しかられている</a:t>
            </a:r>
            <a:r>
              <a:rPr b="0" lang="ja-JP" sz="4800" spc="-1" strike="noStrike">
                <a:solidFill>
                  <a:srgbClr val="ff0000"/>
                </a:solidFill>
                <a:latin typeface="YOzFontNP04"/>
                <a:ea typeface="YOzFontNP04"/>
              </a:rPr>
              <a:t>ようです</a:t>
            </a:r>
            <a:r>
              <a:rPr b="0" lang="ja-JP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dur="indefinite" fill="hold">
                      <p:stCondLst>
                        <p:cond delay="indefinite"/>
                      </p:stCondLst>
                      <p:childTnLst>
                        <p:par>
                          <p:cTn id="15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-263520" y="73080"/>
            <a:ext cx="10078920" cy="736920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376200" y="5979960"/>
            <a:ext cx="9294840" cy="1071720"/>
          </a:xfrm>
          <a:prstGeom prst="roundRect">
            <a:avLst>
              <a:gd name="adj" fmla="val 148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10" name=""/>
          <p:cNvSpPr/>
          <p:nvPr/>
        </p:nvSpPr>
        <p:spPr>
          <a:xfrm>
            <a:off x="596880" y="6262560"/>
            <a:ext cx="89503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03680" bIns="0" anchor="t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どろぼう</a:t>
            </a:r>
            <a:r>
              <a:rPr b="0" lang="ja-JP" sz="4800" spc="-1" strike="noStrike">
                <a:solidFill>
                  <a:srgbClr val="800000"/>
                </a:solidFill>
                <a:latin typeface="YOzFontNP04"/>
                <a:ea typeface="YOzFontNP04"/>
              </a:rPr>
              <a:t>が </a:t>
            </a:r>
            <a:r>
              <a:rPr b="0" lang="ja-JP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はいった</a:t>
            </a:r>
            <a:r>
              <a:rPr b="0" lang="ja-JP" sz="4800" spc="-1" strike="noStrike">
                <a:solidFill>
                  <a:srgbClr val="ff0000"/>
                </a:solidFill>
                <a:latin typeface="YOzFontNP04"/>
                <a:ea typeface="YOzFontNP04"/>
              </a:rPr>
              <a:t>ようです</a:t>
            </a:r>
            <a:r>
              <a:rPr b="0" lang="ja-JP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dur="indefinite" fill="hold">
                      <p:stCondLst>
                        <p:cond delay="indefinite"/>
                      </p:stCondLst>
                      <p:childTnLst>
                        <p:par>
                          <p:cTn id="16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146160" y="384120"/>
            <a:ext cx="2369880" cy="511344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3699000" y="2890800"/>
            <a:ext cx="2817720" cy="566892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3862440" y="-141120"/>
            <a:ext cx="6218280" cy="3579480"/>
          </a:xfrm>
          <a:prstGeom prst="cloudCallout">
            <a:avLst>
              <a:gd name="adj1" fmla="val -25467"/>
              <a:gd name="adj2" fmla="val 61444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14" name=""/>
          <p:cNvSpPr/>
          <p:nvPr/>
        </p:nvSpPr>
        <p:spPr>
          <a:xfrm>
            <a:off x="4237200" y="836640"/>
            <a:ext cx="61210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03680" bIns="0" anchor="t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せいせき</a:t>
            </a:r>
            <a:r>
              <a:rPr b="0" lang="ja-JP" sz="4800" spc="-1" strike="noStrike">
                <a:solidFill>
                  <a:srgbClr val="800000"/>
                </a:solidFill>
                <a:latin typeface="YOzFontNP04"/>
                <a:ea typeface="YOzFontNP04"/>
              </a:rPr>
              <a:t>が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わるかった</a:t>
            </a:r>
            <a:r>
              <a:rPr b="0" lang="ja-JP" sz="4800" spc="-1" strike="noStrike">
                <a:solidFill>
                  <a:srgbClr val="ff0000"/>
                </a:solidFill>
                <a:latin typeface="YOzFontNP04"/>
                <a:ea typeface="YOzFontNP04"/>
              </a:rPr>
              <a:t>ようです</a:t>
            </a:r>
            <a:r>
              <a:rPr b="0" lang="ja-JP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dur="indefinite" fill="hold">
                      <p:stCondLst>
                        <p:cond delay="indefinite"/>
                      </p:stCondLst>
                      <p:childTnLst>
                        <p:par>
                          <p:cTn id="16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5" name=""/>
          <p:cNvGrpSpPr/>
          <p:nvPr/>
        </p:nvGrpSpPr>
        <p:grpSpPr>
          <a:xfrm>
            <a:off x="665280" y="5986440"/>
            <a:ext cx="8777160" cy="1327320"/>
            <a:chOff x="665280" y="5986440"/>
            <a:chExt cx="8777160" cy="1327320"/>
          </a:xfrm>
        </p:grpSpPr>
        <p:sp>
          <p:nvSpPr>
            <p:cNvPr id="216" name=""/>
            <p:cNvSpPr/>
            <p:nvPr/>
          </p:nvSpPr>
          <p:spPr>
            <a:xfrm>
              <a:off x="665280" y="5986440"/>
              <a:ext cx="8777160" cy="1327320"/>
            </a:xfrm>
            <a:prstGeom prst="roundRect">
              <a:avLst>
                <a:gd name="adj" fmla="val 116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29600" bIns="0" anchor="ctr" anchorCtr="1">
              <a:noAutofit/>
            </a:bodyPr>
            <a:p>
              <a:pPr algn="ctr">
                <a:lnSpc>
                  <a:spcPct val="8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6000" spc="-1" strike="noStrike">
                  <a:solidFill>
                    <a:srgbClr val="000000"/>
                  </a:solidFill>
                  <a:latin typeface="YOzFontNP04"/>
                  <a:ea typeface="YOzFontNP04"/>
                </a:rPr>
                <a:t>パン</a:t>
              </a:r>
              <a:r>
                <a:rPr b="0" lang="ja-JP" sz="6000" spc="-1" strike="noStrike">
                  <a:solidFill>
                    <a:srgbClr val="800000"/>
                  </a:solidFill>
                  <a:latin typeface="YOzFontNP04"/>
                  <a:ea typeface="YOzFontNP04"/>
                </a:rPr>
                <a:t>の</a:t>
              </a:r>
              <a:r>
                <a:rPr b="0" lang="ja-JP" sz="6000" spc="-1" strike="noStrike">
                  <a:solidFill>
                    <a:srgbClr val="ff0000"/>
                  </a:solidFill>
                  <a:latin typeface="YOzFontNP04"/>
                  <a:ea typeface="YOzFontNP04"/>
                </a:rPr>
                <a:t>ようです</a:t>
              </a:r>
              <a:r>
                <a:rPr b="0" lang="ja-JP" sz="6000" spc="-1" strike="noStrike">
                  <a:solidFill>
                    <a:srgbClr val="000000"/>
                  </a:solidFill>
                  <a:latin typeface="YOzFontNP04"/>
                  <a:ea typeface="YOzFontNP04"/>
                </a:rPr>
                <a:t>。</a:t>
              </a:r>
              <a:endParaRPr b="0" lang="en-US" sz="60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</p:grpSp>
      <p:sp>
        <p:nvSpPr>
          <p:cNvPr id="217" name=""/>
          <p:cNvSpPr/>
          <p:nvPr/>
        </p:nvSpPr>
        <p:spPr>
          <a:xfrm flipV="1">
            <a:off x="2448000" y="3039840"/>
            <a:ext cx="2671560" cy="1315800"/>
          </a:xfrm>
          <a:prstGeom prst="line">
            <a:avLst/>
          </a:prstGeom>
          <a:ln w="72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dur="indefinite" fill="hold">
                      <p:stCondLst>
                        <p:cond delay="indefinite"/>
                      </p:stCondLst>
                      <p:childTnLst>
                        <p:par>
                          <p:cTn id="17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8" name=""/>
          <p:cNvGrpSpPr/>
          <p:nvPr/>
        </p:nvGrpSpPr>
        <p:grpSpPr>
          <a:xfrm>
            <a:off x="146160" y="5986440"/>
            <a:ext cx="9851760" cy="1327320"/>
            <a:chOff x="146160" y="5986440"/>
            <a:chExt cx="9851760" cy="1327320"/>
          </a:xfrm>
        </p:grpSpPr>
        <p:sp>
          <p:nvSpPr>
            <p:cNvPr id="219" name=""/>
            <p:cNvSpPr/>
            <p:nvPr/>
          </p:nvSpPr>
          <p:spPr>
            <a:xfrm>
              <a:off x="146160" y="5986440"/>
              <a:ext cx="9851760" cy="1327320"/>
            </a:xfrm>
            <a:prstGeom prst="roundRect">
              <a:avLst>
                <a:gd name="adj" fmla="val 116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29600" bIns="0" anchor="ctr" anchorCtr="1">
              <a:noAutofit/>
            </a:bodyPr>
            <a:p>
              <a:pPr algn="ctr">
                <a:lnSpc>
                  <a:spcPct val="8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6000" spc="-1" strike="noStrike">
                  <a:solidFill>
                    <a:srgbClr val="000000"/>
                  </a:solidFill>
                  <a:latin typeface="YOzFontNP04"/>
                  <a:ea typeface="YOzFontNP04"/>
                </a:rPr>
                <a:t>パン</a:t>
              </a:r>
              <a:r>
                <a:rPr b="0" lang="ja-JP" sz="6000" spc="-1" strike="noStrike">
                  <a:solidFill>
                    <a:srgbClr val="800000"/>
                  </a:solidFill>
                  <a:latin typeface="YOzFontNP04"/>
                  <a:ea typeface="YOzFontNP04"/>
                </a:rPr>
                <a:t>の</a:t>
              </a:r>
              <a:r>
                <a:rPr b="0" lang="ja-JP" sz="6000" spc="-1" strike="noStrike">
                  <a:solidFill>
                    <a:srgbClr val="ff0000"/>
                  </a:solidFill>
                  <a:latin typeface="YOzFontNP04"/>
                  <a:ea typeface="YOzFontNP04"/>
                </a:rPr>
                <a:t>ような</a:t>
              </a:r>
              <a:r>
                <a:rPr b="0" lang="ja-JP" sz="6000" spc="-1" strike="noStrike">
                  <a:solidFill>
                    <a:srgbClr val="000000"/>
                  </a:solidFill>
                  <a:latin typeface="YOzFontNP04"/>
                  <a:ea typeface="YOzFontNP04"/>
                </a:rPr>
                <a:t>くもです。</a:t>
              </a:r>
              <a:endParaRPr b="0" lang="en-US" sz="60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</p:grpSp>
      <p:sp>
        <p:nvSpPr>
          <p:cNvPr id="220" name=""/>
          <p:cNvSpPr/>
          <p:nvPr/>
        </p:nvSpPr>
        <p:spPr>
          <a:xfrm flipV="1">
            <a:off x="2448000" y="3039840"/>
            <a:ext cx="2671560" cy="1315800"/>
          </a:xfrm>
          <a:prstGeom prst="line">
            <a:avLst/>
          </a:prstGeom>
          <a:ln w="72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dur="indefinite" fill="hold">
                      <p:stCondLst>
                        <p:cond delay="indefinite"/>
                      </p:stCondLst>
                      <p:childTnLst>
                        <p:par>
                          <p:cTn id="18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 flipH="1">
            <a:off x="3305160" y="2658960"/>
            <a:ext cx="1487520" cy="766800"/>
          </a:xfrm>
          <a:prstGeom prst="line">
            <a:avLst/>
          </a:prstGeom>
          <a:ln w="72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22" name=""/>
          <p:cNvSpPr/>
          <p:nvPr/>
        </p:nvSpPr>
        <p:spPr>
          <a:xfrm>
            <a:off x="7210440" y="979560"/>
            <a:ext cx="2790720" cy="753840"/>
          </a:xfrm>
          <a:prstGeom prst="roundRect">
            <a:avLst>
              <a:gd name="adj" fmla="val 208"/>
            </a:avLst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Y.OzN_'04"/>
                <a:ea typeface="Y.OzN_'04"/>
              </a:rPr>
              <a:t>にんぎょう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Y.OzN_'04"/>
                <a:ea typeface="Y.OzN_'04"/>
              </a:rPr>
              <a:t>(poupée)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665280" y="5986440"/>
            <a:ext cx="8777160" cy="1327320"/>
            <a:chOff x="665280" y="5986440"/>
            <a:chExt cx="8777160" cy="1327320"/>
          </a:xfrm>
        </p:grpSpPr>
        <p:sp>
          <p:nvSpPr>
            <p:cNvPr id="224" name=""/>
            <p:cNvSpPr/>
            <p:nvPr/>
          </p:nvSpPr>
          <p:spPr>
            <a:xfrm>
              <a:off x="665280" y="5986440"/>
              <a:ext cx="8777160" cy="1327320"/>
            </a:xfrm>
            <a:prstGeom prst="roundRect">
              <a:avLst>
                <a:gd name="adj" fmla="val 116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29600" bIns="0" anchor="ctr" anchorCtr="1">
              <a:noAutofit/>
            </a:bodyPr>
            <a:p>
              <a:pPr algn="ctr">
                <a:lnSpc>
                  <a:spcPct val="8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6000" spc="-1" strike="noStrike">
                  <a:solidFill>
                    <a:srgbClr val="000000"/>
                  </a:solidFill>
                  <a:latin typeface="YOzFontNP04"/>
                  <a:ea typeface="YOzFontNP04"/>
                </a:rPr>
                <a:t>にんぎょう</a:t>
              </a:r>
              <a:r>
                <a:rPr b="0" lang="ja-JP" sz="6000" spc="-1" strike="noStrike">
                  <a:solidFill>
                    <a:srgbClr val="800000"/>
                  </a:solidFill>
                  <a:latin typeface="YOzFontNP04"/>
                  <a:ea typeface="YOzFontNP04"/>
                </a:rPr>
                <a:t>の</a:t>
              </a:r>
              <a:r>
                <a:rPr b="0" lang="ja-JP" sz="6000" spc="-1" strike="noStrike">
                  <a:solidFill>
                    <a:srgbClr val="ff0000"/>
                  </a:solidFill>
                  <a:latin typeface="YOzFontNP04"/>
                  <a:ea typeface="YOzFontNP04"/>
                </a:rPr>
                <a:t>ようです</a:t>
              </a:r>
              <a:r>
                <a:rPr b="0" lang="ja-JP" sz="6000" spc="-1" strike="noStrike">
                  <a:solidFill>
                    <a:srgbClr val="000000"/>
                  </a:solidFill>
                  <a:latin typeface="YOzFontNP04"/>
                  <a:ea typeface="YOzFontNP04"/>
                </a:rPr>
                <a:t>。</a:t>
              </a:r>
              <a:endParaRPr b="0" lang="en-US" sz="60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</p:grpSp>
    </p:spTree>
  </p:cSld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dur="indefinite" fill="hold">
                      <p:stCondLst>
                        <p:cond delay="indefinite"/>
                      </p:stCondLst>
                      <p:childTnLst>
                        <p:par>
                          <p:cTn id="18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68200" y="1244520"/>
            <a:ext cx="3324240" cy="100951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 flipH="1">
            <a:off x="3357720" y="2527200"/>
            <a:ext cx="4093920" cy="106560"/>
          </a:xfrm>
          <a:prstGeom prst="line">
            <a:avLst/>
          </a:prstGeom>
          <a:ln w="72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54" name=""/>
          <p:cNvSpPr/>
          <p:nvPr/>
        </p:nvSpPr>
        <p:spPr>
          <a:xfrm>
            <a:off x="1058760" y="5978520"/>
            <a:ext cx="8612280" cy="1071720"/>
          </a:xfrm>
          <a:prstGeom prst="roundRect">
            <a:avLst>
              <a:gd name="adj" fmla="val 148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9504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しゃしんを とる おと</a:t>
            </a:r>
            <a:r>
              <a:rPr b="0" lang="ja-JP" sz="4400" spc="-1" strike="noStrike">
                <a:solidFill>
                  <a:srgbClr val="800000"/>
                </a:solidFill>
                <a:latin typeface="YOzFontNP04"/>
                <a:ea typeface="YOzFontNP04"/>
              </a:rPr>
              <a:t>が </a:t>
            </a: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します。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4979880" y="1725480"/>
            <a:ext cx="438120" cy="676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dur="indefinite" fill="hold">
                      <p:stCondLst>
                        <p:cond delay="indefinite"/>
                      </p:stCondLst>
                      <p:childTnLst>
                        <p:par>
                          <p:cTn id="1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 flipH="1">
            <a:off x="3305160" y="2658960"/>
            <a:ext cx="1487520" cy="766800"/>
          </a:xfrm>
          <a:prstGeom prst="line">
            <a:avLst/>
          </a:prstGeom>
          <a:ln w="72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26" name=""/>
          <p:cNvSpPr/>
          <p:nvPr/>
        </p:nvSpPr>
        <p:spPr>
          <a:xfrm>
            <a:off x="7210440" y="979560"/>
            <a:ext cx="2790720" cy="753840"/>
          </a:xfrm>
          <a:prstGeom prst="roundRect">
            <a:avLst>
              <a:gd name="adj" fmla="val 208"/>
            </a:avLst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Y.OzN_'04"/>
                <a:ea typeface="Y.OzN_'04"/>
              </a:rPr>
              <a:t>にんぎょう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Y.OzN_'04"/>
                <a:ea typeface="Y.OzN_'04"/>
              </a:rPr>
              <a:t>(poupée)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344520" y="5986440"/>
            <a:ext cx="9099360" cy="1327320"/>
            <a:chOff x="344520" y="5986440"/>
            <a:chExt cx="9099360" cy="1327320"/>
          </a:xfrm>
        </p:grpSpPr>
        <p:sp>
          <p:nvSpPr>
            <p:cNvPr id="228" name=""/>
            <p:cNvSpPr/>
            <p:nvPr/>
          </p:nvSpPr>
          <p:spPr>
            <a:xfrm>
              <a:off x="344520" y="5986440"/>
              <a:ext cx="9099360" cy="1327320"/>
            </a:xfrm>
            <a:prstGeom prst="roundRect">
              <a:avLst>
                <a:gd name="adj" fmla="val 116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86400" bIns="0" anchor="ctr" anchorCtr="1">
              <a:noAutofit/>
            </a:bodyPr>
            <a:p>
              <a:pPr algn="ctr">
                <a:lnSpc>
                  <a:spcPct val="8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4000" spc="-1" strike="noStrike">
                  <a:solidFill>
                    <a:srgbClr val="000000"/>
                  </a:solidFill>
                  <a:latin typeface="YOzFontNP04"/>
                  <a:ea typeface="YOzFontNP04"/>
                </a:rPr>
                <a:t>にんぎょう</a:t>
              </a:r>
              <a:r>
                <a:rPr b="0" lang="ja-JP" sz="4000" spc="-1" strike="noStrike">
                  <a:solidFill>
                    <a:srgbClr val="800000"/>
                  </a:solidFill>
                  <a:latin typeface="YOzFontNP04"/>
                  <a:ea typeface="YOzFontNP04"/>
                </a:rPr>
                <a:t>の</a:t>
              </a:r>
              <a:r>
                <a:rPr b="0" lang="ja-JP" sz="4000" spc="-1" strike="noStrike">
                  <a:solidFill>
                    <a:srgbClr val="ff0000"/>
                  </a:solidFill>
                  <a:latin typeface="YOzFontNP04"/>
                  <a:ea typeface="YOzFontNP04"/>
                </a:rPr>
                <a:t>ような</a:t>
              </a:r>
              <a:r>
                <a:rPr b="0" lang="ja-JP" sz="4000" spc="-1" strike="noStrike">
                  <a:solidFill>
                    <a:srgbClr val="000000"/>
                  </a:solidFill>
                  <a:latin typeface="YOzFontNP04"/>
                  <a:ea typeface="YOzFontNP04"/>
                </a:rPr>
                <a:t>おんなのこです。</a:t>
              </a:r>
              <a:endParaRPr b="0" lang="en-US" sz="40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</p:grpSp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dur="indefinite" fill="hold">
                      <p:stCondLst>
                        <p:cond delay="indefinite"/>
                      </p:stCondLst>
                      <p:childTnLst>
                        <p:par>
                          <p:cTn id="19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 flipH="1">
            <a:off x="3305160" y="2658960"/>
            <a:ext cx="1487520" cy="766800"/>
          </a:xfrm>
          <a:prstGeom prst="line">
            <a:avLst/>
          </a:prstGeom>
          <a:ln w="72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344520" y="5172120"/>
            <a:ext cx="9099360" cy="2141640"/>
            <a:chOff x="344520" y="5172120"/>
            <a:chExt cx="9099360" cy="2141640"/>
          </a:xfrm>
        </p:grpSpPr>
        <p:sp>
          <p:nvSpPr>
            <p:cNvPr id="231" name=""/>
            <p:cNvSpPr/>
            <p:nvPr/>
          </p:nvSpPr>
          <p:spPr>
            <a:xfrm>
              <a:off x="344520" y="5172120"/>
              <a:ext cx="9099360" cy="2141640"/>
            </a:xfrm>
            <a:prstGeom prst="roundRect">
              <a:avLst>
                <a:gd name="adj" fmla="val 74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29600" bIns="0" anchor="ctr" anchorCtr="1">
              <a:noAutofit/>
            </a:bodyPr>
            <a:p>
              <a:pPr algn="ctr">
                <a:lnSpc>
                  <a:spcPct val="8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6000" spc="-1" strike="noStrike">
                  <a:solidFill>
                    <a:srgbClr val="000000"/>
                  </a:solidFill>
                  <a:latin typeface="YOzFontNP04"/>
                  <a:ea typeface="YOzFontNP04"/>
                </a:rPr>
                <a:t>にんぎょう</a:t>
              </a:r>
              <a:r>
                <a:rPr b="0" lang="ja-JP" sz="6000" spc="-1" strike="noStrike">
                  <a:solidFill>
                    <a:srgbClr val="800000"/>
                  </a:solidFill>
                  <a:latin typeface="YOzFontNP04"/>
                  <a:ea typeface="YOzFontNP04"/>
                </a:rPr>
                <a:t>の</a:t>
              </a:r>
              <a:r>
                <a:rPr b="0" lang="ja-JP" sz="6000" spc="-1" strike="noStrike">
                  <a:solidFill>
                    <a:srgbClr val="ff0000"/>
                  </a:solidFill>
                  <a:latin typeface="YOzFontNP04"/>
                  <a:ea typeface="YOzFontNP04"/>
                </a:rPr>
                <a:t>ように</a:t>
              </a:r>
              <a:endParaRPr b="0" lang="en-US" sz="6000" spc="-1" strike="noStrike">
                <a:solidFill>
                  <a:srgbClr val="000000"/>
                </a:solidFill>
                <a:latin typeface="Bitstream Vera Serif"/>
              </a:endParaRPr>
            </a:p>
            <a:p>
              <a:pPr algn="ctr">
                <a:lnSpc>
                  <a:spcPct val="8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6000" spc="-1" strike="noStrike">
                  <a:solidFill>
                    <a:srgbClr val="000000"/>
                  </a:solidFill>
                  <a:latin typeface="YOzFontNP04"/>
                  <a:ea typeface="YOzFontNP04"/>
                </a:rPr>
                <a:t>かわいいです。</a:t>
              </a:r>
              <a:endParaRPr b="0" lang="en-US" sz="60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7210440" y="979560"/>
            <a:ext cx="2790720" cy="753840"/>
          </a:xfrm>
          <a:prstGeom prst="roundRect">
            <a:avLst>
              <a:gd name="adj" fmla="val 208"/>
            </a:avLst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Y.OzN_'04"/>
                <a:ea typeface="Y.OzN_'04"/>
              </a:rPr>
              <a:t>にんぎょう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Y.OzN_'04"/>
                <a:ea typeface="Y.OzN_'04"/>
              </a:rPr>
              <a:t>(poupée)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dur="indefinite" fill="hold">
                      <p:stCondLst>
                        <p:cond delay="indefinite"/>
                      </p:stCondLst>
                      <p:childTnLst>
                        <p:par>
                          <p:cTn id="20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6765840" y="2130480"/>
            <a:ext cx="2400480" cy="739152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2925720" y="1338120"/>
            <a:ext cx="4195800" cy="1519560"/>
          </a:xfrm>
          <a:prstGeom prst="wedgeRoundRectCallout">
            <a:avLst>
              <a:gd name="adj1" fmla="val 56578"/>
              <a:gd name="adj2" fmla="val 70879"/>
              <a:gd name="adj3" fmla="val 16667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35" name=""/>
          <p:cNvSpPr/>
          <p:nvPr/>
        </p:nvSpPr>
        <p:spPr>
          <a:xfrm>
            <a:off x="3216240" y="1711440"/>
            <a:ext cx="313200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2240" bIns="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erif"/>
              </a:rPr>
              <a:t>Encantado.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erif"/>
              </a:rPr>
              <a:t>Me llamo Yamada ...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344520" y="5516640"/>
            <a:ext cx="9099360" cy="1798560"/>
            <a:chOff x="344520" y="5516640"/>
            <a:chExt cx="9099360" cy="1798560"/>
          </a:xfrm>
        </p:grpSpPr>
        <p:sp>
          <p:nvSpPr>
            <p:cNvPr id="237" name=""/>
            <p:cNvSpPr/>
            <p:nvPr/>
          </p:nvSpPr>
          <p:spPr>
            <a:xfrm>
              <a:off x="344520" y="5516640"/>
              <a:ext cx="9099360" cy="1798560"/>
            </a:xfrm>
            <a:prstGeom prst="roundRect">
              <a:avLst>
                <a:gd name="adj" fmla="val 88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29600" bIns="0" anchor="ctr" anchorCtr="1">
              <a:noAutofit/>
            </a:bodyPr>
            <a:p>
              <a:pPr algn="ctr">
                <a:lnSpc>
                  <a:spcPct val="8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6000" spc="-1" strike="noStrike">
                  <a:solidFill>
                    <a:srgbClr val="000000"/>
                  </a:solidFill>
                  <a:latin typeface="YOzFontNP04"/>
                  <a:ea typeface="YOzFontNP04"/>
                </a:rPr>
                <a:t>スペインじん</a:t>
              </a:r>
              <a:r>
                <a:rPr b="0" lang="ja-JP" sz="6000" spc="-1" strike="noStrike">
                  <a:solidFill>
                    <a:srgbClr val="800000"/>
                  </a:solidFill>
                  <a:latin typeface="YOzFontNP04"/>
                  <a:ea typeface="YOzFontNP04"/>
                </a:rPr>
                <a:t>の</a:t>
              </a:r>
              <a:r>
                <a:rPr b="0" lang="ja-JP" sz="6000" spc="-1" strike="noStrike">
                  <a:solidFill>
                    <a:srgbClr val="ff0000"/>
                  </a:solidFill>
                  <a:latin typeface="YOzFontNP04"/>
                  <a:ea typeface="YOzFontNP04"/>
                </a:rPr>
                <a:t>ように</a:t>
              </a:r>
              <a:endParaRPr b="0" lang="en-US" sz="6000" spc="-1" strike="noStrike">
                <a:solidFill>
                  <a:srgbClr val="000000"/>
                </a:solidFill>
                <a:latin typeface="Bitstream Vera Serif"/>
              </a:endParaRPr>
            </a:p>
            <a:p>
              <a:pPr algn="ctr">
                <a:lnSpc>
                  <a:spcPct val="8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6000" spc="-1" strike="noStrike">
                  <a:solidFill>
                    <a:srgbClr val="000000"/>
                  </a:solidFill>
                  <a:latin typeface="YOzFontNP04"/>
                  <a:ea typeface="YOzFontNP04"/>
                </a:rPr>
                <a:t>スペインご</a:t>
              </a:r>
              <a:r>
                <a:rPr b="0" lang="ja-JP" sz="6000" spc="-1" strike="noStrike">
                  <a:solidFill>
                    <a:srgbClr val="800000"/>
                  </a:solidFill>
                  <a:latin typeface="YOzFontNP04"/>
                  <a:ea typeface="YOzFontNP04"/>
                </a:rPr>
                <a:t>を</a:t>
              </a:r>
              <a:r>
                <a:rPr b="0" lang="ja-JP" sz="6000" spc="-1" strike="noStrike">
                  <a:solidFill>
                    <a:srgbClr val="000000"/>
                  </a:solidFill>
                  <a:latin typeface="YOzFontNP04"/>
                  <a:ea typeface="YOzFontNP04"/>
                </a:rPr>
                <a:t>はなします。</a:t>
              </a:r>
              <a:endParaRPr b="0" lang="en-US" sz="60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</p:grpSp>
      <p:sp>
        <p:nvSpPr>
          <p:cNvPr id="238" name=""/>
          <p:cNvSpPr/>
          <p:nvPr/>
        </p:nvSpPr>
        <p:spPr>
          <a:xfrm flipH="1">
            <a:off x="3606480" y="2959200"/>
            <a:ext cx="1144440" cy="568080"/>
          </a:xfrm>
          <a:prstGeom prst="line">
            <a:avLst/>
          </a:prstGeom>
          <a:ln w="1440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39" name=""/>
          <p:cNvSpPr/>
          <p:nvPr/>
        </p:nvSpPr>
        <p:spPr>
          <a:xfrm flipH="1">
            <a:off x="3752640" y="3289320"/>
            <a:ext cx="1090440" cy="528480"/>
          </a:xfrm>
          <a:prstGeom prst="line">
            <a:avLst/>
          </a:prstGeom>
          <a:ln w="1440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40" name=""/>
          <p:cNvSpPr/>
          <p:nvPr/>
        </p:nvSpPr>
        <p:spPr>
          <a:xfrm>
            <a:off x="2125800" y="3892680"/>
            <a:ext cx="1828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5184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mikachan"/>
                <a:ea typeface="mikachan"/>
              </a:rPr>
              <a:t>スペインじん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dur="indefinite" fill="hold">
                      <p:stCondLst>
                        <p:cond delay="indefinite"/>
                      </p:stCondLst>
                      <p:childTnLst>
                        <p:par>
                          <p:cTn id="21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0" y="287280"/>
            <a:ext cx="10078920" cy="727236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5000760" y="1468440"/>
            <a:ext cx="1137960" cy="568440"/>
          </a:xfrm>
          <a:prstGeom prst="line">
            <a:avLst/>
          </a:prstGeom>
          <a:ln w="1440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43" name=""/>
          <p:cNvSpPr/>
          <p:nvPr/>
        </p:nvSpPr>
        <p:spPr>
          <a:xfrm>
            <a:off x="4908600" y="1798560"/>
            <a:ext cx="1084320" cy="528840"/>
          </a:xfrm>
          <a:prstGeom prst="line">
            <a:avLst/>
          </a:prstGeom>
          <a:ln w="1440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344520" y="5516640"/>
            <a:ext cx="9099360" cy="1798560"/>
            <a:chOff x="344520" y="5516640"/>
            <a:chExt cx="9099360" cy="1798560"/>
          </a:xfrm>
        </p:grpSpPr>
        <p:sp>
          <p:nvSpPr>
            <p:cNvPr id="245" name=""/>
            <p:cNvSpPr/>
            <p:nvPr/>
          </p:nvSpPr>
          <p:spPr>
            <a:xfrm>
              <a:off x="344520" y="5516640"/>
              <a:ext cx="9099360" cy="1798560"/>
            </a:xfrm>
            <a:prstGeom prst="roundRect">
              <a:avLst>
                <a:gd name="adj" fmla="val 88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29600" bIns="0" anchor="ctr" anchorCtr="1">
              <a:noAutofit/>
            </a:bodyPr>
            <a:p>
              <a:pPr algn="ctr">
                <a:lnSpc>
                  <a:spcPct val="8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6000" spc="-1" strike="noStrike">
                  <a:solidFill>
                    <a:srgbClr val="000000"/>
                  </a:solidFill>
                  <a:latin typeface="YOzFontNP04"/>
                  <a:ea typeface="YOzFontNP04"/>
                </a:rPr>
                <a:t>ジダン</a:t>
              </a:r>
              <a:r>
                <a:rPr b="0" lang="ja-JP" sz="6000" spc="-1" strike="noStrike">
                  <a:solidFill>
                    <a:srgbClr val="800000"/>
                  </a:solidFill>
                  <a:latin typeface="YOzFontNP04"/>
                  <a:ea typeface="YOzFontNP04"/>
                </a:rPr>
                <a:t>の</a:t>
              </a:r>
              <a:r>
                <a:rPr b="0" lang="ja-JP" sz="6000" spc="-1" strike="noStrike">
                  <a:solidFill>
                    <a:srgbClr val="ff0000"/>
                  </a:solidFill>
                  <a:latin typeface="YOzFontNP04"/>
                  <a:ea typeface="YOzFontNP04"/>
                </a:rPr>
                <a:t>ように</a:t>
              </a:r>
              <a:endParaRPr b="0" lang="en-US" sz="6000" spc="-1" strike="noStrike">
                <a:solidFill>
                  <a:srgbClr val="000000"/>
                </a:solidFill>
                <a:latin typeface="Bitstream Vera Serif"/>
              </a:endParaRPr>
            </a:p>
            <a:p>
              <a:pPr algn="ctr">
                <a:lnSpc>
                  <a:spcPct val="8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6000" spc="-1" strike="noStrike">
                  <a:solidFill>
                    <a:srgbClr val="000000"/>
                  </a:solidFill>
                  <a:latin typeface="YOzFontNP04"/>
                  <a:ea typeface="YOzFontNP04"/>
                </a:rPr>
                <a:t>サッカー</a:t>
              </a:r>
              <a:r>
                <a:rPr b="0" lang="ja-JP" sz="6000" spc="-1" strike="noStrike">
                  <a:solidFill>
                    <a:srgbClr val="800000"/>
                  </a:solidFill>
                  <a:latin typeface="YOzFontNP04"/>
                  <a:ea typeface="YOzFontNP04"/>
                </a:rPr>
                <a:t>が</a:t>
              </a:r>
              <a:r>
                <a:rPr b="0" lang="ja-JP" sz="6000" spc="-1" strike="noStrike">
                  <a:solidFill>
                    <a:srgbClr val="000000"/>
                  </a:solidFill>
                  <a:latin typeface="YOzFontNP04"/>
                  <a:ea typeface="YOzFontNP04"/>
                </a:rPr>
                <a:t>じょうずです。</a:t>
              </a:r>
              <a:endParaRPr b="0" lang="en-US" sz="60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</p:grpSp>
    </p:spTree>
  </p:cSld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dur="indefinite" fill="hold">
                      <p:stCondLst>
                        <p:cond delay="indefinite"/>
                      </p:stCondLst>
                      <p:childTnLst>
                        <p:par>
                          <p:cTn id="21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 flipH="1" flipV="1">
            <a:off x="6343200" y="3279240"/>
            <a:ext cx="1009800" cy="147960"/>
          </a:xfrm>
          <a:prstGeom prst="line">
            <a:avLst/>
          </a:prstGeom>
          <a:ln w="108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57" name=""/>
          <p:cNvSpPr/>
          <p:nvPr/>
        </p:nvSpPr>
        <p:spPr>
          <a:xfrm>
            <a:off x="1009800" y="5610240"/>
            <a:ext cx="8767440" cy="1425600"/>
          </a:xfrm>
          <a:prstGeom prst="roundRect">
            <a:avLst>
              <a:gd name="adj" fmla="val 111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58" name=""/>
          <p:cNvSpPr/>
          <p:nvPr/>
        </p:nvSpPr>
        <p:spPr>
          <a:xfrm>
            <a:off x="1208160" y="5778360"/>
            <a:ext cx="813276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.OzN_'04"/>
                <a:ea typeface="Y.OzN_'04"/>
              </a:rPr>
              <a:t>でんわの おと</a:t>
            </a:r>
            <a:r>
              <a:rPr b="0" lang="ja-JP" sz="4800" spc="-1" strike="noStrike">
                <a:solidFill>
                  <a:srgbClr val="800000"/>
                </a:solidFill>
                <a:latin typeface="Y.OzN_'04"/>
                <a:ea typeface="Y.OzN_'04"/>
              </a:rPr>
              <a:t>が</a:t>
            </a:r>
            <a:r>
              <a:rPr b="0" lang="ja-JP" sz="4800" spc="-1" strike="noStrike" u="sng">
                <a:solidFill>
                  <a:srgbClr val="ff0000"/>
                </a:solidFill>
                <a:uFillTx/>
                <a:latin typeface="Y.OzN_'04"/>
                <a:ea typeface="Y.OzN_'04"/>
              </a:rPr>
              <a:t>し</a:t>
            </a:r>
            <a:r>
              <a:rPr b="0" lang="ja-JP" sz="4800" spc="-1" strike="noStrike">
                <a:solidFill>
                  <a:srgbClr val="000000"/>
                </a:solidFill>
                <a:latin typeface="Y.OzN_'04"/>
                <a:ea typeface="Y.OzN_'04"/>
              </a:rPr>
              <a:t>ます。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dur="indefinite" fill="hold">
                      <p:stCondLst>
                        <p:cond delay="indefinite"/>
                      </p:stCondLst>
                      <p:childTnLst>
                        <p:par>
                          <p:cTn id="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"/>
          <p:cNvGrpSpPr/>
          <p:nvPr/>
        </p:nvGrpSpPr>
        <p:grpSpPr>
          <a:xfrm>
            <a:off x="-716400" y="71280"/>
            <a:ext cx="11812680" cy="7410600"/>
            <a:chOff x="-716400" y="71280"/>
            <a:chExt cx="11812680" cy="7410600"/>
          </a:xfrm>
        </p:grpSpPr>
        <p:sp>
          <p:nvSpPr>
            <p:cNvPr id="60" name=""/>
            <p:cNvSpPr/>
            <p:nvPr/>
          </p:nvSpPr>
          <p:spPr>
            <a:xfrm>
              <a:off x="8724960" y="71280"/>
              <a:ext cx="66240" cy="5159520"/>
            </a:xfrm>
            <a:prstGeom prst="line">
              <a:avLst/>
            </a:prstGeom>
            <a:ln w="72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794800" y="5276880"/>
              <a:ext cx="2301480" cy="2205000"/>
            </a:xfrm>
            <a:prstGeom prst="line">
              <a:avLst/>
            </a:prstGeom>
            <a:ln w="72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>
              <a:off x="-716400" y="5330880"/>
              <a:ext cx="9564840" cy="0"/>
            </a:xfrm>
            <a:prstGeom prst="line">
              <a:avLst/>
            </a:prstGeom>
            <a:ln w="72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</p:grp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2733840"/>
            <a:ext cx="7854840" cy="36208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 flipH="1">
            <a:off x="7570800" y="1397160"/>
            <a:ext cx="2309760" cy="682560"/>
          </a:xfrm>
          <a:prstGeom prst="line">
            <a:avLst/>
          </a:prstGeom>
          <a:ln w="108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65" name=""/>
          <p:cNvSpPr/>
          <p:nvPr/>
        </p:nvSpPr>
        <p:spPr>
          <a:xfrm>
            <a:off x="650880" y="5451480"/>
            <a:ext cx="8790120" cy="1616040"/>
          </a:xfrm>
          <a:prstGeom prst="roundRect">
            <a:avLst>
              <a:gd name="adj" fmla="val 97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639720" y="3051000"/>
            <a:ext cx="920880" cy="19018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6786720" y="492120"/>
            <a:ext cx="1171440" cy="13622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4"/>
          <a:stretch/>
        </p:blipFill>
        <p:spPr>
          <a:xfrm>
            <a:off x="8783640" y="2259000"/>
            <a:ext cx="876240" cy="13622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237440" y="1996920"/>
            <a:ext cx="876240" cy="136224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1332000" y="5586480"/>
            <a:ext cx="73152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03680" bIns="0" anchor="t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となりの へや</a:t>
            </a:r>
            <a:r>
              <a:rPr b="0" lang="ja-JP" sz="4800" spc="-1" strike="noStrike">
                <a:solidFill>
                  <a:srgbClr val="800000"/>
                </a:solidFill>
                <a:latin typeface="YOzFontNP04"/>
                <a:ea typeface="YOzFontNP04"/>
              </a:rPr>
              <a:t>から</a:t>
            </a:r>
            <a:r>
              <a:rPr b="0" lang="en-US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 おと</a:t>
            </a:r>
            <a:r>
              <a:rPr b="0" lang="ja-JP" sz="4800" spc="-1" strike="noStrike">
                <a:solidFill>
                  <a:srgbClr val="800000"/>
                </a:solidFill>
                <a:latin typeface="YOzFontNP04"/>
                <a:ea typeface="YOzFontNP04"/>
              </a:rPr>
              <a:t>が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 u="sng">
                <a:solidFill>
                  <a:srgbClr val="ff0000"/>
                </a:solidFill>
                <a:uFillTx/>
                <a:latin typeface="YOzFontNP04"/>
                <a:ea typeface="YOzFontNP04"/>
              </a:rPr>
              <a:t>し</a:t>
            </a:r>
            <a:r>
              <a:rPr b="0" lang="ja-JP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ます。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71" name="" descr=""/>
          <p:cNvPicPr/>
          <p:nvPr/>
        </p:nvPicPr>
        <p:blipFill>
          <a:blip r:embed="rId6"/>
          <a:stretch/>
        </p:blipFill>
        <p:spPr>
          <a:xfrm>
            <a:off x="763560" y="2268360"/>
            <a:ext cx="6015240" cy="282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dur="indefinite" fill="hold">
                      <p:stCondLst>
                        <p:cond delay="indefinite"/>
                      </p:stCondLst>
                      <p:childTnLst>
                        <p:par>
                          <p:cTn id="2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" name=""/>
          <p:cNvGrpSpPr/>
          <p:nvPr/>
        </p:nvGrpSpPr>
        <p:grpSpPr>
          <a:xfrm>
            <a:off x="-716400" y="71280"/>
            <a:ext cx="11812680" cy="7410600"/>
            <a:chOff x="-716400" y="71280"/>
            <a:chExt cx="11812680" cy="7410600"/>
          </a:xfrm>
        </p:grpSpPr>
        <p:sp>
          <p:nvSpPr>
            <p:cNvPr id="73" name=""/>
            <p:cNvSpPr/>
            <p:nvPr/>
          </p:nvSpPr>
          <p:spPr>
            <a:xfrm>
              <a:off x="8724960" y="71280"/>
              <a:ext cx="66240" cy="5159520"/>
            </a:xfrm>
            <a:prstGeom prst="line">
              <a:avLst/>
            </a:prstGeom>
            <a:ln w="72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794800" y="5276880"/>
              <a:ext cx="2301480" cy="2205000"/>
            </a:xfrm>
            <a:prstGeom prst="line">
              <a:avLst/>
            </a:prstGeom>
            <a:ln w="72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-716400" y="5330880"/>
              <a:ext cx="9564840" cy="0"/>
            </a:xfrm>
            <a:prstGeom prst="line">
              <a:avLst/>
            </a:prstGeom>
            <a:ln w="72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</p:grp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2733840"/>
            <a:ext cx="7854840" cy="362088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 flipH="1">
            <a:off x="7570800" y="1397160"/>
            <a:ext cx="2309760" cy="682560"/>
          </a:xfrm>
          <a:prstGeom prst="line">
            <a:avLst/>
          </a:prstGeom>
          <a:ln w="108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639720" y="3051000"/>
            <a:ext cx="920880" cy="190188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1009800" y="5610240"/>
            <a:ext cx="8767440" cy="1425600"/>
          </a:xfrm>
          <a:prstGeom prst="roundRect">
            <a:avLst>
              <a:gd name="adj" fmla="val 111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80" name=""/>
          <p:cNvSpPr/>
          <p:nvPr/>
        </p:nvSpPr>
        <p:spPr>
          <a:xfrm>
            <a:off x="6446880" y="552600"/>
            <a:ext cx="2746440" cy="1020600"/>
          </a:xfrm>
          <a:prstGeom prst="roundRect">
            <a:avLst>
              <a:gd name="adj" fmla="val 153"/>
            </a:avLst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9504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ひと・こえ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81" name=""/>
          <p:cNvSpPr/>
          <p:nvPr/>
        </p:nvSpPr>
        <p:spPr>
          <a:xfrm>
            <a:off x="3341520" y="5702400"/>
            <a:ext cx="396252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.OzN_'04"/>
                <a:ea typeface="Y.OzN_'04"/>
              </a:rPr>
              <a:t>ひとの こえ</a:t>
            </a:r>
            <a:r>
              <a:rPr b="0" lang="ja-JP" sz="4800" spc="-1" strike="noStrike">
                <a:solidFill>
                  <a:srgbClr val="800000"/>
                </a:solidFill>
                <a:latin typeface="Y.OzN_'04"/>
                <a:ea typeface="Y.OzN_'04"/>
              </a:rPr>
              <a:t>が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 u="sng">
                <a:solidFill>
                  <a:srgbClr val="ff0000"/>
                </a:solidFill>
                <a:uFillTx/>
                <a:latin typeface="Y.OzN_'04"/>
                <a:ea typeface="Y.OzN_'04"/>
              </a:rPr>
              <a:t>し</a:t>
            </a:r>
            <a:r>
              <a:rPr b="0" lang="ja-JP" sz="4800" spc="-1" strike="noStrike">
                <a:solidFill>
                  <a:srgbClr val="000000"/>
                </a:solidFill>
                <a:latin typeface="Y.OzN_'04"/>
                <a:ea typeface="Y.OzN_'04"/>
              </a:rPr>
              <a:t>ます。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763560" y="2268360"/>
            <a:ext cx="6015240" cy="282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dur="indefinite" fill="hold">
                      <p:stCondLst>
                        <p:cond delay="indefinite"/>
                      </p:stCondLst>
                      <p:childTnLst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"/>
          <p:cNvGrpSpPr/>
          <p:nvPr/>
        </p:nvGrpSpPr>
        <p:grpSpPr>
          <a:xfrm>
            <a:off x="-716400" y="71280"/>
            <a:ext cx="11812680" cy="7410600"/>
            <a:chOff x="-716400" y="71280"/>
            <a:chExt cx="11812680" cy="7410600"/>
          </a:xfrm>
        </p:grpSpPr>
        <p:sp>
          <p:nvSpPr>
            <p:cNvPr id="84" name=""/>
            <p:cNvSpPr/>
            <p:nvPr/>
          </p:nvSpPr>
          <p:spPr>
            <a:xfrm>
              <a:off x="8724960" y="71280"/>
              <a:ext cx="66240" cy="5159520"/>
            </a:xfrm>
            <a:prstGeom prst="line">
              <a:avLst/>
            </a:prstGeom>
            <a:ln w="72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794800" y="5276880"/>
              <a:ext cx="2301480" cy="2205000"/>
            </a:xfrm>
            <a:prstGeom prst="line">
              <a:avLst/>
            </a:prstGeom>
            <a:ln w="72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716400" y="5330880"/>
              <a:ext cx="9564840" cy="0"/>
            </a:xfrm>
            <a:prstGeom prst="line">
              <a:avLst/>
            </a:prstGeom>
            <a:ln w="72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</p:grp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2733840"/>
            <a:ext cx="7854840" cy="362088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 flipH="1">
            <a:off x="7570800" y="1397160"/>
            <a:ext cx="2309760" cy="682560"/>
          </a:xfrm>
          <a:prstGeom prst="line">
            <a:avLst/>
          </a:prstGeom>
          <a:ln w="108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639720" y="3051000"/>
            <a:ext cx="920880" cy="190188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981000" y="5583240"/>
            <a:ext cx="8767800" cy="1425600"/>
          </a:xfrm>
          <a:prstGeom prst="roundRect">
            <a:avLst>
              <a:gd name="adj" fmla="val 111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91" name=""/>
          <p:cNvSpPr/>
          <p:nvPr/>
        </p:nvSpPr>
        <p:spPr>
          <a:xfrm>
            <a:off x="4803840" y="552600"/>
            <a:ext cx="4832280" cy="1117440"/>
          </a:xfrm>
          <a:prstGeom prst="roundRect">
            <a:avLst>
              <a:gd name="adj" fmla="val 139"/>
            </a:avLst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9504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ひとが はなします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92" name=""/>
          <p:cNvSpPr/>
          <p:nvPr/>
        </p:nvSpPr>
        <p:spPr>
          <a:xfrm>
            <a:off x="2376360" y="5689440"/>
            <a:ext cx="57913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ff"/>
                </a:solidFill>
                <a:latin typeface="Y.OzN_'04"/>
                <a:ea typeface="Y.OzN_'04"/>
              </a:rPr>
              <a:t>ひとが はなすこえ</a:t>
            </a:r>
            <a:r>
              <a:rPr b="0" lang="ja-JP" sz="4800" spc="-1" strike="noStrike">
                <a:solidFill>
                  <a:srgbClr val="800000"/>
                </a:solidFill>
                <a:latin typeface="Y.OzN_'04"/>
                <a:ea typeface="Y.OzN_'04"/>
              </a:rPr>
              <a:t>が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 u="sng">
                <a:solidFill>
                  <a:srgbClr val="ff0000"/>
                </a:solidFill>
                <a:uFillTx/>
                <a:latin typeface="Y.OzN_'04"/>
                <a:ea typeface="Y.OzN_'04"/>
              </a:rPr>
              <a:t>し</a:t>
            </a:r>
            <a:r>
              <a:rPr b="0" lang="ja-JP" sz="4800" spc="-1" strike="noStrike">
                <a:solidFill>
                  <a:srgbClr val="000000"/>
                </a:solidFill>
                <a:latin typeface="Y.OzN_'04"/>
                <a:ea typeface="Y.OzN_'04"/>
              </a:rPr>
              <a:t>ます。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763560" y="2268360"/>
            <a:ext cx="6015240" cy="282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dur="indefinite" fill="hold">
                      <p:stCondLst>
                        <p:cond delay="indefinite"/>
                      </p:stCondLst>
                      <p:childTnLst>
                        <p:par>
                          <p:cTn id="3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-716400" y="71280"/>
            <a:ext cx="11812680" cy="7410600"/>
            <a:chOff x="-716400" y="71280"/>
            <a:chExt cx="11812680" cy="7410600"/>
          </a:xfrm>
        </p:grpSpPr>
        <p:sp>
          <p:nvSpPr>
            <p:cNvPr id="95" name=""/>
            <p:cNvSpPr/>
            <p:nvPr/>
          </p:nvSpPr>
          <p:spPr>
            <a:xfrm>
              <a:off x="8724960" y="71280"/>
              <a:ext cx="66240" cy="5159520"/>
            </a:xfrm>
            <a:prstGeom prst="line">
              <a:avLst/>
            </a:prstGeom>
            <a:ln w="72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794800" y="5276880"/>
              <a:ext cx="2301480" cy="2205000"/>
            </a:xfrm>
            <a:prstGeom prst="line">
              <a:avLst/>
            </a:prstGeom>
            <a:ln w="72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>
              <a:off x="-716400" y="5330880"/>
              <a:ext cx="9564840" cy="0"/>
            </a:xfrm>
            <a:prstGeom prst="line">
              <a:avLst/>
            </a:prstGeom>
            <a:ln w="72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</p:grp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2733840"/>
            <a:ext cx="7854840" cy="362088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 flipH="1">
            <a:off x="7570800" y="1397160"/>
            <a:ext cx="2309760" cy="682560"/>
          </a:xfrm>
          <a:prstGeom prst="line">
            <a:avLst/>
          </a:prstGeom>
          <a:ln w="108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639720" y="3051000"/>
            <a:ext cx="920880" cy="19018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763560" y="2268360"/>
            <a:ext cx="6015240" cy="28260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857160" y="5653080"/>
            <a:ext cx="8767800" cy="1425600"/>
          </a:xfrm>
          <a:prstGeom prst="roundRect">
            <a:avLst>
              <a:gd name="adj" fmla="val 111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03" name=""/>
          <p:cNvSpPr/>
          <p:nvPr/>
        </p:nvSpPr>
        <p:spPr>
          <a:xfrm>
            <a:off x="4803840" y="552600"/>
            <a:ext cx="4832280" cy="1117440"/>
          </a:xfrm>
          <a:prstGeom prst="roundRect">
            <a:avLst>
              <a:gd name="adj" fmla="val 139"/>
            </a:avLst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9504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ひとが はなします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04" name=""/>
          <p:cNvSpPr/>
          <p:nvPr/>
        </p:nvSpPr>
        <p:spPr>
          <a:xfrm>
            <a:off x="1179360" y="5740560"/>
            <a:ext cx="762012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ff"/>
                </a:solidFill>
                <a:latin typeface="Y.OzN_'04"/>
                <a:ea typeface="Y.OzN_'04"/>
              </a:rPr>
              <a:t>ひとが はなしているこえ</a:t>
            </a:r>
            <a:r>
              <a:rPr b="0" lang="ja-JP" sz="4800" spc="-1" strike="noStrike">
                <a:solidFill>
                  <a:srgbClr val="800000"/>
                </a:solidFill>
                <a:latin typeface="Y.OzN_'04"/>
                <a:ea typeface="Y.OzN_'04"/>
              </a:rPr>
              <a:t>が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 u="sng">
                <a:solidFill>
                  <a:srgbClr val="ff0000"/>
                </a:solidFill>
                <a:uFillTx/>
                <a:latin typeface="Y.OzN_'04"/>
                <a:ea typeface="Y.OzN_'04"/>
              </a:rPr>
              <a:t>し</a:t>
            </a:r>
            <a:r>
              <a:rPr b="0" lang="ja-JP" sz="4800" spc="-1" strike="noStrike">
                <a:solidFill>
                  <a:srgbClr val="000000"/>
                </a:solidFill>
                <a:latin typeface="Y.OzN_'04"/>
                <a:ea typeface="Y.OzN_'04"/>
              </a:rPr>
              <a:t>ます。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dur="indefinite" fill="hold">
                      <p:stCondLst>
                        <p:cond delay="indefinite"/>
                      </p:stCondLst>
                      <p:childTnLst>
                        <p:par>
                          <p:cTn id="4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011400" y="2948040"/>
            <a:ext cx="2033640" cy="154080"/>
          </a:xfrm>
          <a:prstGeom prst="line">
            <a:avLst/>
          </a:prstGeom>
          <a:ln w="108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06" name=""/>
          <p:cNvSpPr/>
          <p:nvPr/>
        </p:nvSpPr>
        <p:spPr>
          <a:xfrm>
            <a:off x="982800" y="5321160"/>
            <a:ext cx="8767800" cy="1425600"/>
          </a:xfrm>
          <a:prstGeom prst="roundRect">
            <a:avLst>
              <a:gd name="adj" fmla="val 111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07" name=""/>
          <p:cNvSpPr/>
          <p:nvPr/>
        </p:nvSpPr>
        <p:spPr>
          <a:xfrm>
            <a:off x="3265560" y="5394240"/>
            <a:ext cx="396216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.OzN_'04"/>
                <a:ea typeface="Y.OzN_'04"/>
              </a:rPr>
              <a:t>とりの こえ</a:t>
            </a:r>
            <a:r>
              <a:rPr b="0" lang="ja-JP" sz="4800" spc="-1" strike="noStrike">
                <a:solidFill>
                  <a:srgbClr val="800000"/>
                </a:solidFill>
                <a:latin typeface="Y.OzN_'04"/>
                <a:ea typeface="Y.OzN_'04"/>
              </a:rPr>
              <a:t>が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 u="sng">
                <a:solidFill>
                  <a:srgbClr val="ff0000"/>
                </a:solidFill>
                <a:uFillTx/>
                <a:latin typeface="Y.OzN_'04"/>
                <a:ea typeface="Y.OzN_'04"/>
              </a:rPr>
              <a:t>し</a:t>
            </a:r>
            <a:r>
              <a:rPr b="0" lang="ja-JP" sz="4800" spc="-1" strike="noStrike">
                <a:solidFill>
                  <a:srgbClr val="000000"/>
                </a:solidFill>
                <a:latin typeface="Y.OzN_'04"/>
                <a:ea typeface="Y.OzN_'04"/>
              </a:rPr>
              <a:t>ます。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dur="indefinite" fill="hold">
                      <p:stCondLst>
                        <p:cond delay="indefinite"/>
                      </p:stCondLst>
                      <p:childTnLst>
                        <p:par>
                          <p:cTn id="5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4T01:12:25Z</dcterms:created>
  <dc:creator/>
  <dc:description/>
  <dc:language>en-US</dc:language>
  <cp:lastModifiedBy/>
  <dcterms:modified xsi:type="dcterms:W3CDTF">2016-05-24T19:32:33Z</dcterms:modified>
  <cp:revision>3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nfo 1">
    <vt:lpwstr/>
  </property>
  <property fmtid="{D5CDD505-2E9C-101B-9397-08002B2CF9AE}" pid="3" name="Info 2">
    <vt:lpwstr/>
  </property>
  <property fmtid="{D5CDD505-2E9C-101B-9397-08002B2CF9AE}" pid="4" name="Info 3">
    <vt:lpwstr/>
  </property>
  <property fmtid="{D5CDD505-2E9C-101B-9397-08002B2CF9AE}" pid="5" name="Info 4">
    <vt:lpwstr/>
  </property>
</Properties>
</file>