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29.gif" ContentType="image/gif"/>
  <Override PartName="/ppt/media/image9.png" ContentType="image/png"/>
  <Override PartName="/ppt/media/image8.png" ContentType="image/png"/>
  <Override PartName="/ppt/media/image39.jpeg" ContentType="image/jpeg"/>
  <Override PartName="/ppt/media/image40.png" ContentType="image/png"/>
  <Override PartName="/ppt/media/image38.gif" ContentType="image/gif"/>
  <Override PartName="/ppt/media/image43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96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4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20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8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3951360"/>
            <a:ext cx="650556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えき 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causative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えきうけみ 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passive-causative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36720" y="561024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1003320" y="594684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いもの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5425920" y="885960"/>
            <a:ext cx="4784760" cy="466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1231920" y="2206800"/>
            <a:ext cx="9647280" cy="5352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1193760" y="492120"/>
            <a:ext cx="597708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82872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んたく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168880" y="4809960"/>
            <a:ext cx="4413240" cy="2630520"/>
          </a:xfrm>
          <a:prstGeom prst="wedgeRoundRectCallout">
            <a:avLst>
              <a:gd name="adj1" fmla="val -14828"/>
              <a:gd name="adj2" fmla="val -797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5697360" y="5921280"/>
            <a:ext cx="41929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かり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の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か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14920" y="655560"/>
            <a:ext cx="4692600" cy="4778280"/>
            <a:chOff x="4714920" y="655560"/>
            <a:chExt cx="4692600" cy="4778280"/>
          </a:xfrm>
        </p:grpSpPr>
        <p:sp>
          <p:nvSpPr>
            <p:cNvPr id="160" name=""/>
            <p:cNvSpPr/>
            <p:nvPr/>
          </p:nvSpPr>
          <p:spPr>
            <a:xfrm>
              <a:off x="4714920" y="689040"/>
              <a:ext cx="4140000" cy="4744800"/>
            </a:xfrm>
            <a:prstGeom prst="ellipse">
              <a:avLst/>
            </a:prstGeom>
            <a:noFill/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62840" y="655560"/>
              <a:ext cx="544680" cy="40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おなじ  かいしゃ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33360" y="5221440"/>
            <a:ext cx="4541760" cy="2181240"/>
          </a:xfrm>
          <a:prstGeom prst="wedgeRoundRectCallout">
            <a:avLst>
              <a:gd name="adj1" fmla="val -5648"/>
              <a:gd name="adj2" fmla="val -10409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281160" y="5510160"/>
            <a:ext cx="5029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コピーきが こし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してしまったんですが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5340240" y="4950000"/>
            <a:ext cx="38671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した。すぐ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48040" y="90360"/>
            <a:ext cx="4830840" cy="3424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392960" y="1415880"/>
            <a:ext cx="2556000" cy="756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8920" y="4425840"/>
            <a:ext cx="9915480" cy="3135600"/>
          </a:xfrm>
          <a:prstGeom prst="rect">
            <a:avLst/>
          </a:prstGeom>
          <a:gradFill rotWithShape="0">
            <a:gsLst>
              <a:gs pos="0">
                <a:srgbClr val="b84700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319040" y="3125880"/>
            <a:ext cx="2549520" cy="653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681280" y="1154160"/>
            <a:ext cx="4529160" cy="1590480"/>
          </a:xfrm>
          <a:prstGeom prst="wedgeRoundRectCallout">
            <a:avLst>
              <a:gd name="adj1" fmla="val -47444"/>
              <a:gd name="adj2" fmla="val 7579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2814480" y="1608120"/>
            <a:ext cx="404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へやの かぎ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かな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3076560" y="4809960"/>
            <a:ext cx="6607080" cy="1590840"/>
          </a:xfrm>
          <a:prstGeom prst="wedgeRoundRectCallout">
            <a:avLst>
              <a:gd name="adj1" fmla="val 28481"/>
              <a:gd name="adj2" fmla="val -16853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3579840" y="5084640"/>
            <a:ext cx="5476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ぐ かかりの もの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3554280" y="55976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けさせ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48040" y="90360"/>
            <a:ext cx="4830840" cy="3424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92960" y="1415880"/>
            <a:ext cx="2556000" cy="7560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8920" y="4425840"/>
            <a:ext cx="9915480" cy="3135600"/>
          </a:xfrm>
          <a:prstGeom prst="rect">
            <a:avLst/>
          </a:prstGeom>
          <a:gradFill rotWithShape="0">
            <a:gsLst>
              <a:gs pos="0">
                <a:srgbClr val="b84700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319040" y="3125880"/>
            <a:ext cx="2549520" cy="6532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681280" y="1154160"/>
            <a:ext cx="4529160" cy="1590480"/>
          </a:xfrm>
          <a:prstGeom prst="wedgeRoundRectCallout">
            <a:avLst>
              <a:gd name="adj1" fmla="val -47444"/>
              <a:gd name="adj2" fmla="val 7579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3076560" y="4809960"/>
            <a:ext cx="6607080" cy="1590840"/>
          </a:xfrm>
          <a:prstGeom prst="wedgeRoundRectCallout">
            <a:avLst>
              <a:gd name="adj1" fmla="val 28481"/>
              <a:gd name="adj2" fmla="val -16853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3579840" y="5084640"/>
            <a:ext cx="5476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ぐ かかりの もの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3157560" y="1274760"/>
            <a:ext cx="351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レビ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われてい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うな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3683160" y="5649840"/>
            <a:ext cx="5476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おさせ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48040" y="90360"/>
            <a:ext cx="4830840" cy="3424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392960" y="1415880"/>
            <a:ext cx="2556000" cy="7560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8920" y="4425840"/>
            <a:ext cx="9915480" cy="3135600"/>
          </a:xfrm>
          <a:prstGeom prst="rect">
            <a:avLst/>
          </a:prstGeom>
          <a:gradFill rotWithShape="0">
            <a:gsLst>
              <a:gs pos="0">
                <a:srgbClr val="b84700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319040" y="3125880"/>
            <a:ext cx="2549520" cy="6532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81280" y="1154160"/>
            <a:ext cx="5060880" cy="1590480"/>
          </a:xfrm>
          <a:prstGeom prst="wedgeRoundRectCallout">
            <a:avLst>
              <a:gd name="adj1" fmla="val -47712"/>
              <a:gd name="adj2" fmla="val 7577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3076560" y="4809960"/>
            <a:ext cx="6607080" cy="1590840"/>
          </a:xfrm>
          <a:prstGeom prst="wedgeRoundRectCallout">
            <a:avLst>
              <a:gd name="adj1" fmla="val 28481"/>
              <a:gd name="adj2" fmla="val -16853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3579840" y="5084640"/>
            <a:ext cx="5476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ぐ かかりの もの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3683160" y="5649840"/>
            <a:ext cx="5476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えさせ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2835360" y="1454040"/>
            <a:ext cx="4643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タオル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ごれている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371520" y="654120"/>
            <a:ext cx="4089600" cy="534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29600" y="1863720"/>
            <a:ext cx="2016000" cy="755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355760" y="1920960"/>
            <a:ext cx="2419200" cy="6514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3320" y="345960"/>
            <a:ext cx="6738840" cy="1590840"/>
          </a:xfrm>
          <a:prstGeom prst="wedgeRoundRectCallout">
            <a:avLst>
              <a:gd name="adj1" fmla="val 4439"/>
              <a:gd name="adj2" fmla="val 725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479520" y="484200"/>
            <a:ext cx="6122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パンフレット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だき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ぐ かかりの もの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こさせ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371520" y="654120"/>
            <a:ext cx="4089600" cy="534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329600" y="1863720"/>
            <a:ext cx="2016000" cy="755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355760" y="1920960"/>
            <a:ext cx="2419200" cy="65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ぐ かかりの もの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8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させ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9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379760" y="3382920"/>
            <a:ext cx="2478240" cy="373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49680" y="2449440"/>
            <a:ext cx="2791080" cy="4505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844880" y="4484520"/>
            <a:ext cx="3495960" cy="3075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349960" y="4583160"/>
            <a:ext cx="1522440" cy="776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789600" y="4781520"/>
            <a:ext cx="1103400" cy="466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1879560" y="1846440"/>
            <a:ext cx="3457440" cy="5019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6360" y="379440"/>
            <a:ext cx="9121680" cy="1251000"/>
          </a:xfrm>
          <a:prstGeom prst="roundRect">
            <a:avLst>
              <a:gd name="adj" fmla="val 12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173160" y="3276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7562880" y="343548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649440" y="708120"/>
            <a:ext cx="9144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もだち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かせました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25800" y="404640"/>
            <a:ext cx="4388040" cy="4388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07000" y="1822320"/>
            <a:ext cx="2219400" cy="6515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028960" y="3174840"/>
            <a:ext cx="1657080" cy="4934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8760" y="317520"/>
            <a:ext cx="9612360" cy="1197000"/>
          </a:xfrm>
          <a:prstGeom prst="roundRect">
            <a:avLst>
              <a:gd name="adj" fmla="val 13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331920" y="663480"/>
            <a:ext cx="963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せんせい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こらせました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93760"/>
            <a:ext cx="2590920" cy="536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52520" y="1476360"/>
            <a:ext cx="1627200" cy="426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0" y="3514680"/>
            <a:ext cx="1957320" cy="897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3527280" y="351000"/>
            <a:ext cx="6348600" cy="2114280"/>
          </a:xfrm>
          <a:prstGeom prst="roundRect">
            <a:avLst>
              <a:gd name="adj" fmla="val 7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3540240" y="539640"/>
            <a:ext cx="6350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しゃ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かせ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3926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227640" y="2860560"/>
            <a:ext cx="4059360" cy="503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057560" y="3052800"/>
            <a:ext cx="1882800" cy="40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7440" y="46188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そく かえって ははを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わを かけて はは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るい てんを とって ははを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243320"/>
            <a:ext cx="685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かせる・おこらせ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ぱいさせる・あんしんさせ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っかりさせる・よろこばせ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なしませる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etc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387360"/>
            <a:ext cx="45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んぱいさせ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5110200" y="1362240"/>
            <a:ext cx="46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んしんさせ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5907240" y="236232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がっかりさせ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288200" y="2752560"/>
            <a:ext cx="2031840" cy="3278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1120" y="179280"/>
            <a:ext cx="7607520" cy="1911600"/>
          </a:xfrm>
          <a:prstGeom prst="wedgeRoundRectCallout">
            <a:avLst>
              <a:gd name="adj1" fmla="val 51175"/>
              <a:gd name="adj2" fmla="val 7280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295200" y="419040"/>
            <a:ext cx="7658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が いたいので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た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せていただけませんか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34240" y="1571760"/>
            <a:ext cx="2531880" cy="5462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2616120"/>
            <a:ext cx="1946160" cy="6418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235560" y="4002120"/>
            <a:ext cx="3002040" cy="26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449280" y="833400"/>
            <a:ext cx="4089240" cy="5345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329600" y="1863720"/>
            <a:ext cx="2016000" cy="755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354640" y="3792600"/>
            <a:ext cx="2252520" cy="1022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746600" y="4784760"/>
            <a:ext cx="5695920" cy="2898720"/>
          </a:xfrm>
          <a:prstGeom prst="rect">
            <a:avLst/>
          </a:prstGeom>
          <a:gradFill rotWithShape="0">
            <a:gsLst>
              <a:gs pos="0">
                <a:srgbClr val="b84700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593720" y="1839960"/>
            <a:ext cx="3867120" cy="7559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1120" y="181080"/>
            <a:ext cx="7607520" cy="1911240"/>
          </a:xfrm>
          <a:prstGeom prst="wedgeRoundRectCallout">
            <a:avLst>
              <a:gd name="adj1" fmla="val 10527"/>
              <a:gd name="adj2" fmla="val 9022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320760" y="1009800"/>
            <a:ext cx="741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 でんわ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わ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ていただけません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519120" y="393840"/>
            <a:ext cx="304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3680" y="2154240"/>
            <a:ext cx="3371760" cy="6400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72160" y="385920"/>
            <a:ext cx="4259160" cy="1911240"/>
          </a:xfrm>
          <a:prstGeom prst="wedgeRoundRectCallout">
            <a:avLst>
              <a:gd name="adj1" fmla="val -21699"/>
              <a:gd name="adj2" fmla="val 9491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>
            <a:off x="4575240" y="1162080"/>
            <a:ext cx="472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だけません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5342040" y="649440"/>
            <a:ext cx="3044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ひ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149400" y="334800"/>
            <a:ext cx="3963960" cy="1911600"/>
          </a:xfrm>
          <a:prstGeom prst="wedgeRoundRectCallout">
            <a:avLst>
              <a:gd name="adj1" fmla="val 9013"/>
              <a:gd name="adj2" fmla="val 868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550800" y="560520"/>
            <a:ext cx="38102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アメリカへ 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ごと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んだが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610320" y="2262240"/>
            <a:ext cx="25322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10078920" cy="7278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09680" y="4246560"/>
            <a:ext cx="3963960" cy="1911240"/>
          </a:xfrm>
          <a:prstGeom prst="wedgeRoundRectCallout">
            <a:avLst>
              <a:gd name="adj1" fmla="val -18305"/>
              <a:gd name="adj2" fmla="val -996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1181160" y="5075280"/>
            <a:ext cx="4387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わ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せん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1955880" y="4433760"/>
            <a:ext cx="3044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ぎ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9600" y="2208240"/>
            <a:ext cx="4349880" cy="3141720"/>
          </a:xfrm>
          <a:prstGeom prst="wedgeRoundRectCallout">
            <a:avLst>
              <a:gd name="adj1" fmla="val 55236"/>
              <a:gd name="adj2" fmla="val 9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181080" y="3036960"/>
            <a:ext cx="43876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ピアノ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らわ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ない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480960" y="242100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ねえ、おかあ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9600" y="2208240"/>
            <a:ext cx="4209840" cy="3141720"/>
          </a:xfrm>
          <a:prstGeom prst="wedgeRoundRectCallout">
            <a:avLst>
              <a:gd name="adj1" fmla="val 58763"/>
              <a:gd name="adj2" fmla="val 9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181080" y="3036960"/>
            <a:ext cx="43876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ピアノ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らわ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て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480960" y="242100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ねえ、おかあ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473720" y="461880"/>
            <a:ext cx="44751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だけません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ださいません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えません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せん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ださ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えない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ない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える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る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YOzFontNP04"/>
                <a:ea typeface="YOzFontNP04"/>
              </a:rPr>
              <a:t>く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1933560" y="519120"/>
            <a:ext cx="3348000" cy="66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すませ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すませ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さ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</a:t>
            </a:r>
            <a:r>
              <a:rPr b="0" lang="ja-JP" sz="3200" spc="-1" strike="noStrike">
                <a:solidFill>
                  <a:srgbClr val="0000ff"/>
                </a:solidFill>
                <a:latin typeface="YOzFontNP04"/>
                <a:ea typeface="YOzFontNP04"/>
              </a:rPr>
              <a:t>ろ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9280" y="293760"/>
            <a:ext cx="2590920" cy="5367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252520" y="1476360"/>
            <a:ext cx="1627200" cy="4267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565520" y="3795840"/>
            <a:ext cx="1344600" cy="6159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3527280" y="351000"/>
            <a:ext cx="6348600" cy="2114280"/>
          </a:xfrm>
          <a:prstGeom prst="roundRect">
            <a:avLst>
              <a:gd name="adj" fmla="val 7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3540240" y="539640"/>
            <a:ext cx="6350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しゃ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かせ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33926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229440" y="2860560"/>
            <a:ext cx="4059000" cy="5037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057560" y="3052800"/>
            <a:ext cx="188280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293760"/>
            <a:ext cx="2590920" cy="5367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52520" y="1476360"/>
            <a:ext cx="1627200" cy="4267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565520" y="3795840"/>
            <a:ext cx="1344600" cy="6159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3527280" y="351000"/>
            <a:ext cx="6348600" cy="2114280"/>
          </a:xfrm>
          <a:prstGeom prst="roundRect">
            <a:avLst>
              <a:gd name="adj" fmla="val 7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949320"/>
            <a:ext cx="5902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しゃ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かせら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33926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224320" y="26035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229440" y="2860560"/>
            <a:ext cx="4059000" cy="5037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4057560" y="3052800"/>
            <a:ext cx="1882800" cy="4057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652920" y="4935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1666800" y="219384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OzFontNP04"/>
                <a:ea typeface="YOzFontNP04"/>
              </a:rPr>
              <a:t>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1004760" y="2863800"/>
            <a:ext cx="356076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a +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ます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1781280" y="2179800"/>
            <a:ext cx="22381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703520" y="391788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OzFontNP04"/>
                <a:ea typeface="YOzFontNP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1643040" y="3916440"/>
            <a:ext cx="2238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ま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5373720" y="2247840"/>
            <a:ext cx="1119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6470640" y="228744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OzFontNP04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5402160" y="2903400"/>
            <a:ext cx="359100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ーｉ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/e → +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せます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6472080" y="2289240"/>
            <a:ext cx="2238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せ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5035680" y="3814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5361120" y="395604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6622920" y="3956040"/>
            <a:ext cx="17179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YOzFontNP04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6508800" y="3994200"/>
            <a:ext cx="2238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せ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477720" y="55548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4173480" y="5484960"/>
            <a:ext cx="5058000" cy="9032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す → こさせ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4187880" y="6545160"/>
            <a:ext cx="4762440" cy="86364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 → させ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5840" y="0"/>
            <a:ext cx="4838760" cy="1098720"/>
            <a:chOff x="285840" y="0"/>
            <a:chExt cx="4838760" cy="1098720"/>
          </a:xfrm>
        </p:grpSpPr>
        <p:sp>
          <p:nvSpPr>
            <p:cNvPr id="79" name=""/>
            <p:cNvSpPr/>
            <p:nvPr/>
          </p:nvSpPr>
          <p:spPr>
            <a:xfrm>
              <a:off x="285840" y="0"/>
              <a:ext cx="483876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しえき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25908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239760" y="561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4" name=""/>
          <p:cNvSpPr/>
          <p:nvPr/>
        </p:nvSpPr>
        <p:spPr>
          <a:xfrm>
            <a:off x="3473280" y="5634000"/>
            <a:ext cx="3502080" cy="9032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させられ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>
            <a:off x="3514680" y="6583320"/>
            <a:ext cx="2955960" cy="86364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せられ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85840" y="0"/>
            <a:ext cx="9307440" cy="1098720"/>
            <a:chOff x="285840" y="0"/>
            <a:chExt cx="9307440" cy="1098720"/>
          </a:xfrm>
        </p:grpSpPr>
        <p:sp>
          <p:nvSpPr>
            <p:cNvPr id="287" name=""/>
            <p:cNvSpPr/>
            <p:nvPr/>
          </p:nvSpPr>
          <p:spPr>
            <a:xfrm>
              <a:off x="285840" y="0"/>
              <a:ext cx="930744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しえきうけみ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64960" y="2249640"/>
            <a:ext cx="7270920" cy="8888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た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られます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た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され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9" name=""/>
          <p:cNvSpPr/>
          <p:nvPr/>
        </p:nvSpPr>
        <p:spPr>
          <a:xfrm>
            <a:off x="237960" y="4462560"/>
            <a:ext cx="3908520" cy="8888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させられ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379760" y="3382920"/>
            <a:ext cx="2478240" cy="3737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549680" y="2449440"/>
            <a:ext cx="2791080" cy="4505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844880" y="4484520"/>
            <a:ext cx="3495960" cy="3075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349960" y="4583160"/>
            <a:ext cx="1522440" cy="776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789600" y="4781520"/>
            <a:ext cx="1103400" cy="466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879560" y="1846440"/>
            <a:ext cx="3457440" cy="5019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087640" y="351000"/>
            <a:ext cx="7597800" cy="1250640"/>
          </a:xfrm>
          <a:prstGeom prst="roundRect">
            <a:avLst>
              <a:gd name="adj" fmla="val 12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173160" y="3276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7562880" y="343548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き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2359080" y="496800"/>
            <a:ext cx="736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きこちゃ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かせ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026040" y="3156120"/>
            <a:ext cx="981360" cy="5076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79760" y="3382920"/>
            <a:ext cx="2478240" cy="3737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549680" y="2449440"/>
            <a:ext cx="2791080" cy="4505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844880" y="4484520"/>
            <a:ext cx="3495960" cy="3075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349960" y="4583160"/>
            <a:ext cx="1522440" cy="7761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6789600" y="4781520"/>
            <a:ext cx="1103400" cy="466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421240" y="360360"/>
            <a:ext cx="4494240" cy="2270160"/>
          </a:xfrm>
          <a:prstGeom prst="roundRect">
            <a:avLst>
              <a:gd name="adj" fmla="val 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173160" y="3276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8" name=""/>
          <p:cNvSpPr/>
          <p:nvPr/>
        </p:nvSpPr>
        <p:spPr>
          <a:xfrm>
            <a:off x="7562880" y="343548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5540400" y="981000"/>
            <a:ext cx="4572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かせられました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かさ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026040" y="3156120"/>
            <a:ext cx="981360" cy="5076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1" name=""/>
          <p:cNvSpPr/>
          <p:nvPr/>
        </p:nvSpPr>
        <p:spPr>
          <a:xfrm>
            <a:off x="5616720" y="4809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70040" y="35100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3" name=""/>
          <p:cNvSpPr/>
          <p:nvPr/>
        </p:nvSpPr>
        <p:spPr>
          <a:xfrm>
            <a:off x="836640" y="687240"/>
            <a:ext cx="9499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くえの うえ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を</a:t>
            </a:r>
            <a:r>
              <a:rPr b="0" lang="en-US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 かたづけ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19480" y="235080"/>
            <a:ext cx="6592680" cy="183024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303120"/>
            <a:ext cx="6153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ぼ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くえの うえ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たづけさせられ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6" name=""/>
          <p:cNvSpPr/>
          <p:nvPr/>
        </p:nvSpPr>
        <p:spPr>
          <a:xfrm>
            <a:off x="7562880" y="3435480"/>
            <a:ext cx="101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ぼ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36720" y="561024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1003320" y="594684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じ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>
            <a:off x="565200" y="-217440"/>
            <a:ext cx="4784760" cy="466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36720" y="561024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>
            <a:off x="1003320" y="594684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じさせられ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2" name=""/>
          <p:cNvSpPr/>
          <p:nvPr/>
        </p:nvSpPr>
        <p:spPr>
          <a:xfrm>
            <a:off x="565200" y="-217440"/>
            <a:ext cx="4784760" cy="466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3" name=""/>
          <p:cNvSpPr/>
          <p:nvPr/>
        </p:nvSpPr>
        <p:spPr>
          <a:xfrm>
            <a:off x="1854360" y="369720"/>
            <a:ext cx="1523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36720" y="561024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>
            <a:off x="1003320" y="594684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いもの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6" name=""/>
          <p:cNvSpPr/>
          <p:nvPr/>
        </p:nvSpPr>
        <p:spPr>
          <a:xfrm>
            <a:off x="5425920" y="885960"/>
            <a:ext cx="4784760" cy="466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36720" y="561024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8" name=""/>
          <p:cNvSpPr/>
          <p:nvPr/>
        </p:nvSpPr>
        <p:spPr>
          <a:xfrm>
            <a:off x="1003320" y="5946840"/>
            <a:ext cx="6426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いものさせられ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9" name=""/>
          <p:cNvSpPr/>
          <p:nvPr/>
        </p:nvSpPr>
        <p:spPr>
          <a:xfrm>
            <a:off x="5425920" y="885960"/>
            <a:ext cx="4784760" cy="466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0" name=""/>
          <p:cNvSpPr/>
          <p:nvPr/>
        </p:nvSpPr>
        <p:spPr>
          <a:xfrm>
            <a:off x="8434440" y="216540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-1231920" y="2206800"/>
            <a:ext cx="9647280" cy="5352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2" name=""/>
          <p:cNvSpPr/>
          <p:nvPr/>
        </p:nvSpPr>
        <p:spPr>
          <a:xfrm>
            <a:off x="1193760" y="492120"/>
            <a:ext cx="597708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>
            <a:off x="1260360" y="82872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んたく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5200" y="423720"/>
            <a:ext cx="6388200" cy="1757520"/>
          </a:xfrm>
          <a:prstGeom prst="wedgeRoundRectCallout">
            <a:avLst>
              <a:gd name="adj1" fmla="val 2000"/>
              <a:gd name="adj2" fmla="val 6603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3680" y="2154240"/>
            <a:ext cx="3371760" cy="6400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94120" y="2732040"/>
            <a:ext cx="2419560" cy="6515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24280" y="5445000"/>
            <a:ext cx="6730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3209760" y="5675400"/>
            <a:ext cx="6426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ゅっちょう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2741760" y="339084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7432560" y="44751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1271520" y="865080"/>
            <a:ext cx="45118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らいしゅう、ふくおかへ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しゅっちょうしてくれ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6299280" y="1628640"/>
            <a:ext cx="3489120" cy="1282680"/>
          </a:xfrm>
          <a:prstGeom prst="wedgeRoundRectCallout">
            <a:avLst>
              <a:gd name="adj1" fmla="val -46328"/>
              <a:gd name="adj2" fmla="val 760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6486480" y="2055960"/>
            <a:ext cx="359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-1231920" y="2206800"/>
            <a:ext cx="9647280" cy="5352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5" name=""/>
          <p:cNvSpPr/>
          <p:nvPr/>
        </p:nvSpPr>
        <p:spPr>
          <a:xfrm>
            <a:off x="1193760" y="492120"/>
            <a:ext cx="597708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1260360" y="828720"/>
            <a:ext cx="6426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せんたくさせられ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5227560" y="4192560"/>
            <a:ext cx="152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247680"/>
            <a:ext cx="10078920" cy="7311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52920" y="196920"/>
            <a:ext cx="5392800" cy="1946160"/>
          </a:xfrm>
          <a:prstGeom prst="roundRect">
            <a:avLst>
              <a:gd name="adj" fmla="val 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4795920" y="384120"/>
            <a:ext cx="48258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むりやり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ラオケ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たわせられます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たわされ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1" name=""/>
          <p:cNvSpPr/>
          <p:nvPr/>
        </p:nvSpPr>
        <p:spPr>
          <a:xfrm>
            <a:off x="4535640" y="356400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532640" y="1368360"/>
            <a:ext cx="2032200" cy="3278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78000" y="5748480"/>
            <a:ext cx="65041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5954760"/>
            <a:ext cx="6426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たい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5" name=""/>
          <p:cNvSpPr/>
          <p:nvPr/>
        </p:nvSpPr>
        <p:spPr>
          <a:xfrm>
            <a:off x="719280" y="179280"/>
            <a:ext cx="6453000" cy="1911600"/>
          </a:xfrm>
          <a:prstGeom prst="wedgeRoundRectCallout">
            <a:avLst>
              <a:gd name="adj1" fmla="val 62907"/>
              <a:gd name="adj2" fmla="val -974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>
            <a:off x="619200" y="419040"/>
            <a:ext cx="6411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が いたいので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たいしてもいい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1782720" y="2232000"/>
            <a:ext cx="3886200" cy="1565280"/>
          </a:xfrm>
          <a:prstGeom prst="wedgeRoundRectCallout">
            <a:avLst>
              <a:gd name="adj1" fmla="val -52629"/>
              <a:gd name="adj2" fmla="val 4590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8" name=""/>
          <p:cNvSpPr/>
          <p:nvPr/>
        </p:nvSpPr>
        <p:spPr>
          <a:xfrm>
            <a:off x="1987560" y="2462040"/>
            <a:ext cx="35593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だいじに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078680" y="18576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1946160" cy="6418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480000" y="2616120"/>
            <a:ext cx="3002040" cy="26830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023240" y="2089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532640" y="1368360"/>
            <a:ext cx="2032200" cy="3278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078000" y="5592600"/>
            <a:ext cx="6504120" cy="178128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5" name=""/>
          <p:cNvSpPr/>
          <p:nvPr/>
        </p:nvSpPr>
        <p:spPr>
          <a:xfrm>
            <a:off x="3052800" y="5673600"/>
            <a:ext cx="5308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たいさせ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だき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719280" y="179280"/>
            <a:ext cx="6453000" cy="1911600"/>
          </a:xfrm>
          <a:prstGeom prst="wedgeRoundRectCallout">
            <a:avLst>
              <a:gd name="adj1" fmla="val 62907"/>
              <a:gd name="adj2" fmla="val -974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7" name=""/>
          <p:cNvSpPr/>
          <p:nvPr/>
        </p:nvSpPr>
        <p:spPr>
          <a:xfrm>
            <a:off x="385920" y="433440"/>
            <a:ext cx="6230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が いたいので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たいしてもいい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>
            <a:off x="1782720" y="2232000"/>
            <a:ext cx="3886200" cy="1565280"/>
          </a:xfrm>
          <a:prstGeom prst="wedgeRoundRectCallout">
            <a:avLst>
              <a:gd name="adj1" fmla="val -52629"/>
              <a:gd name="adj2" fmla="val 4590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9" name=""/>
          <p:cNvSpPr/>
          <p:nvPr/>
        </p:nvSpPr>
        <p:spPr>
          <a:xfrm>
            <a:off x="1944720" y="2489040"/>
            <a:ext cx="35449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だいじに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7078680" y="18576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1946160" cy="6418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480000" y="2616120"/>
            <a:ext cx="3002040" cy="2683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023240" y="2089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32640" y="1368360"/>
            <a:ext cx="2032200" cy="3278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078000" y="5592600"/>
            <a:ext cx="6504120" cy="178128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6" name=""/>
          <p:cNvSpPr/>
          <p:nvPr/>
        </p:nvSpPr>
        <p:spPr>
          <a:xfrm>
            <a:off x="3052800" y="5673600"/>
            <a:ext cx="5308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たいさせ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ださい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7" name=""/>
          <p:cNvSpPr/>
          <p:nvPr/>
        </p:nvSpPr>
        <p:spPr>
          <a:xfrm>
            <a:off x="719280" y="179280"/>
            <a:ext cx="6453000" cy="1911600"/>
          </a:xfrm>
          <a:prstGeom prst="wedgeRoundRectCallout">
            <a:avLst>
              <a:gd name="adj1" fmla="val 62907"/>
              <a:gd name="adj2" fmla="val -974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8" name=""/>
          <p:cNvSpPr/>
          <p:nvPr/>
        </p:nvSpPr>
        <p:spPr>
          <a:xfrm>
            <a:off x="760320" y="419040"/>
            <a:ext cx="6270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が いたいので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たいしてもいい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9" name=""/>
          <p:cNvSpPr/>
          <p:nvPr/>
        </p:nvSpPr>
        <p:spPr>
          <a:xfrm>
            <a:off x="1782720" y="2232000"/>
            <a:ext cx="3886200" cy="1565280"/>
          </a:xfrm>
          <a:prstGeom prst="wedgeRoundRectCallout">
            <a:avLst>
              <a:gd name="adj1" fmla="val -52629"/>
              <a:gd name="adj2" fmla="val 4590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2068560" y="2462040"/>
            <a:ext cx="33447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だいじに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078680" y="18576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1946160" cy="6418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480000" y="2616120"/>
            <a:ext cx="3002040" cy="2683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023240" y="2089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8280" y="139680"/>
            <a:ext cx="6639120" cy="2997360"/>
          </a:xfrm>
          <a:prstGeom prst="roundRect">
            <a:avLst>
              <a:gd name="adj" fmla="val 5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4880" y="798480"/>
            <a:ext cx="4873680" cy="2238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865160" y="2908440"/>
            <a:ext cx="2934000" cy="71150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568520" y="3052800"/>
            <a:ext cx="658800" cy="65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9" name=""/>
          <p:cNvSpPr/>
          <p:nvPr/>
        </p:nvSpPr>
        <p:spPr>
          <a:xfrm>
            <a:off x="2254320" y="3306600"/>
            <a:ext cx="49032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0" name=""/>
          <p:cNvSpPr/>
          <p:nvPr/>
        </p:nvSpPr>
        <p:spPr>
          <a:xfrm>
            <a:off x="4889520" y="3278160"/>
            <a:ext cx="4986360" cy="1428840"/>
          </a:xfrm>
          <a:prstGeom prst="roundRect">
            <a:avLst>
              <a:gd name="adj" fmla="val 1255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1" name=""/>
          <p:cNvSpPr/>
          <p:nvPr/>
        </p:nvSpPr>
        <p:spPr>
          <a:xfrm>
            <a:off x="5041800" y="3379680"/>
            <a:ext cx="46245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0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ぼくの かのじょ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どいんですよ。わたし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つもーさせられるん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2" name=""/>
          <p:cNvSpPr/>
          <p:nvPr/>
        </p:nvSpPr>
        <p:spPr>
          <a:xfrm>
            <a:off x="5183280" y="4889520"/>
            <a:ext cx="32526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はんを つく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たくする 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3" name=""/>
          <p:cNvSpPr/>
          <p:nvPr/>
        </p:nvSpPr>
        <p:spPr>
          <a:xfrm>
            <a:off x="4295880" y="5950080"/>
            <a:ext cx="5645160" cy="1428480"/>
          </a:xfrm>
          <a:prstGeom prst="roundRect">
            <a:avLst>
              <a:gd name="adj" fmla="val 1255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6159600"/>
            <a:ext cx="5813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きどき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してもらいた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し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させてもらいた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し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98280" y="139680"/>
            <a:ext cx="6639120" cy="2997360"/>
          </a:xfrm>
          <a:prstGeom prst="roundRect">
            <a:avLst>
              <a:gd name="adj" fmla="val 5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76320" y="2790720"/>
            <a:ext cx="3078360" cy="71294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568520" y="3052800"/>
            <a:ext cx="658800" cy="65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8" name=""/>
          <p:cNvSpPr/>
          <p:nvPr/>
        </p:nvSpPr>
        <p:spPr>
          <a:xfrm>
            <a:off x="2254320" y="3306600"/>
            <a:ext cx="49032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9" name=""/>
          <p:cNvSpPr/>
          <p:nvPr/>
        </p:nvSpPr>
        <p:spPr>
          <a:xfrm>
            <a:off x="4930920" y="3179880"/>
            <a:ext cx="4986360" cy="1428480"/>
          </a:xfrm>
          <a:prstGeom prst="roundRect">
            <a:avLst>
              <a:gd name="adj" fmla="val 1255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0" name=""/>
          <p:cNvSpPr/>
          <p:nvPr/>
        </p:nvSpPr>
        <p:spPr>
          <a:xfrm>
            <a:off x="5224320" y="3473280"/>
            <a:ext cx="462456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0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の かれ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どいんですよ。わたし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つもーさせられるん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47560" y="182520"/>
            <a:ext cx="4662720" cy="2871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283360" y="4762440"/>
            <a:ext cx="459396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デートの おかねを はらう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ばこを かいに いく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3" name=""/>
          <p:cNvSpPr/>
          <p:nvPr/>
        </p:nvSpPr>
        <p:spPr>
          <a:xfrm>
            <a:off x="4033800" y="6046920"/>
            <a:ext cx="5645160" cy="1428480"/>
          </a:xfrm>
          <a:prstGeom prst="roundRect">
            <a:avLst>
              <a:gd name="adj" fmla="val 1255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4" name=""/>
          <p:cNvSpPr/>
          <p:nvPr/>
        </p:nvSpPr>
        <p:spPr>
          <a:xfrm>
            <a:off x="4187880" y="6257880"/>
            <a:ext cx="58132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きどき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してもらいた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し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させてもらいた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しい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32640" y="1368360"/>
            <a:ext cx="2032200" cy="3278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78000" y="5748480"/>
            <a:ext cx="65041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3257640" y="5954760"/>
            <a:ext cx="6426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たい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182520" y="179280"/>
            <a:ext cx="6988320" cy="1911600"/>
          </a:xfrm>
          <a:prstGeom prst="wedgeRoundRectCallout">
            <a:avLst>
              <a:gd name="adj1" fmla="val 61916"/>
              <a:gd name="adj2" fmla="val -975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422280" y="419040"/>
            <a:ext cx="660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が いたいので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たいしてもいい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1782720" y="2232000"/>
            <a:ext cx="3886200" cy="1565280"/>
          </a:xfrm>
          <a:prstGeom prst="wedgeRoundRectCallout">
            <a:avLst>
              <a:gd name="adj1" fmla="val -52629"/>
              <a:gd name="adj2" fmla="val 4590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844640" y="2673360"/>
            <a:ext cx="333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だいじに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78680" y="18576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2920" y="2962440"/>
            <a:ext cx="1946160" cy="6418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480000" y="2616120"/>
            <a:ext cx="3002040" cy="268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023240" y="2089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198960" y="2590920"/>
            <a:ext cx="2222280" cy="3541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1"/>
          <a:stretch/>
        </p:blipFill>
        <p:spPr>
          <a:xfrm>
            <a:off x="6951600" y="2668680"/>
            <a:ext cx="2990880" cy="651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59560" y="504720"/>
            <a:ext cx="4286160" cy="2017800"/>
          </a:xfrm>
          <a:prstGeom prst="roundRect">
            <a:avLst>
              <a:gd name="adj" fmla="val 88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700200"/>
            <a:ext cx="4475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かしょ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んで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5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6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7"/>
          <a:stretch/>
        </p:blipFill>
        <p:spPr>
          <a:xfrm>
            <a:off x="3193920" y="2508120"/>
            <a:ext cx="2278080" cy="371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62000" y="351000"/>
            <a:ext cx="785196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>
            <a:off x="2297160" y="700200"/>
            <a:ext cx="7543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くらちゃ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かしょ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を</a:t>
            </a:r>
            <a:r>
              <a:rPr b="0" lang="en-US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 よま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6951600" y="2668680"/>
            <a:ext cx="2990880" cy="65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0040" y="35100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836640" y="687240"/>
            <a:ext cx="9499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くえの うえ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を</a:t>
            </a:r>
            <a:r>
              <a:rPr b="0" lang="en-US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 かたづけ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36720" y="5610240"/>
            <a:ext cx="9043920" cy="162720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1003320" y="594684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あ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じさせ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565200" y="-217440"/>
            <a:ext cx="4784760" cy="466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22:10:48Z</dcterms:created>
  <dc:creator/>
  <dc:description/>
  <dc:language>en-US</dc:language>
  <cp:lastModifiedBy/>
  <dcterms:modified xsi:type="dcterms:W3CDTF">2016-05-24T19:32:44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