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36036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5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97964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8000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389240" y="4568760"/>
            <a:ext cx="83232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と …で ーへ いきます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ます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えり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1360" y="4691160"/>
            <a:ext cx="3411360" cy="2033640"/>
          </a:xfrm>
          <a:prstGeom prst="roundRect">
            <a:avLst>
              <a:gd name="adj" fmla="val 7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し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3913200" cy="3771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57600" y="2046240"/>
            <a:ext cx="328428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5" name=""/>
          <p:cNvSpPr/>
          <p:nvPr/>
        </p:nvSpPr>
        <p:spPr>
          <a:xfrm>
            <a:off x="5316480" y="426960"/>
            <a:ext cx="4122720" cy="3013200"/>
          </a:xfrm>
          <a:prstGeom prst="line">
            <a:avLst/>
          </a:prstGeom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313240" y="426960"/>
            <a:ext cx="4129200" cy="3013200"/>
          </a:xfrm>
          <a:prstGeom prst="line">
            <a:avLst/>
          </a:prstGeom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95560" y="4917960"/>
            <a:ext cx="5840640" cy="1589040"/>
            <a:chOff x="3895560" y="4917960"/>
            <a:chExt cx="5840640" cy="1589040"/>
          </a:xfrm>
        </p:grpSpPr>
        <p:sp>
          <p:nvSpPr>
            <p:cNvPr id="108" name=""/>
            <p:cNvSpPr/>
            <p:nvPr/>
          </p:nvSpPr>
          <p:spPr>
            <a:xfrm>
              <a:off x="3895560" y="4917960"/>
              <a:ext cx="5840640" cy="1589040"/>
            </a:xfrm>
            <a:prstGeom prst="roundRect">
              <a:avLst>
                <a:gd name="adj" fmla="val 9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どこも</a:t>
              </a:r>
              <a:r>
                <a:rPr b="0" lang="en-US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いき</a:t>
              </a:r>
              <a:r>
                <a:rPr b="0" lang="ja-JP" sz="48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ません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22640" y="6156360"/>
              <a:ext cx="1516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(</a:t>
              </a: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どこへも</a:t>
              </a:r>
              <a:r>
                <a:rPr b="0" lang="en-US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8240" y="46836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3913200" cy="3771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8520" y="4734000"/>
            <a:ext cx="2019240" cy="1990800"/>
          </a:xfrm>
          <a:prstGeom prst="roundRect">
            <a:avLst>
              <a:gd name="adj" fmla="val 7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う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3" name=""/>
          <p:cNvSpPr/>
          <p:nvPr/>
        </p:nvSpPr>
        <p:spPr>
          <a:xfrm>
            <a:off x="2757600" y="2046240"/>
            <a:ext cx="328428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4" name=""/>
          <p:cNvSpPr/>
          <p:nvPr/>
        </p:nvSpPr>
        <p:spPr>
          <a:xfrm>
            <a:off x="5316480" y="426960"/>
            <a:ext cx="4122720" cy="3013200"/>
          </a:xfrm>
          <a:prstGeom prst="line">
            <a:avLst/>
          </a:prstGeom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313240" y="426960"/>
            <a:ext cx="4129200" cy="3013200"/>
          </a:xfrm>
          <a:prstGeom prst="line">
            <a:avLst/>
          </a:prstGeom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189160" y="4776840"/>
            <a:ext cx="7800840" cy="1744560"/>
            <a:chOff x="2189160" y="4776840"/>
            <a:chExt cx="7800840" cy="1744560"/>
          </a:xfrm>
        </p:grpSpPr>
        <p:sp>
          <p:nvSpPr>
            <p:cNvPr id="117" name=""/>
            <p:cNvSpPr/>
            <p:nvPr/>
          </p:nvSpPr>
          <p:spPr>
            <a:xfrm>
              <a:off x="2189160" y="4776840"/>
              <a:ext cx="7800840" cy="1744560"/>
            </a:xfrm>
            <a:prstGeom prst="roundRect">
              <a:avLst>
                <a:gd name="adj" fmla="val 8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どこも</a:t>
              </a:r>
              <a:r>
                <a:rPr b="0" lang="en-US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いき</a:t>
              </a:r>
              <a:r>
                <a:rPr b="0" lang="ja-JP" sz="48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ませんでした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0520" y="6135840"/>
              <a:ext cx="20257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(</a:t>
              </a: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どこへも</a:t>
              </a:r>
              <a:r>
                <a:rPr b="0" lang="en-US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8240" y="46836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36680" y="2075040"/>
            <a:ext cx="3284640" cy="144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>
            <a:off x="441360" y="4691160"/>
            <a:ext cx="3411360" cy="2033640"/>
          </a:xfrm>
          <a:prstGeom prst="roundRect">
            <a:avLst>
              <a:gd name="adj" fmla="val 7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う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2" name=""/>
          <p:cNvSpPr/>
          <p:nvPr/>
        </p:nvSpPr>
        <p:spPr>
          <a:xfrm>
            <a:off x="5786280" y="1052640"/>
            <a:ext cx="3753000" cy="20192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3" name=""/>
          <p:cNvSpPr/>
          <p:nvPr/>
        </p:nvSpPr>
        <p:spPr>
          <a:xfrm>
            <a:off x="511200" y="155520"/>
            <a:ext cx="4278240" cy="1095480"/>
          </a:xfrm>
          <a:prstGeom prst="roundRect">
            <a:avLst>
              <a:gd name="adj" fmla="val 14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―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492800" cy="3141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4759200" y="2046240"/>
            <a:ext cx="3959280" cy="44136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6" name=""/>
          <p:cNvSpPr/>
          <p:nvPr/>
        </p:nvSpPr>
        <p:spPr>
          <a:xfrm>
            <a:off x="569880" y="6215040"/>
            <a:ext cx="2246400" cy="1108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60720" y="4889520"/>
            <a:ext cx="7800840" cy="1305000"/>
            <a:chOff x="2160720" y="4889520"/>
            <a:chExt cx="7800840" cy="1305000"/>
          </a:xfrm>
        </p:grpSpPr>
        <p:sp>
          <p:nvSpPr>
            <p:cNvPr id="128" name=""/>
            <p:cNvSpPr/>
            <p:nvPr/>
          </p:nvSpPr>
          <p:spPr>
            <a:xfrm>
              <a:off x="2160720" y="4889520"/>
              <a:ext cx="7800840" cy="1305000"/>
            </a:xfrm>
            <a:prstGeom prst="roundRect">
              <a:avLst>
                <a:gd name="adj" fmla="val 12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きょうこさん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は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だいがく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へ</a:t>
              </a:r>
              <a:r>
                <a:rPr b="0" lang="en-US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</a:t>
              </a:r>
              <a:r>
                <a:rPr b="0" lang="ja-JP" sz="40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きます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548160" y="157320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492800" cy="3141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H="1">
            <a:off x="4759200" y="2046240"/>
            <a:ext cx="3959280" cy="44136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2" name=""/>
          <p:cNvSpPr/>
          <p:nvPr/>
        </p:nvSpPr>
        <p:spPr>
          <a:xfrm>
            <a:off x="808200" y="6181560"/>
            <a:ext cx="2246040" cy="1108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3" name=""/>
          <p:cNvSpPr/>
          <p:nvPr/>
        </p:nvSpPr>
        <p:spPr>
          <a:xfrm>
            <a:off x="4151160" y="4876920"/>
            <a:ext cx="5586480" cy="1307880"/>
          </a:xfrm>
          <a:prstGeom prst="roundRect">
            <a:avLst>
              <a:gd name="adj" fmla="val 12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がく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ました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4" name=""/>
          <p:cNvSpPr/>
          <p:nvPr/>
        </p:nvSpPr>
        <p:spPr>
          <a:xfrm>
            <a:off x="6497640" y="4932360"/>
            <a:ext cx="30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5" name=""/>
          <p:cNvSpPr/>
          <p:nvPr/>
        </p:nvSpPr>
        <p:spPr>
          <a:xfrm>
            <a:off x="4506840" y="527040"/>
            <a:ext cx="4278240" cy="1095480"/>
          </a:xfrm>
          <a:prstGeom prst="roundRect">
            <a:avLst>
              <a:gd name="adj" fmla="val 14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―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6" name=""/>
          <p:cNvSpPr/>
          <p:nvPr/>
        </p:nvSpPr>
        <p:spPr>
          <a:xfrm>
            <a:off x="2257560" y="4699080"/>
            <a:ext cx="1962000" cy="12081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?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じ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7" name=""/>
          <p:cNvSpPr/>
          <p:nvPr/>
        </p:nvSpPr>
        <p:spPr>
          <a:xfrm>
            <a:off x="4141800" y="4619520"/>
            <a:ext cx="1179360" cy="1208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8" name=""/>
          <p:cNvSpPr/>
          <p:nvPr/>
        </p:nvSpPr>
        <p:spPr>
          <a:xfrm>
            <a:off x="4389480" y="4844880"/>
            <a:ext cx="838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25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6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6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7760" y="3705120"/>
            <a:ext cx="4116240" cy="324648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624120" y="4803840"/>
            <a:ext cx="6097680" cy="1263600"/>
            <a:chOff x="3624120" y="4803840"/>
            <a:chExt cx="6097680" cy="1263600"/>
          </a:xfrm>
        </p:grpSpPr>
        <p:sp>
          <p:nvSpPr>
            <p:cNvPr id="141" name=""/>
            <p:cNvSpPr/>
            <p:nvPr/>
          </p:nvSpPr>
          <p:spPr>
            <a:xfrm>
              <a:off x="3624120" y="4803840"/>
              <a:ext cx="6097680" cy="1263600"/>
            </a:xfrm>
            <a:prstGeom prst="roundRect">
              <a:avLst>
                <a:gd name="adj" fmla="val 12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66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うち</a:t>
              </a:r>
              <a:r>
                <a:rPr b="0" lang="ja-JP" sz="5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へ</a:t>
              </a:r>
              <a:r>
                <a:rPr b="0" lang="ja-JP" sz="5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かえります</a:t>
              </a: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924200" y="3546360"/>
            <a:ext cx="1376280" cy="3649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189240" y="1060560"/>
            <a:ext cx="3613320" cy="2816280"/>
          </a:xfrm>
          <a:custGeom>
            <a:avLst/>
            <a:gdLst/>
            <a:ahLst/>
            <a:rect l="l" t="t" r="r" b="b"/>
            <a:pathLst>
              <a:path w="10035" h="7824">
                <a:moveTo>
                  <a:pt x="443" y="7823"/>
                </a:moveTo>
                <a:cubicBezTo>
                  <a:pt x="309" y="7149"/>
                  <a:pt x="0" y="6476"/>
                  <a:pt x="159" y="5744"/>
                </a:cubicBezTo>
                <a:cubicBezTo>
                  <a:pt x="322" y="4995"/>
                  <a:pt x="806" y="4375"/>
                  <a:pt x="1388" y="3949"/>
                </a:cubicBezTo>
                <a:cubicBezTo>
                  <a:pt x="2026" y="3481"/>
                  <a:pt x="2592" y="2955"/>
                  <a:pt x="3372" y="2626"/>
                </a:cubicBezTo>
                <a:cubicBezTo>
                  <a:pt x="4158" y="2294"/>
                  <a:pt x="4857" y="1820"/>
                  <a:pt x="5640" y="1492"/>
                </a:cubicBezTo>
                <a:cubicBezTo>
                  <a:pt x="6479" y="1141"/>
                  <a:pt x="7320" y="803"/>
                  <a:pt x="8191" y="547"/>
                </a:cubicBezTo>
                <a:cubicBezTo>
                  <a:pt x="8696" y="399"/>
                  <a:pt x="9193" y="0"/>
                  <a:pt x="9750" y="216"/>
                </a:cubicBezTo>
                <a:lnTo>
                  <a:pt x="10034" y="500"/>
                </a:lnTo>
              </a:path>
            </a:pathLst>
          </a:custGeom>
          <a:noFill/>
          <a:ln w="14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4" name=""/>
          <p:cNvSpPr/>
          <p:nvPr/>
        </p:nvSpPr>
        <p:spPr>
          <a:xfrm>
            <a:off x="4268880" y="3009960"/>
            <a:ext cx="4149720" cy="1957320"/>
          </a:xfrm>
          <a:custGeom>
            <a:avLst/>
            <a:gdLst/>
            <a:ahLst/>
            <a:rect l="l" t="t" r="r" b="b"/>
            <a:pathLst>
              <a:path w="11529" h="5435">
                <a:moveTo>
                  <a:pt x="11528" y="0"/>
                </a:moveTo>
                <a:cubicBezTo>
                  <a:pt x="11347" y="596"/>
                  <a:pt x="11060" y="1162"/>
                  <a:pt x="10678" y="1654"/>
                </a:cubicBezTo>
                <a:cubicBezTo>
                  <a:pt x="10221" y="2244"/>
                  <a:pt x="9421" y="2318"/>
                  <a:pt x="8883" y="2788"/>
                </a:cubicBezTo>
                <a:cubicBezTo>
                  <a:pt x="8158" y="3422"/>
                  <a:pt x="7190" y="3461"/>
                  <a:pt x="6426" y="4016"/>
                </a:cubicBezTo>
                <a:cubicBezTo>
                  <a:pt x="5922" y="4382"/>
                  <a:pt x="5337" y="4336"/>
                  <a:pt x="4725" y="4583"/>
                </a:cubicBezTo>
                <a:cubicBezTo>
                  <a:pt x="4126" y="4825"/>
                  <a:pt x="3556" y="4890"/>
                  <a:pt x="2929" y="5056"/>
                </a:cubicBezTo>
                <a:cubicBezTo>
                  <a:pt x="2282" y="5227"/>
                  <a:pt x="1662" y="5269"/>
                  <a:pt x="1040" y="5434"/>
                </a:cubicBezTo>
                <a:lnTo>
                  <a:pt x="520" y="5339"/>
                </a:lnTo>
                <a:lnTo>
                  <a:pt x="47" y="5245"/>
                </a:lnTo>
                <a:lnTo>
                  <a:pt x="0" y="5150"/>
                </a:lnTo>
              </a:path>
            </a:pathLst>
          </a:custGeom>
          <a:noFill/>
          <a:ln w="14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494400" y="566640"/>
            <a:ext cx="3586320" cy="23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766800"/>
            <a:ext cx="2971800" cy="1251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ボルドー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3084480" y="1434960"/>
            <a:ext cx="2401920" cy="1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8" name=""/>
          <p:cNvSpPr/>
          <p:nvPr/>
        </p:nvSpPr>
        <p:spPr>
          <a:xfrm>
            <a:off x="5559480" y="739800"/>
            <a:ext cx="2971800" cy="1251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パリ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9" name=""/>
          <p:cNvSpPr/>
          <p:nvPr/>
        </p:nvSpPr>
        <p:spPr>
          <a:xfrm>
            <a:off x="2117880" y="1805040"/>
            <a:ext cx="1947600" cy="1009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ら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0" name=""/>
          <p:cNvSpPr/>
          <p:nvPr/>
        </p:nvSpPr>
        <p:spPr>
          <a:xfrm>
            <a:off x="7719840" y="1847880"/>
            <a:ext cx="1947960" cy="10098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へ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22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で</a:t>
            </a:r>
            <a:r>
              <a:rPr b="0" lang="en-US" sz="22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1" name=""/>
          <p:cNvSpPr/>
          <p:nvPr/>
        </p:nvSpPr>
        <p:spPr>
          <a:xfrm>
            <a:off x="5189400" y="3298680"/>
            <a:ext cx="4521240" cy="106524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き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257560"/>
            <a:ext cx="3413160" cy="2363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8240" y="3697200"/>
            <a:ext cx="1735200" cy="938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759200" y="2046240"/>
            <a:ext cx="3959280" cy="44136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81080" y="4917960"/>
            <a:ext cx="8089920" cy="1305000"/>
            <a:chOff x="1081080" y="4917960"/>
            <a:chExt cx="8089920" cy="1305000"/>
          </a:xfrm>
        </p:grpSpPr>
        <p:sp>
          <p:nvSpPr>
            <p:cNvPr id="156" name=""/>
            <p:cNvSpPr/>
            <p:nvPr/>
          </p:nvSpPr>
          <p:spPr>
            <a:xfrm>
              <a:off x="1081080" y="4917960"/>
              <a:ext cx="8089920" cy="1305000"/>
            </a:xfrm>
            <a:prstGeom prst="roundRect">
              <a:avLst>
                <a:gd name="adj" fmla="val 12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バス</a:t>
              </a:r>
              <a:r>
                <a:rPr b="0" lang="ja-JP" sz="4800" spc="-1" strike="noStrike" u="sng">
                  <a:solidFill>
                    <a:srgbClr val="800000"/>
                  </a:solidFill>
                  <a:uFillTx/>
                  <a:latin typeface="YOzFontNP04"/>
                  <a:ea typeface="YOzFontNP04"/>
                </a:rPr>
                <a:t>で</a:t>
              </a:r>
              <a:r>
                <a:rPr b="0" lang="en-US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だいがく</a:t>
              </a:r>
              <a:r>
                <a:rPr b="0" lang="ja-JP" sz="48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へ</a:t>
              </a:r>
              <a:r>
                <a:rPr b="0" lang="en-US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きま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89320" y="1976400"/>
            <a:ext cx="3022560" cy="284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451240" y="1292400"/>
            <a:ext cx="1376280" cy="36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2257560"/>
            <a:ext cx="3413160" cy="2363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68240" y="3697200"/>
            <a:ext cx="1735200" cy="938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59200" y="2046240"/>
            <a:ext cx="3959280" cy="44136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081080" y="4917960"/>
            <a:ext cx="8710560" cy="1305000"/>
            <a:chOff x="1081080" y="4917960"/>
            <a:chExt cx="8710560" cy="1305000"/>
          </a:xfrm>
        </p:grpSpPr>
        <p:sp>
          <p:nvSpPr>
            <p:cNvPr id="163" name=""/>
            <p:cNvSpPr/>
            <p:nvPr/>
          </p:nvSpPr>
          <p:spPr>
            <a:xfrm>
              <a:off x="1081080" y="4917960"/>
              <a:ext cx="8710560" cy="1305000"/>
            </a:xfrm>
            <a:prstGeom prst="roundRect">
              <a:avLst>
                <a:gd name="adj" fmla="val 12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くるま</a:t>
              </a:r>
              <a:r>
                <a:rPr b="0" lang="ja-JP" sz="4800" spc="-1" strike="noStrike" u="sng">
                  <a:solidFill>
                    <a:srgbClr val="800000"/>
                  </a:solidFill>
                  <a:uFillTx/>
                  <a:latin typeface="YOzFontNP04"/>
                  <a:ea typeface="YOzFontNP04"/>
                </a:rPr>
                <a:t>で</a:t>
              </a:r>
              <a:r>
                <a:rPr b="0" lang="en-US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だいがく</a:t>
              </a:r>
              <a:r>
                <a:rPr b="0" lang="ja-JP" sz="48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へ</a:t>
              </a:r>
              <a:r>
                <a:rPr b="0" lang="en-US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き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ま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900520" y="2438280"/>
            <a:ext cx="267156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451240" y="1292400"/>
            <a:ext cx="1376280" cy="36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2257560"/>
            <a:ext cx="3413160" cy="2363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8240" y="3697200"/>
            <a:ext cx="1735200" cy="938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579840" y="2046240"/>
            <a:ext cx="5138640" cy="8524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79360" y="5614920"/>
            <a:ext cx="8710920" cy="1305000"/>
            <a:chOff x="1179360" y="5614920"/>
            <a:chExt cx="8710920" cy="1305000"/>
          </a:xfrm>
        </p:grpSpPr>
        <p:sp>
          <p:nvSpPr>
            <p:cNvPr id="170" name=""/>
            <p:cNvSpPr/>
            <p:nvPr/>
          </p:nvSpPr>
          <p:spPr>
            <a:xfrm>
              <a:off x="1179360" y="5614920"/>
              <a:ext cx="8710920" cy="1305000"/>
            </a:xfrm>
            <a:prstGeom prst="roundRect">
              <a:avLst>
                <a:gd name="adj" fmla="val 12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あるいて</a:t>
              </a:r>
              <a:r>
                <a:rPr b="0" lang="en-US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だいがく</a:t>
              </a:r>
              <a:r>
                <a:rPr b="0" lang="ja-JP" sz="48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へ</a:t>
              </a:r>
              <a:r>
                <a:rPr b="0" lang="en-US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きま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214880" y="3467160"/>
            <a:ext cx="2160360" cy="1549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0720" y="80172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0280" y="5378400"/>
            <a:ext cx="363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773520" y="4944960"/>
            <a:ext cx="6303960" cy="1552680"/>
            <a:chOff x="3773520" y="4944960"/>
            <a:chExt cx="6303960" cy="1552680"/>
          </a:xfrm>
        </p:grpSpPr>
        <p:sp>
          <p:nvSpPr>
            <p:cNvPr id="49" name=""/>
            <p:cNvSpPr/>
            <p:nvPr/>
          </p:nvSpPr>
          <p:spPr>
            <a:xfrm>
              <a:off x="3773520" y="4944960"/>
              <a:ext cx="6303960" cy="1552680"/>
            </a:xfrm>
            <a:prstGeom prst="roundRect">
              <a:avLst>
                <a:gd name="adj" fmla="val 10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としょかん</a:t>
              </a:r>
              <a:r>
                <a:rPr b="0" lang="ja-JP" sz="4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へ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いきます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052640" y="2089080"/>
            <a:ext cx="328428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8240" y="468360"/>
            <a:ext cx="1376280" cy="364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56040" y="263520"/>
            <a:ext cx="309564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257560"/>
            <a:ext cx="3413160" cy="2363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8240" y="3697200"/>
            <a:ext cx="1735200" cy="938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759200" y="2046240"/>
            <a:ext cx="3959280" cy="44136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6" name=""/>
          <p:cNvSpPr/>
          <p:nvPr/>
        </p:nvSpPr>
        <p:spPr>
          <a:xfrm>
            <a:off x="3290760" y="2658960"/>
            <a:ext cx="1890720" cy="14781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081080" y="4917960"/>
            <a:ext cx="8710560" cy="1305000"/>
            <a:chOff x="1081080" y="4917960"/>
            <a:chExt cx="8710560" cy="1305000"/>
          </a:xfrm>
        </p:grpSpPr>
        <p:grpSp>
          <p:nvGrpSpPr>
            <p:cNvPr id="178" name=""/>
            <p:cNvGrpSpPr/>
            <p:nvPr/>
          </p:nvGrpSpPr>
          <p:grpSpPr>
            <a:xfrm>
              <a:off x="1081080" y="4917960"/>
              <a:ext cx="8710560" cy="1305000"/>
              <a:chOff x="1081080" y="4917960"/>
              <a:chExt cx="8710560" cy="1305000"/>
            </a:xfrm>
          </p:grpSpPr>
          <p:sp>
            <p:nvSpPr>
              <p:cNvPr id="179" name=""/>
              <p:cNvSpPr/>
              <p:nvPr/>
            </p:nvSpPr>
            <p:spPr>
              <a:xfrm>
                <a:off x="1081080" y="4917960"/>
                <a:ext cx="8710560" cy="1305000"/>
              </a:xfrm>
              <a:prstGeom prst="roundRect">
                <a:avLst>
                  <a:gd name="adj" fmla="val 12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3680" bIns="0" anchor="ctr" anchorCtr="1">
                <a:noAutofit/>
              </a:bodyPr>
              <a:p>
                <a:pPr algn="ctr">
                  <a:lnSpc>
                    <a:spcPct val="8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ja-JP" sz="4800" spc="-1" strike="noStrike" u="sng">
                    <a:solidFill>
                      <a:srgbClr val="ff0000"/>
                    </a:solidFill>
                    <a:uFillTx/>
                    <a:latin typeface="YOzFontNP04"/>
                    <a:ea typeface="YOzFontNP04"/>
                  </a:rPr>
                  <a:t>何</a:t>
                </a:r>
                <a:r>
                  <a:rPr b="0" lang="ja-JP" sz="4800" spc="-1" strike="noStrike" u="sng">
                    <a:solidFill>
                      <a:srgbClr val="800000"/>
                    </a:solidFill>
                    <a:uFillTx/>
                    <a:latin typeface="YOzFontNP04"/>
                    <a:ea typeface="YOzFontNP04"/>
                  </a:rPr>
                  <a:t>で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YOzFontNP04"/>
                    <a:ea typeface="YOzFontNP04"/>
                  </a:rPr>
                  <a:t> だいがく</a:t>
                </a:r>
                <a:r>
                  <a:rPr b="0" lang="ja-JP" sz="4800" spc="-1" strike="noStrike">
                    <a:solidFill>
                      <a:srgbClr val="800000"/>
                    </a:solidFill>
                    <a:latin typeface="YOzFontNP04"/>
                    <a:ea typeface="YOzFontNP04"/>
                  </a:rPr>
                  <a:t>へ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YOzFontNP04"/>
                    <a:ea typeface="YOzFontNP04"/>
                  </a:rPr>
                  <a:t> </a:t>
                </a:r>
                <a:r>
                  <a:rPr b="0" lang="ja-JP" sz="4800" spc="-1" strike="noStrike">
                    <a:solidFill>
                      <a:srgbClr val="000000"/>
                    </a:solidFill>
                    <a:latin typeface="YOzFontNP04"/>
                    <a:ea typeface="YOzFontNP04"/>
                  </a:rPr>
                  <a:t>きますか。</a:t>
                </a:r>
                <a:endParaRPr b="0" lang="en-US" sz="48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552680" y="4919760"/>
              <a:ext cx="6062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なん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451240" y="1292400"/>
            <a:ext cx="1376280" cy="36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2900520"/>
            <a:ext cx="3319560" cy="2535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flipV="1">
            <a:off x="1228680" y="2364840"/>
            <a:ext cx="4762440" cy="98604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2278080"/>
            <a:ext cx="1890720" cy="14778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81080" y="4917960"/>
            <a:ext cx="8710560" cy="1305000"/>
            <a:chOff x="1081080" y="4917960"/>
            <a:chExt cx="8710560" cy="1305000"/>
          </a:xfrm>
        </p:grpSpPr>
        <p:grpSp>
          <p:nvGrpSpPr>
            <p:cNvPr id="186" name=""/>
            <p:cNvGrpSpPr/>
            <p:nvPr/>
          </p:nvGrpSpPr>
          <p:grpSpPr>
            <a:xfrm>
              <a:off x="1081080" y="4917960"/>
              <a:ext cx="8710560" cy="1305000"/>
              <a:chOff x="1081080" y="4917960"/>
              <a:chExt cx="8710560" cy="1305000"/>
            </a:xfrm>
          </p:grpSpPr>
          <p:sp>
            <p:nvSpPr>
              <p:cNvPr id="187" name=""/>
              <p:cNvSpPr/>
              <p:nvPr/>
            </p:nvSpPr>
            <p:spPr>
              <a:xfrm>
                <a:off x="1081080" y="4917960"/>
                <a:ext cx="8710560" cy="1305000"/>
              </a:xfrm>
              <a:prstGeom prst="roundRect">
                <a:avLst>
                  <a:gd name="adj" fmla="val 12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3680" bIns="0" anchor="ctr" anchorCtr="1">
                <a:noAutofit/>
              </a:bodyPr>
              <a:p>
                <a:pPr algn="ctr">
                  <a:lnSpc>
                    <a:spcPct val="8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ja-JP" sz="4800" spc="-1" strike="noStrike" u="sng">
                    <a:solidFill>
                      <a:srgbClr val="ff0000"/>
                    </a:solidFill>
                    <a:uFillTx/>
                    <a:latin typeface="YOzFontNP04"/>
                    <a:ea typeface="YOzFontNP04"/>
                  </a:rPr>
                  <a:t>何</a:t>
                </a:r>
                <a:r>
                  <a:rPr b="0" lang="ja-JP" sz="4800" spc="-1" strike="noStrike" u="sng">
                    <a:solidFill>
                      <a:srgbClr val="800000"/>
                    </a:solidFill>
                    <a:uFillTx/>
                    <a:latin typeface="YOzFontNP04"/>
                    <a:ea typeface="YOzFontNP04"/>
                  </a:rPr>
                  <a:t>で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YOzFontNP04"/>
                    <a:ea typeface="YOzFontNP04"/>
                  </a:rPr>
                  <a:t> スーパー</a:t>
                </a:r>
                <a:r>
                  <a:rPr b="0" lang="ja-JP" sz="4800" spc="-1" strike="noStrike">
                    <a:solidFill>
                      <a:srgbClr val="800000"/>
                    </a:solidFill>
                    <a:latin typeface="YOzFontNP04"/>
                    <a:ea typeface="YOzFontNP04"/>
                  </a:rPr>
                  <a:t>へ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YOzFontNP04"/>
                    <a:ea typeface="YOzFontNP04"/>
                  </a:rPr>
                  <a:t> いき</a:t>
                </a:r>
                <a:r>
                  <a:rPr b="0" lang="ja-JP" sz="4800" spc="-1" strike="noStrike">
                    <a:solidFill>
                      <a:srgbClr val="000000"/>
                    </a:solidFill>
                    <a:latin typeface="YOzFontNP04"/>
                    <a:ea typeface="YOzFontNP04"/>
                  </a:rPr>
                  <a:t>ますか。</a:t>
                </a:r>
                <a:endParaRPr b="0" lang="en-US" sz="48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136520" y="4989600"/>
              <a:ext cx="6066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なん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07080" y="0"/>
            <a:ext cx="1376280" cy="3649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V="1">
            <a:off x="1704960" y="2208240"/>
            <a:ext cx="4762440" cy="9856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1" name=""/>
          <p:cNvSpPr/>
          <p:nvPr/>
        </p:nvSpPr>
        <p:spPr>
          <a:xfrm>
            <a:off x="7942320" y="932040"/>
            <a:ext cx="22384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ーパー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2257560"/>
            <a:ext cx="3413160" cy="2363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68240" y="3697200"/>
            <a:ext cx="1735200" cy="938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384800" y="2046240"/>
            <a:ext cx="4333680" cy="121464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5" name=""/>
          <p:cNvSpPr/>
          <p:nvPr/>
        </p:nvSpPr>
        <p:spPr>
          <a:xfrm>
            <a:off x="3441600" y="2522520"/>
            <a:ext cx="1890720" cy="14781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365120" y="5033880"/>
            <a:ext cx="8710920" cy="1305000"/>
            <a:chOff x="1365120" y="5033880"/>
            <a:chExt cx="8710920" cy="1305000"/>
          </a:xfrm>
        </p:grpSpPr>
        <p:grpSp>
          <p:nvGrpSpPr>
            <p:cNvPr id="197" name=""/>
            <p:cNvGrpSpPr/>
            <p:nvPr/>
          </p:nvGrpSpPr>
          <p:grpSpPr>
            <a:xfrm>
              <a:off x="1365120" y="5033880"/>
              <a:ext cx="8710920" cy="1305000"/>
              <a:chOff x="1365120" y="5033880"/>
              <a:chExt cx="8710920" cy="1305000"/>
            </a:xfrm>
          </p:grpSpPr>
          <p:sp>
            <p:nvSpPr>
              <p:cNvPr id="198" name=""/>
              <p:cNvSpPr/>
              <p:nvPr/>
            </p:nvSpPr>
            <p:spPr>
              <a:xfrm>
                <a:off x="1365120" y="5033880"/>
                <a:ext cx="8710920" cy="1305000"/>
              </a:xfrm>
              <a:prstGeom prst="roundRect">
                <a:avLst>
                  <a:gd name="adj" fmla="val 12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3680" bIns="0" anchor="ctr" anchorCtr="1">
                <a:noAutofit/>
              </a:bodyPr>
              <a:p>
                <a:pPr algn="ctr">
                  <a:lnSpc>
                    <a:spcPct val="8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ja-JP" sz="4800" spc="-1" strike="noStrike" u="sng">
                    <a:solidFill>
                      <a:srgbClr val="ff0000"/>
                    </a:solidFill>
                    <a:uFillTx/>
                    <a:latin typeface="YOzFontNP04"/>
                    <a:ea typeface="YOzFontNP04"/>
                  </a:rPr>
                  <a:t>何</a:t>
                </a:r>
                <a:r>
                  <a:rPr b="0" lang="ja-JP" sz="4800" spc="-1" strike="noStrike" u="sng">
                    <a:solidFill>
                      <a:srgbClr val="800000"/>
                    </a:solidFill>
                    <a:uFillTx/>
                    <a:latin typeface="YOzFontNP04"/>
                    <a:ea typeface="YOzFontNP04"/>
                  </a:rPr>
                  <a:t>で</a:t>
                </a:r>
                <a:r>
                  <a:rPr b="0" lang="ja-JP" sz="4800" spc="-1" strike="noStrike">
                    <a:solidFill>
                      <a:srgbClr val="000000"/>
                    </a:solidFill>
                    <a:latin typeface="YOzFontNP04"/>
                    <a:ea typeface="YOzFontNP04"/>
                  </a:rPr>
                  <a:t>だいがく</a:t>
                </a:r>
                <a:r>
                  <a:rPr b="0" lang="ja-JP" sz="4800" spc="-1" strike="noStrike">
                    <a:solidFill>
                      <a:srgbClr val="800000"/>
                    </a:solidFill>
                    <a:latin typeface="YOzFontNP04"/>
                    <a:ea typeface="YOzFontNP04"/>
                  </a:rPr>
                  <a:t>へ</a:t>
                </a:r>
                <a:r>
                  <a:rPr b="0" lang="ja-JP" sz="4800" spc="-1" strike="noStrike">
                    <a:solidFill>
                      <a:srgbClr val="000000"/>
                    </a:solidFill>
                    <a:latin typeface="YOzFontNP04"/>
                    <a:ea typeface="YOzFontNP04"/>
                  </a:rPr>
                  <a:t>きましたか。</a:t>
                </a:r>
                <a:endParaRPr b="0" lang="en-US" sz="48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1836720" y="5035680"/>
              <a:ext cx="606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なん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451240" y="1292400"/>
            <a:ext cx="1376280" cy="3649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-130320" y="4608360"/>
            <a:ext cx="1735200" cy="938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けさ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384800" y="2046240"/>
            <a:ext cx="4333680" cy="121464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511440" y="4521240"/>
            <a:ext cx="6569280" cy="2359080"/>
          </a:xfrm>
          <a:prstGeom prst="roundRect">
            <a:avLst>
              <a:gd name="adj" fmla="val 6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ーパー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いき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4" name=""/>
          <p:cNvSpPr/>
          <p:nvPr/>
        </p:nvSpPr>
        <p:spPr>
          <a:xfrm>
            <a:off x="1052640" y="2089080"/>
            <a:ext cx="5046480" cy="144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70040" y="324000"/>
            <a:ext cx="1528920" cy="3500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85760" y="3938760"/>
            <a:ext cx="2971800" cy="109512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303440" y="2193840"/>
            <a:ext cx="3187440" cy="1330560"/>
            <a:chOff x="4303440" y="2193840"/>
            <a:chExt cx="3187440" cy="1330560"/>
          </a:xfrm>
        </p:grpSpPr>
        <p:sp>
          <p:nvSpPr>
            <p:cNvPr id="208" name=""/>
            <p:cNvSpPr/>
            <p:nvPr/>
          </p:nvSpPr>
          <p:spPr>
            <a:xfrm flipH="1" flipV="1">
              <a:off x="4303440" y="2738520"/>
              <a:ext cx="531720" cy="792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21040" y="2193840"/>
              <a:ext cx="2769840" cy="1330560"/>
            </a:xfrm>
            <a:prstGeom prst="ellipse">
              <a:avLst/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ともだち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12760" y="5103720"/>
            <a:ext cx="3241800" cy="135108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ともだち</a:t>
            </a:r>
            <a:r>
              <a:rPr b="0" lang="ja-JP" sz="5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と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(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いっしょに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677960" y="274680"/>
            <a:ext cx="1309680" cy="35067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496280" y="161604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ーパー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511440" y="4521240"/>
            <a:ext cx="6569280" cy="2359080"/>
          </a:xfrm>
          <a:prstGeom prst="roundRect">
            <a:avLst>
              <a:gd name="adj" fmla="val 6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ーパー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いき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4" name=""/>
          <p:cNvSpPr/>
          <p:nvPr/>
        </p:nvSpPr>
        <p:spPr>
          <a:xfrm>
            <a:off x="1052640" y="2089080"/>
            <a:ext cx="5046480" cy="144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5" name=""/>
          <p:cNvSpPr/>
          <p:nvPr/>
        </p:nvSpPr>
        <p:spPr>
          <a:xfrm>
            <a:off x="185760" y="3938760"/>
            <a:ext cx="2971800" cy="109512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6" name=""/>
          <p:cNvSpPr/>
          <p:nvPr/>
        </p:nvSpPr>
        <p:spPr>
          <a:xfrm>
            <a:off x="212760" y="5103720"/>
            <a:ext cx="3241800" cy="135108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なつみさん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と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(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いっしょに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141800" y="2340000"/>
            <a:ext cx="3214800" cy="1238400"/>
            <a:chOff x="4141800" y="2340000"/>
            <a:chExt cx="3214800" cy="1238400"/>
          </a:xfrm>
        </p:grpSpPr>
        <p:sp>
          <p:nvSpPr>
            <p:cNvPr id="218" name=""/>
            <p:cNvSpPr/>
            <p:nvPr/>
          </p:nvSpPr>
          <p:spPr>
            <a:xfrm>
              <a:off x="4141800" y="2340000"/>
              <a:ext cx="3214800" cy="1238400"/>
            </a:xfrm>
            <a:prstGeom prst="ellipse">
              <a:avLst/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なつみさん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70040" y="324000"/>
            <a:ext cx="1528920" cy="3500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677960" y="274680"/>
            <a:ext cx="1309680" cy="3506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677960" y="274680"/>
            <a:ext cx="1309680" cy="3506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896160" y="173988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ーパー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511440" y="4576680"/>
            <a:ext cx="6569280" cy="2359080"/>
          </a:xfrm>
          <a:prstGeom prst="roundRect">
            <a:avLst>
              <a:gd name="adj" fmla="val 6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しょか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きました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4" name=""/>
          <p:cNvSpPr/>
          <p:nvPr/>
        </p:nvSpPr>
        <p:spPr>
          <a:xfrm>
            <a:off x="1052640" y="2089080"/>
            <a:ext cx="5046480" cy="144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5" name=""/>
          <p:cNvSpPr/>
          <p:nvPr/>
        </p:nvSpPr>
        <p:spPr>
          <a:xfrm>
            <a:off x="185760" y="3938760"/>
            <a:ext cx="4194000" cy="109512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う わたし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099040" y="2251080"/>
            <a:ext cx="1631880" cy="1233360"/>
            <a:chOff x="5099040" y="2251080"/>
            <a:chExt cx="1631880" cy="1233360"/>
          </a:xfrm>
        </p:grpSpPr>
        <p:sp>
          <p:nvSpPr>
            <p:cNvPr id="227" name=""/>
            <p:cNvSpPr/>
            <p:nvPr/>
          </p:nvSpPr>
          <p:spPr>
            <a:xfrm>
              <a:off x="5099040" y="2251080"/>
              <a:ext cx="1631880" cy="1233360"/>
            </a:xfrm>
            <a:prstGeom prst="ellipse">
              <a:avLst/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かれ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12760" y="5103720"/>
            <a:ext cx="3241800" cy="135108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かれ</a:t>
            </a:r>
            <a:r>
              <a:rPr b="0" lang="ja-JP" sz="5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と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っしょに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698480" y="480960"/>
            <a:ext cx="1309680" cy="3506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47880" y="206280"/>
            <a:ext cx="1206720" cy="3768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675480" y="263520"/>
            <a:ext cx="309564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9760" y="4513320"/>
            <a:ext cx="6870960" cy="2367000"/>
          </a:xfrm>
          <a:prstGeom prst="roundRect">
            <a:avLst>
              <a:gd name="adj" fmla="val 6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しょか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き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3" name=""/>
          <p:cNvSpPr/>
          <p:nvPr/>
        </p:nvSpPr>
        <p:spPr>
          <a:xfrm>
            <a:off x="1052640" y="2089080"/>
            <a:ext cx="5046480" cy="144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4" name=""/>
          <p:cNvSpPr/>
          <p:nvPr/>
        </p:nvSpPr>
        <p:spPr>
          <a:xfrm>
            <a:off x="185760" y="3938760"/>
            <a:ext cx="2971800" cy="109512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5" name=""/>
          <p:cNvSpPr/>
          <p:nvPr/>
        </p:nvSpPr>
        <p:spPr>
          <a:xfrm>
            <a:off x="212760" y="5103720"/>
            <a:ext cx="3057480" cy="135108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ひとり</a:t>
            </a:r>
            <a:r>
              <a:rPr b="0" lang="ja-JP" sz="5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で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6" name=""/>
          <p:cNvSpPr/>
          <p:nvPr/>
        </p:nvSpPr>
        <p:spPr>
          <a:xfrm>
            <a:off x="3851280" y="312840"/>
            <a:ext cx="725400" cy="3497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7" name=""/>
          <p:cNvSpPr/>
          <p:nvPr/>
        </p:nvSpPr>
        <p:spPr>
          <a:xfrm>
            <a:off x="7804080" y="3838680"/>
            <a:ext cx="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382840" y="460440"/>
            <a:ext cx="1309680" cy="3506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675480" y="263520"/>
            <a:ext cx="309564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511440" y="4521240"/>
            <a:ext cx="6569280" cy="2359080"/>
          </a:xfrm>
          <a:prstGeom prst="roundRect">
            <a:avLst>
              <a:gd name="adj" fmla="val 6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しょか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きました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1" name=""/>
          <p:cNvSpPr/>
          <p:nvPr/>
        </p:nvSpPr>
        <p:spPr>
          <a:xfrm>
            <a:off x="1052640" y="2089080"/>
            <a:ext cx="5046480" cy="144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2" name=""/>
          <p:cNvSpPr/>
          <p:nvPr/>
        </p:nvSpPr>
        <p:spPr>
          <a:xfrm>
            <a:off x="185760" y="3938760"/>
            <a:ext cx="3894120" cy="109512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3" name=""/>
          <p:cNvSpPr/>
          <p:nvPr/>
        </p:nvSpPr>
        <p:spPr>
          <a:xfrm>
            <a:off x="212760" y="5103720"/>
            <a:ext cx="3241800" cy="135108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だれ</a:t>
            </a:r>
            <a:r>
              <a:rPr b="0" lang="ja-JP" sz="5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と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っしょに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4" name=""/>
          <p:cNvSpPr/>
          <p:nvPr/>
        </p:nvSpPr>
        <p:spPr>
          <a:xfrm>
            <a:off x="7804080" y="3838680"/>
            <a:ext cx="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5" name=""/>
          <p:cNvSpPr/>
          <p:nvPr/>
        </p:nvSpPr>
        <p:spPr>
          <a:xfrm>
            <a:off x="3711600" y="114480"/>
            <a:ext cx="1247760" cy="33177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860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itstream Vera Serif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463840" y="336600"/>
            <a:ext cx="1309680" cy="3506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675480" y="263520"/>
            <a:ext cx="309564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dur="indefinite" fill="hold">
                      <p:stCondLst>
                        <p:cond delay="indefinite"/>
                      </p:stCondLst>
                      <p:childTnLst>
                        <p:par>
                          <p:cTn id="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69720" y="255600"/>
            <a:ext cx="388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9" name=""/>
          <p:cNvSpPr/>
          <p:nvPr/>
        </p:nvSpPr>
        <p:spPr>
          <a:xfrm>
            <a:off x="185760" y="198360"/>
            <a:ext cx="9596520" cy="133668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ff"/>
                </a:solidFill>
                <a:latin typeface="YOzFontNP04"/>
                <a:ea typeface="YOzFontNP04"/>
              </a:rPr>
              <a:t>ともだち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と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っしょに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し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-23760" y="1905120"/>
            <a:ext cx="9918720" cy="544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52640" y="2174760"/>
            <a:ext cx="5289480" cy="203364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2" name=""/>
          <p:cNvSpPr/>
          <p:nvPr/>
        </p:nvSpPr>
        <p:spPr>
          <a:xfrm>
            <a:off x="1379520" y="198360"/>
            <a:ext cx="3440160" cy="9525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3" name=""/>
          <p:cNvSpPr/>
          <p:nvPr/>
        </p:nvSpPr>
        <p:spPr>
          <a:xfrm>
            <a:off x="1393920" y="1279440"/>
            <a:ext cx="2189160" cy="9669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11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30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430440" y="3676680"/>
            <a:ext cx="2113200" cy="2166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668760" y="1251000"/>
            <a:ext cx="1009440" cy="99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6" name=""/>
          <p:cNvSpPr/>
          <p:nvPr/>
        </p:nvSpPr>
        <p:spPr>
          <a:xfrm>
            <a:off x="8928000" y="4691160"/>
            <a:ext cx="1009800" cy="99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へ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7" name=""/>
          <p:cNvSpPr/>
          <p:nvPr/>
        </p:nvSpPr>
        <p:spPr>
          <a:xfrm>
            <a:off x="5430960" y="4194000"/>
            <a:ext cx="1009440" cy="99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8" name=""/>
          <p:cNvSpPr/>
          <p:nvPr/>
        </p:nvSpPr>
        <p:spPr>
          <a:xfrm>
            <a:off x="2346480" y="3127320"/>
            <a:ext cx="1009440" cy="99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と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9" name=""/>
          <p:cNvSpPr/>
          <p:nvPr/>
        </p:nvSpPr>
        <p:spPr>
          <a:xfrm>
            <a:off x="6027840" y="5757840"/>
            <a:ext cx="3511440" cy="9525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き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04760" y="0"/>
            <a:ext cx="1014480" cy="2852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630440" y="2340000"/>
            <a:ext cx="853920" cy="2548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6570720" y="2265480"/>
            <a:ext cx="1960560" cy="31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dur="indefinite" fill="hold">
                      <p:stCondLst>
                        <p:cond delay="indefinite"/>
                      </p:stCondLst>
                      <p:childTnLst>
                        <p:par>
                          <p:cTn id="2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97600" y="919080"/>
            <a:ext cx="4492440" cy="314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52640" y="2089080"/>
            <a:ext cx="328428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5" name=""/>
          <p:cNvSpPr/>
          <p:nvPr/>
        </p:nvSpPr>
        <p:spPr>
          <a:xfrm>
            <a:off x="260280" y="5378400"/>
            <a:ext cx="363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979800" y="4896000"/>
            <a:ext cx="6096240" cy="1601640"/>
            <a:chOff x="3979800" y="4896000"/>
            <a:chExt cx="6096240" cy="1601640"/>
          </a:xfrm>
        </p:grpSpPr>
        <p:sp>
          <p:nvSpPr>
            <p:cNvPr id="57" name=""/>
            <p:cNvSpPr/>
            <p:nvPr/>
          </p:nvSpPr>
          <p:spPr>
            <a:xfrm>
              <a:off x="3979800" y="4896000"/>
              <a:ext cx="6096240" cy="1601640"/>
            </a:xfrm>
            <a:prstGeom prst="roundRect">
              <a:avLst>
                <a:gd name="adj" fmla="val 9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だいがく</a:t>
              </a: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へ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いきま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8240" y="46836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335640" y="3043080"/>
            <a:ext cx="2878200" cy="20941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379520" y="198360"/>
            <a:ext cx="3440160" cy="9525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5" name=""/>
          <p:cNvSpPr/>
          <p:nvPr/>
        </p:nvSpPr>
        <p:spPr>
          <a:xfrm>
            <a:off x="1393920" y="1279440"/>
            <a:ext cx="2189160" cy="9669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6" name=""/>
          <p:cNvSpPr/>
          <p:nvPr/>
        </p:nvSpPr>
        <p:spPr>
          <a:xfrm>
            <a:off x="3668760" y="1251000"/>
            <a:ext cx="1009440" cy="99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7" name=""/>
          <p:cNvSpPr/>
          <p:nvPr/>
        </p:nvSpPr>
        <p:spPr>
          <a:xfrm>
            <a:off x="8928000" y="4691160"/>
            <a:ext cx="1009800" cy="99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へ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8" name=""/>
          <p:cNvSpPr/>
          <p:nvPr/>
        </p:nvSpPr>
        <p:spPr>
          <a:xfrm>
            <a:off x="3354480" y="4506840"/>
            <a:ext cx="3241440" cy="99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9" name=""/>
          <p:cNvSpPr/>
          <p:nvPr/>
        </p:nvSpPr>
        <p:spPr>
          <a:xfrm>
            <a:off x="85680" y="4449600"/>
            <a:ext cx="3355920" cy="99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ひとりで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0" name=""/>
          <p:cNvSpPr/>
          <p:nvPr/>
        </p:nvSpPr>
        <p:spPr>
          <a:xfrm>
            <a:off x="6027840" y="5757840"/>
            <a:ext cx="3511440" cy="9525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き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1" name=""/>
          <p:cNvSpPr/>
          <p:nvPr/>
        </p:nvSpPr>
        <p:spPr>
          <a:xfrm>
            <a:off x="2714760" y="2060640"/>
            <a:ext cx="496800" cy="23032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2" name=""/>
          <p:cNvSpPr/>
          <p:nvPr/>
        </p:nvSpPr>
        <p:spPr>
          <a:xfrm>
            <a:off x="3014640" y="4008600"/>
            <a:ext cx="1279440" cy="796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3" name=""/>
          <p:cNvSpPr/>
          <p:nvPr/>
        </p:nvSpPr>
        <p:spPr>
          <a:xfrm>
            <a:off x="1052640" y="2174760"/>
            <a:ext cx="5289480" cy="203364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04760" y="0"/>
            <a:ext cx="1014480" cy="28526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251160" y="2216160"/>
            <a:ext cx="88920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dur="indefinite" fill="hold">
                      <p:stCondLst>
                        <p:cond delay="indefinite"/>
                      </p:stCondLst>
                      <p:childTnLst>
                        <p:par>
                          <p:cTn id="3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97600" y="919080"/>
            <a:ext cx="4492440" cy="3141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76760" y="4583160"/>
            <a:ext cx="6510240" cy="2359080"/>
          </a:xfrm>
          <a:prstGeom prst="roundRect">
            <a:avLst>
              <a:gd name="adj" fmla="val 6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ど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いきます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" name=""/>
          <p:cNvSpPr/>
          <p:nvPr/>
        </p:nvSpPr>
        <p:spPr>
          <a:xfrm>
            <a:off x="1052640" y="2089080"/>
            <a:ext cx="328428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" name=""/>
          <p:cNvSpPr/>
          <p:nvPr/>
        </p:nvSpPr>
        <p:spPr>
          <a:xfrm>
            <a:off x="5900760" y="611280"/>
            <a:ext cx="3852720" cy="3355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275440"/>
            <a:ext cx="3632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8240" y="46836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52640" y="2089080"/>
            <a:ext cx="328428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" name=""/>
          <p:cNvSpPr/>
          <p:nvPr/>
        </p:nvSpPr>
        <p:spPr>
          <a:xfrm>
            <a:off x="952560" y="5230800"/>
            <a:ext cx="2544840" cy="995400"/>
          </a:xfrm>
          <a:prstGeom prst="roundRect">
            <a:avLst>
              <a:gd name="adj" fmla="val 15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あし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" name=""/>
          <p:cNvSpPr/>
          <p:nvPr/>
        </p:nvSpPr>
        <p:spPr>
          <a:xfrm>
            <a:off x="123840" y="4322880"/>
            <a:ext cx="3632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686040" y="4886280"/>
            <a:ext cx="6391440" cy="1612800"/>
            <a:chOff x="3686040" y="4886280"/>
            <a:chExt cx="6391440" cy="1612800"/>
          </a:xfrm>
        </p:grpSpPr>
        <p:sp>
          <p:nvSpPr>
            <p:cNvPr id="69" name=""/>
            <p:cNvSpPr/>
            <p:nvPr/>
          </p:nvSpPr>
          <p:spPr>
            <a:xfrm>
              <a:off x="3686040" y="4886280"/>
              <a:ext cx="6391440" cy="1612800"/>
            </a:xfrm>
            <a:prstGeom prst="roundRect">
              <a:avLst>
                <a:gd name="adj" fmla="val 9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としょかん</a:t>
              </a: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へ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いきま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8240" y="468360"/>
            <a:ext cx="1376280" cy="3649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56040" y="263520"/>
            <a:ext cx="309564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52640" y="2089080"/>
            <a:ext cx="328428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3" name=""/>
          <p:cNvSpPr/>
          <p:nvPr/>
        </p:nvSpPr>
        <p:spPr>
          <a:xfrm>
            <a:off x="1035000" y="5315040"/>
            <a:ext cx="2544840" cy="995400"/>
          </a:xfrm>
          <a:prstGeom prst="roundRect">
            <a:avLst>
              <a:gd name="adj" fmla="val 15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まいにち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4" name=""/>
          <p:cNvSpPr/>
          <p:nvPr/>
        </p:nvSpPr>
        <p:spPr>
          <a:xfrm>
            <a:off x="125280" y="4322880"/>
            <a:ext cx="363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560760" y="4782960"/>
            <a:ext cx="6516720" cy="1716120"/>
            <a:chOff x="3560760" y="4782960"/>
            <a:chExt cx="6516720" cy="1716120"/>
          </a:xfrm>
        </p:grpSpPr>
        <p:sp>
          <p:nvSpPr>
            <p:cNvPr id="76" name=""/>
            <p:cNvSpPr/>
            <p:nvPr/>
          </p:nvSpPr>
          <p:spPr>
            <a:xfrm>
              <a:off x="3560760" y="4782960"/>
              <a:ext cx="6516720" cy="1716120"/>
            </a:xfrm>
            <a:prstGeom prst="roundRect">
              <a:avLst>
                <a:gd name="adj" fmla="val 8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としょかん</a:t>
              </a: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へ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いきま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8240" y="468360"/>
            <a:ext cx="1376280" cy="3649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856040" y="263520"/>
            <a:ext cx="309564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81080" y="2089080"/>
            <a:ext cx="328464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0" name=""/>
          <p:cNvSpPr/>
          <p:nvPr/>
        </p:nvSpPr>
        <p:spPr>
          <a:xfrm>
            <a:off x="260280" y="5191200"/>
            <a:ext cx="3113280" cy="995400"/>
          </a:xfrm>
          <a:prstGeom prst="roundRect">
            <a:avLst>
              <a:gd name="adj" fmla="val 15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のう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1" name=""/>
          <p:cNvSpPr/>
          <p:nvPr/>
        </p:nvSpPr>
        <p:spPr>
          <a:xfrm>
            <a:off x="125280" y="4322880"/>
            <a:ext cx="363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354480" y="4896000"/>
            <a:ext cx="6723000" cy="1601640"/>
            <a:chOff x="3354480" y="4896000"/>
            <a:chExt cx="6723000" cy="1601640"/>
          </a:xfrm>
        </p:grpSpPr>
        <p:sp>
          <p:nvSpPr>
            <p:cNvPr id="83" name=""/>
            <p:cNvSpPr/>
            <p:nvPr/>
          </p:nvSpPr>
          <p:spPr>
            <a:xfrm>
              <a:off x="3354480" y="4896000"/>
              <a:ext cx="6723000" cy="1601640"/>
            </a:xfrm>
            <a:prstGeom prst="roundRect">
              <a:avLst>
                <a:gd name="adj" fmla="val 9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としょかん</a:t>
              </a:r>
              <a:r>
                <a:rPr b="0" lang="ja-JP" sz="4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へ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いきました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8240" y="468360"/>
            <a:ext cx="1376280" cy="3649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56040" y="263520"/>
            <a:ext cx="309564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81080" y="2089080"/>
            <a:ext cx="328464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7" name=""/>
          <p:cNvSpPr/>
          <p:nvPr/>
        </p:nvSpPr>
        <p:spPr>
          <a:xfrm>
            <a:off x="270000" y="4921200"/>
            <a:ext cx="4533840" cy="995400"/>
          </a:xfrm>
          <a:prstGeom prst="roundRect">
            <a:avLst>
              <a:gd name="adj" fmla="val 15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11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がつ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15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ち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8" name=""/>
          <p:cNvSpPr/>
          <p:nvPr/>
        </p:nvSpPr>
        <p:spPr>
          <a:xfrm>
            <a:off x="125280" y="4322880"/>
            <a:ext cx="363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16160" y="5985000"/>
            <a:ext cx="7716960" cy="1573200"/>
            <a:chOff x="2216160" y="5985000"/>
            <a:chExt cx="7716960" cy="1573200"/>
          </a:xfrm>
        </p:grpSpPr>
        <p:sp>
          <p:nvSpPr>
            <p:cNvPr id="90" name=""/>
            <p:cNvSpPr/>
            <p:nvPr/>
          </p:nvSpPr>
          <p:spPr>
            <a:xfrm>
              <a:off x="2216160" y="5985000"/>
              <a:ext cx="7716960" cy="1573200"/>
            </a:xfrm>
            <a:prstGeom prst="roundRect">
              <a:avLst>
                <a:gd name="adj" fmla="val 9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としょかん</a:t>
              </a: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へ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いきました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8240" y="468360"/>
            <a:ext cx="1376280" cy="3649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56040" y="263520"/>
            <a:ext cx="309564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81080" y="2089080"/>
            <a:ext cx="328464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"/>
          <p:cNvSpPr/>
          <p:nvPr/>
        </p:nvSpPr>
        <p:spPr>
          <a:xfrm>
            <a:off x="384120" y="5230800"/>
            <a:ext cx="3032280" cy="2033640"/>
          </a:xfrm>
          <a:prstGeom prst="roundRect">
            <a:avLst>
              <a:gd name="adj" fmla="val 7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11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月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20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日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した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ようび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5" name=""/>
          <p:cNvSpPr/>
          <p:nvPr/>
        </p:nvSpPr>
        <p:spPr>
          <a:xfrm>
            <a:off x="297000" y="5130720"/>
            <a:ext cx="3284280" cy="20192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374760" y="5423040"/>
            <a:ext cx="3124080" cy="134748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いつ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7" name=""/>
          <p:cNvSpPr/>
          <p:nvPr/>
        </p:nvSpPr>
        <p:spPr>
          <a:xfrm>
            <a:off x="125280" y="4322880"/>
            <a:ext cx="363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519360" y="5135400"/>
            <a:ext cx="6556680" cy="1757520"/>
            <a:chOff x="3519360" y="5135400"/>
            <a:chExt cx="6556680" cy="1757520"/>
          </a:xfrm>
        </p:grpSpPr>
        <p:sp>
          <p:nvSpPr>
            <p:cNvPr id="99" name=""/>
            <p:cNvSpPr/>
            <p:nvPr/>
          </p:nvSpPr>
          <p:spPr>
            <a:xfrm>
              <a:off x="3519360" y="5135400"/>
              <a:ext cx="6556680" cy="1757520"/>
            </a:xfrm>
            <a:prstGeom prst="roundRect">
              <a:avLst>
                <a:gd name="adj" fmla="val 8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としょかん</a:t>
              </a:r>
              <a:r>
                <a:rPr b="0" lang="ja-JP" sz="4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へ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いきますか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8240" y="468360"/>
            <a:ext cx="1376280" cy="3649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56040" y="263520"/>
            <a:ext cx="309564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3T17:00:24Z</dcterms:created>
  <dc:creator/>
  <dc:description/>
  <dc:language>en-US</dc:language>
  <cp:lastModifiedBy/>
  <dcterms:modified xsi:type="dcterms:W3CDTF">2016-05-24T19:16:19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